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7.wmf" ContentType="image/x-wmf"/>
  <Override PartName="/ppt/media/image7.png" ContentType="image/png"/>
  <Override PartName="/ppt/media/image1.jpeg" ContentType="image/jpeg"/>
  <Override PartName="/ppt/media/image13.png" ContentType="image/png"/>
  <Override PartName="/ppt/media/image19.wmf" ContentType="image/x-wmf"/>
  <Override PartName="/ppt/media/image18.jpeg" ContentType="image/jpeg"/>
  <Override PartName="/ppt/media/image16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3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67DF-E623-47E1-BD76-C3482A9251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ftr" idx="3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 type="sldNum" idx="3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59CC-9FE8-4874-A84E-6FD5D9DCB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0F45-4E1C-43C9-B9DF-0C2E31366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hnology can promote good, transparent and equitable governa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rting emphasis should be on simple, low cost tools that will spur the demand and supply of good governance by increasing the engagement of key stakeholders in the pro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0BB8-5227-4F7A-8D25-951374B44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O’s support to the development of national information systems is one further ex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en Foris” is a FAO-led initiative to develop, share and support software tools required by countries to implement multi-purpose forest inventories, from needs assessment, design, planning, field data collection and management, estimation analysis, visualization, and dissemination.  These tools are designed to also support socio-economic and forest governance related inform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1691-0297-4F0E-A28F-7146FE478D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about the participatory and multistakeholder oriented nature of these eff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CD5A-297D-4084-8E79-1F4467615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6FD-3C01-46B9-B044-094C759A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4DAB-5BA5-4F5F-A0CD-88018EF3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68C24-300A-4BC9-85BF-B9FD3854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45A2C-28CD-46D6-8F78-5217C3EF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E51C0-9673-4786-8693-DCBE6CBE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6ED78-EE92-456C-AA9E-ED0F0D77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3E96A-3C5A-4207-962C-4466C517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613E8-52D8-4995-903F-F3596318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E0729-BC93-4FC3-B219-66D9F0D2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F0DA8-0CDE-45F8-B661-A1A6AA91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43211-2FBB-4A13-92B1-A8D1810C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54571B-96D4-4818-82CD-5D28CF20CD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CAA-5CAB-4576-93FD-2923AE84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52BC9E-0A49-4AFA-ACEA-EA8E7FD0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460A22-AA5A-47A2-A416-BB8BB15D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0AE2C5-30F7-4405-942B-428FE328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93FFA0-8516-4C90-973D-95974EF5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966BF9-8E78-4227-BE42-41D44D3F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6C1078-5E30-479A-B49D-8E09F462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B49DA8-1C6D-4A8D-B267-95F40533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F27C4D-5BAB-47FC-BA63-FEEC7BA0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D8347C-F902-4519-84E9-1FA18D5F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9F3D2E-1E21-4BE0-851E-CC4FEA1C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704-4D1F-47A1-8796-022FEB27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E94FD9-388A-41F1-A873-F91C8BC5BC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EB52F6-06DE-4DD2-B938-13D9C249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12EB1A-2C60-4175-BCA0-1797072D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E08C4A-72C3-4CDC-AD87-DED76D4A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77B403-4892-49EF-8051-ECB6DF00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EF8E49-BB9B-4F59-BA1C-1569AFDB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53054B-1464-472B-B322-E9074330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16E6EF-4E5B-4B24-8994-6B0699B8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F87C02-5EE9-46F7-9B7E-02A6201E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743754-2032-49D7-B97D-BFE31B5B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5BF7-A60A-4FAB-BA14-BE6816A3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FB9376-15FB-4E64-B178-C68733AA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31E2DF-AA36-4274-A818-6F002E7E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499575-EA7B-4DD2-937F-C5CB007C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F7E7-8478-44EA-B1AB-8B50C389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8DCE-9CF9-42CC-90F1-3AD8816D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49F9-0A5D-4CD4-A6D8-2ECA68FF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0330-DB87-4C3C-A5BA-2F298614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5000-81C9-48FB-BBF2-9E8A9AC8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F8FB-B147-452F-B0D1-6550F792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24D-944F-4E27-866A-E45FF9ED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A79E-154E-40E8-9926-2EB4F407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9F82-FC78-4DB7-BBC6-C43A8EF1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2424-D241-4DBC-A4E8-8C7127F6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F797-6E99-4D62-9558-16BC2F01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D4B7-AEE7-4035-99CB-9E493669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71078-36FB-4706-AC92-03255361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A6B36-4416-477A-8029-3BC32406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2620C-25EC-4DFE-9250-F1F851DA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F949E-8355-45AE-9FF0-221192EC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710BF-57D1-436D-9FD5-09131B55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C6F-B4E9-406F-AF96-70A7CA5E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67ECD-8FA1-4990-B175-9EB90913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EABC2-A079-45A3-BF9E-9F977143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E01FF-C254-471C-8EB3-A9302F38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F813A-7B5F-423A-9BB8-E09AEA88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69C09-705E-4575-9D16-9EEA86AE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3E327-EAB6-4137-8558-F0C9A0D3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C0B3D-6F2C-4154-9FE6-0970FCF8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0975A-0DBC-4995-96F0-8CA55779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E7980-BC73-4CFA-8A0D-D6B3188B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A1121-FD63-4373-9A1C-AD2E6035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26F-328B-49A5-B94C-144A8649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C7D15-3394-4A65-8944-F34BC54C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15CB2-7DA6-411D-90A2-081D1FE5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D4034-F738-47D3-A7FB-22C142BB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098E0-4E1C-4B4D-B181-FBC39ABC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AE9D9-53DF-4B2D-8207-F0496DC8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23A03-4E99-46C1-8D62-820EA86B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F47C7-FF15-4FCD-9793-D877A1D0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8C947-23FF-48D6-8DD1-DB03E4D7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869B6-9D7F-447B-B450-E290FC32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3261A-252F-4A36-9D4E-BE8DE29B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3B54-4A03-4490-B04E-4418DE26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C7A02-7C3A-4A1D-89B6-A96C31EA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21C990-6FD2-45F5-A5D2-916497A2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44687F-8C7D-4974-A385-DD1ED900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0C00AA-4F93-46C3-B5BC-AA627909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64F11E-6550-4850-9A57-E566ACE9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D15ED4-831A-449A-9442-4E21E409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C8BE6-E96F-4ABE-BD1D-0A8D493C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7E8F92-D35C-4AA3-8BC5-9281BA35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E8C00A-C3C5-4FDF-93CF-55AF086D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3F7EA-5622-4124-8D29-04E708CD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453-D5AD-4BC5-B209-9CD33958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88C604-3ABB-4007-BF60-0911CF05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77467-C915-4E50-B92D-AAB8D272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D59B8-7A7C-4168-8D0D-4F03CDE0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1FBB7-F018-4B64-8596-09816AB0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D4B91-A049-4306-A7D1-72839113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ADD73-45C9-444D-BDA0-20201F4A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7C6A3-4E85-4213-92E8-3EABC4AA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0EAA5-AEF9-42DE-89FF-98CC1402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34900-977C-4209-8AB2-49E3E55A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B85A7-5292-4E16-89B9-48152E05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00B-FC9F-4BF4-B68E-8D2A48B5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4E23B-106E-4BF5-BC57-0120D2A1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22EFA-E879-4384-A3E8-0F1E2DA1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A4381-133D-4BBC-BC61-E2880C27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BAF3D-F13C-433A-AD99-4F366AF3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9F429F-C393-43DF-9BB6-8D5DF117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5C7DC1-6137-4C49-AE11-A6E147B3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CE0BD-086D-4741-A230-4C055CD5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ADD01-9D44-4326-B81A-F3CF8287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7B3193-C002-4AEC-A832-967EC025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EF2F3D-24C6-4F70-8457-144C8C5F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F23-4D76-4AA7-8BBF-43B383BC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339681-9308-4AE4-8B38-CB246A33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FE822-F316-459E-A25C-BF9AC704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0F6F7B-9936-4E92-ABE9-E2D7CCAA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ACE12B-D0B3-402A-9D8C-676E4D11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7DF836-3720-48F7-97B8-ACCCCDB3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25251B-E00A-4163-B40E-68667807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F0790E-022F-4918-92E8-105EA39B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D1F445-0B91-4FBA-AE27-4DBBCE79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622739-18E4-4FD2-A961-065B4098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1FD826-837E-4B16-A392-8F44A19E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E91-E547-4485-9F08-680F3152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0867ED-7658-4EF6-8C81-6E9DD20A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F789D4-A5DF-449F-A09C-2FBDA427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873F48-8F7B-48F0-A7E0-7A9FFE28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AFE1CE-0041-4E77-920D-A19B2E72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B44231-A3CB-4D21-A123-AD1A270C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1A2D5F-FC39-470F-BCCA-CCEAD075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5CF59D-7369-4906-9BFF-CF97F2E0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49C20-EB5A-4B89-9CC7-EE4EAB3B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EAD10-41CB-414A-AE6D-7BED5179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05FE1-53B3-4FB2-AC19-D4662AEA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AEDE-3718-48B1-882B-47FE40EFE1C0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1670-156C-4AFA-A4D4-B06D7B0372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Your foot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alibri"/>
              </a:rPr>
              <a:t>Your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-7920" y="0"/>
            <a:ext cx="9159840" cy="108252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30F8-C29B-4E86-A3D8-CBC4ED904BB8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3211-79F3-4416-8886-ABA10822D5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1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7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9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0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24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5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55BF-754C-49F5-BB4A-21B5463BE2C7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2550-E5B8-4A87-A4BF-68331DE538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-360" y="64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6EC2-6C04-4E5B-83E2-924950FE8596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8"/>
          </p:nvPr>
        </p:nvSpPr>
        <p:spPr>
          <a:xfrm>
            <a:off x="8000640" y="6337440"/>
            <a:ext cx="609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4015-BA44-49D5-B491-E3DF094182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9"/>
          </p:nvPr>
        </p:nvSpPr>
        <p:spPr>
          <a:xfrm>
            <a:off x="2438280" y="64929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1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4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035E-FCD8-44A5-9CB3-473612CD2EB0}" type="datetime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5ABA-3BC1-4B0E-A991-88C849977D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F162-8D11-4C92-875C-09B7A7D29921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4598-3839-47A1-AD61-C34CF7E90D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5e00"/>
              </a:gs>
              <a:gs pos="100000">
                <a:srgbClr val="00a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46FC-3798-495C-A0A0-4A610A91A363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3484-847B-40A7-9681-37F5A5E426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001D-309C-40DC-BF9F-8EC2F1741E3F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833F-085B-4A2A-83C3-FE629B647B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traight Connector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1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14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AB25-7BC0-465B-B1D0-1B6B9489B88C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80B3-AFA7-4C2B-9D5A-AD9E60CDCF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-14400" y="0"/>
            <a:ext cx="9174240" cy="14637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08FE-7DC9-4BDA-A1EC-4D75319E27C9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58BB-A9F2-4381-A7F4-3FDEC3A32A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image" Target="../media/image12.wmf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8.jpeg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09.xml"/><Relationship Id="rId1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  <a:ea typeface="ＭＳ Ｐゴシック"/>
              </a:rPr>
              <a:t>Strengthening forest governance based on evidence, knowledge and inclusivenes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6840" y="55627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entury Schoolbook"/>
                <a:ea typeface="ＭＳ Ｐゴシック"/>
              </a:rPr>
              <a:t>Nalin Kishor, Tuukka Castrén, Ewald Rametstein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entury Schoolbook"/>
                <a:ea typeface="ＭＳ Ｐゴシック"/>
              </a:rPr>
              <a:t>COFO/WFW, Rome,  September 25, 201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8" name="Subtitle 2"/>
          <p:cNvSpPr/>
          <p:nvPr/>
        </p:nvSpPr>
        <p:spPr>
          <a:xfrm>
            <a:off x="304920" y="2743200"/>
            <a:ext cx="8686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WB-logo"/>
          <p:cNvPicPr/>
          <p:nvPr/>
        </p:nvPicPr>
        <p:blipFill>
          <a:blip r:embed="rId1"/>
          <a:stretch/>
        </p:blipFill>
        <p:spPr>
          <a:xfrm>
            <a:off x="7391520" y="45720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9" descr="FAO_10mm_black"/>
          <p:cNvPicPr/>
          <p:nvPr/>
        </p:nvPicPr>
        <p:blipFill>
          <a:blip r:embed="rId2"/>
          <a:stretch/>
        </p:blipFill>
        <p:spPr>
          <a:xfrm>
            <a:off x="914400" y="45720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INCLUSIVENES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Information should be known to all, easily available and in an easy-to-understand forma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Information should be collected on a regular basis and constantly updated and refine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Role of Information Communications Technology (ICT)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highlighte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Support to development of national information systems to ensure that information is accessible, up-to-date and widely use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52" name="Picture 3" descr="PROFORlogo-small-rm.jpg"/>
          <p:cNvPicPr/>
          <p:nvPr/>
        </p:nvPicPr>
        <p:blipFill>
          <a:blip r:embed="rId1"/>
          <a:stretch/>
        </p:blipFill>
        <p:spPr>
          <a:xfrm>
            <a:off x="228600" y="22860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WB-logo"/>
          <p:cNvPicPr/>
          <p:nvPr/>
        </p:nvPicPr>
        <p:blipFill>
          <a:blip r:embed="rId2"/>
          <a:stretch/>
        </p:blipFill>
        <p:spPr>
          <a:xfrm>
            <a:off x="8153280" y="22860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9" descr="FAO_10mm_black"/>
          <p:cNvPicPr/>
          <p:nvPr/>
        </p:nvPicPr>
        <p:blipFill>
          <a:blip r:embed="rId3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  <a:ea typeface="ＭＳ Ｐゴシック"/>
              </a:rPr>
              <a:t>ICTS CAN PROMOTE GOOD, TRANSPARENT </a:t>
            </a:r>
            <a:br>
              <a:rPr sz="2400"/>
            </a:br>
            <a:r>
              <a:rPr b="1" lang="en-US" sz="2400" spc="-1" strike="noStrike">
                <a:solidFill>
                  <a:srgbClr val="575f6d"/>
                </a:solidFill>
                <a:latin typeface="Century Schoolbook"/>
                <a:ea typeface="ＭＳ Ｐゴシック"/>
              </a:rPr>
              <a:t>AND EQUITABLE GOVERNANCE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56" name="Picture 4" descr="WB-logo"/>
          <p:cNvPicPr/>
          <p:nvPr/>
        </p:nvPicPr>
        <p:blipFill>
          <a:blip r:embed="rId1"/>
          <a:stretch/>
        </p:blipFill>
        <p:spPr>
          <a:xfrm>
            <a:off x="8153280" y="30492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9" descr="FAO_10mm_black"/>
          <p:cNvPicPr/>
          <p:nvPr/>
        </p:nvPicPr>
        <p:blipFill>
          <a:blip r:embed="rId2"/>
          <a:stretch/>
        </p:blipFill>
        <p:spPr>
          <a:xfrm>
            <a:off x="228600" y="3049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228600" y="1523880"/>
          <a:ext cx="8763120" cy="5222880"/>
        </p:xfrm>
        <a:graphic>
          <a:graphicData uri="http://schemas.openxmlformats.org/drawingml/2006/table">
            <a:tbl>
              <a:tblPr/>
              <a:tblGrid>
                <a:gridCol w="1752480"/>
                <a:gridCol w="7010640"/>
              </a:tblGrid>
              <a:tr h="583920"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llar of Forest Gover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lected mobile and other ICT appl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ansparency, Accountability and Public Particip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e-government and open government applic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vocacy and awareness campaigns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hrough text mess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rnet social networking sites, community rad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Crowd sourcing” to increase public particip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llaborative and participatory ma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Quality of Forest Admin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rest assessment with CLASlite and Airborne LiD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Real-time fire ale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Wildlife tracking and conflict manag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nline trai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976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herence of Forest Legislation and Rule of La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rveillance and deterrence- computerized check posts &amp; G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chnologies for tracking timber - Chain of Custody system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gal information mgmt systems: Global Legal Information Networ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Mobile and online crime reporting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7172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conomic Efficiency, Equity and Incen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nline timber sales, licenses and auc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g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Mobile ph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/PDAs for carbon estimation and receipt of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pic>
        <p:nvPicPr>
          <p:cNvPr id="560" name="Picture 2" descr=""/>
          <p:cNvPicPr/>
          <p:nvPr/>
        </p:nvPicPr>
        <p:blipFill>
          <a:blip r:embed="rId3"/>
          <a:stretch/>
        </p:blipFill>
        <p:spPr>
          <a:xfrm>
            <a:off x="7391520" y="0"/>
            <a:ext cx="163656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Rectangle 452"/>
          <p:cNvGrpSpPr/>
          <p:nvPr/>
        </p:nvGrpSpPr>
        <p:grpSpPr>
          <a:xfrm>
            <a:off x="-6480" y="298440"/>
            <a:ext cx="9156960" cy="6566040"/>
            <a:chOff x="-6480" y="298440"/>
            <a:chExt cx="9156960" cy="6566040"/>
          </a:xfrm>
        </p:grpSpPr>
        <p:pic>
          <p:nvPicPr>
            <p:cNvPr id="562" name="Rectangle 452" descr=""/>
            <p:cNvPicPr/>
            <p:nvPr/>
          </p:nvPicPr>
          <p:blipFill>
            <a:blip r:embed="rId1"/>
            <a:stretch/>
          </p:blipFill>
          <p:spPr>
            <a:xfrm>
              <a:off x="-6480" y="298440"/>
              <a:ext cx="9156960" cy="656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0" y="304920"/>
              <a:ext cx="9144000" cy="65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 Schoolbook"/>
                  <a:ea typeface="ＭＳ Ｐゴシック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Rectangle 39"/>
          <p:cNvSpPr/>
          <p:nvPr/>
        </p:nvSpPr>
        <p:spPr>
          <a:xfrm>
            <a:off x="0" y="1066680"/>
            <a:ext cx="9144000" cy="3574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874800" y="6350040"/>
            <a:ext cx="1792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AO Fore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0" descr="FAO_10mm_black"/>
          <p:cNvPicPr/>
          <p:nvPr/>
        </p:nvPicPr>
        <p:blipFill>
          <a:blip r:embed="rId2"/>
          <a:stretch/>
        </p:blipFill>
        <p:spPr>
          <a:xfrm>
            <a:off x="8229600" y="63594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5" descr="alberalsol"/>
          <p:cNvPicPr/>
          <p:nvPr/>
        </p:nvPicPr>
        <p:blipFill>
          <a:blip r:embed="rId3"/>
          <a:srcRect l="-69" t="18676" r="26616" b="31015"/>
          <a:stretch/>
        </p:blipFill>
        <p:spPr>
          <a:xfrm>
            <a:off x="6459480" y="0"/>
            <a:ext cx="2684520" cy="1231920"/>
          </a:xfrm>
          <a:prstGeom prst="rect">
            <a:avLst/>
          </a:prstGeom>
          <a:ln w="0">
            <a:noFill/>
          </a:ln>
        </p:spPr>
      </p:pic>
      <p:sp>
        <p:nvSpPr>
          <p:cNvPr id="568" name="TextBox 54"/>
          <p:cNvSpPr/>
          <p:nvPr/>
        </p:nvSpPr>
        <p:spPr>
          <a:xfrm>
            <a:off x="0" y="152280"/>
            <a:ext cx="64771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Ensuring information is accessible,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up-to-date and widely used: FAO Open F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8" descr="FAO_white_50_transp"/>
          <p:cNvPicPr/>
          <p:nvPr/>
        </p:nvPicPr>
        <p:blipFill>
          <a:blip r:embed="rId4"/>
          <a:stretch/>
        </p:blipFill>
        <p:spPr>
          <a:xfrm>
            <a:off x="8229600" y="6359400"/>
            <a:ext cx="360360" cy="3636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9" descr="FAO_10mm_black"/>
          <p:cNvPicPr/>
          <p:nvPr/>
        </p:nvPicPr>
        <p:blipFill>
          <a:blip r:embed="rId5"/>
          <a:stretch/>
        </p:blipFill>
        <p:spPr>
          <a:xfrm>
            <a:off x="8229600" y="63594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71" name="Content Placeholder 2"/>
          <p:cNvSpPr/>
          <p:nvPr/>
        </p:nvSpPr>
        <p:spPr>
          <a:xfrm>
            <a:off x="457200" y="1628640"/>
            <a:ext cx="8229600" cy="51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Object 3" descr=""/>
          <p:cNvPicPr/>
          <p:nvPr/>
        </p:nvPicPr>
        <p:blipFill>
          <a:blip r:embed="rId6"/>
          <a:stretch/>
        </p:blipFill>
        <p:spPr>
          <a:xfrm>
            <a:off x="684360" y="1600200"/>
            <a:ext cx="1514160" cy="13683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" descr=""/>
          <p:cNvPicPr/>
          <p:nvPr/>
        </p:nvPicPr>
        <p:blipFill>
          <a:blip r:embed="rId7"/>
          <a:stretch/>
        </p:blipFill>
        <p:spPr>
          <a:xfrm>
            <a:off x="684360" y="3479760"/>
            <a:ext cx="1457280" cy="1505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" descr=""/>
          <p:cNvPicPr/>
          <p:nvPr/>
        </p:nvPicPr>
        <p:blipFill>
          <a:blip r:embed="rId8"/>
          <a:stretch/>
        </p:blipFill>
        <p:spPr>
          <a:xfrm>
            <a:off x="3492360" y="2957400"/>
            <a:ext cx="2157480" cy="1379520"/>
          </a:xfrm>
          <a:prstGeom prst="rect">
            <a:avLst/>
          </a:prstGeom>
          <a:ln w="0">
            <a:noFill/>
          </a:ln>
        </p:spPr>
      </p:pic>
      <p:cxnSp>
        <p:nvCxnSpPr>
          <p:cNvPr id="575" name="Straight Arrow Connector 46"/>
          <p:cNvCxnSpPr/>
          <p:nvPr/>
        </p:nvCxnSpPr>
        <p:spPr>
          <a:xfrm flipH="1" flipV="1">
            <a:off x="2195280" y="2102760"/>
            <a:ext cx="1224720" cy="865800"/>
          </a:xfrm>
          <a:prstGeom prst="straightConnector1">
            <a:avLst/>
          </a:prstGeom>
          <a:ln w="25560">
            <a:solidFill>
              <a:srgbClr val="aebad5"/>
            </a:solidFill>
            <a:miter/>
            <a:tailEnd len="med" type="arrow" w="med"/>
          </a:ln>
        </p:spPr>
      </p:cxnSp>
      <p:cxnSp>
        <p:nvCxnSpPr>
          <p:cNvPr id="576" name="Straight Arrow Connector 60"/>
          <p:cNvCxnSpPr/>
          <p:nvPr/>
        </p:nvCxnSpPr>
        <p:spPr>
          <a:xfrm>
            <a:off x="1402920" y="2968560"/>
            <a:ext cx="1080" cy="504000"/>
          </a:xfrm>
          <a:prstGeom prst="straightConnector1">
            <a:avLst/>
          </a:prstGeom>
          <a:ln w="28440">
            <a:solidFill>
              <a:srgbClr val="404040"/>
            </a:solidFill>
            <a:miter/>
            <a:tailEnd len="med" type="triangle" w="med"/>
          </a:ln>
        </p:spPr>
      </p:cxnSp>
      <p:pic>
        <p:nvPicPr>
          <p:cNvPr id="577" name="Picture 6" descr=""/>
          <p:cNvPicPr/>
          <p:nvPr/>
        </p:nvPicPr>
        <p:blipFill>
          <a:blip r:embed="rId9"/>
          <a:stretch/>
        </p:blipFill>
        <p:spPr>
          <a:xfrm>
            <a:off x="611280" y="5641920"/>
            <a:ext cx="1428480" cy="1143000"/>
          </a:xfrm>
          <a:prstGeom prst="rect">
            <a:avLst/>
          </a:prstGeom>
          <a:ln w="0">
            <a:noFill/>
          </a:ln>
        </p:spPr>
      </p:pic>
      <p:cxnSp>
        <p:nvCxnSpPr>
          <p:cNvPr id="578" name="Straight Arrow Connector 63"/>
          <p:cNvCxnSpPr/>
          <p:nvPr/>
        </p:nvCxnSpPr>
        <p:spPr>
          <a:xfrm flipV="1">
            <a:off x="1402920" y="5055840"/>
            <a:ext cx="1080" cy="505440"/>
          </a:xfrm>
          <a:prstGeom prst="straightConnector1">
            <a:avLst/>
          </a:prstGeom>
          <a:ln w="25560">
            <a:solidFill>
              <a:srgbClr val="aebad5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79" name="Straight Arrow Connector 64"/>
          <p:cNvCxnSpPr/>
          <p:nvPr/>
        </p:nvCxnSpPr>
        <p:spPr>
          <a:xfrm flipV="1">
            <a:off x="2195640" y="3399840"/>
            <a:ext cx="1224720" cy="648360"/>
          </a:xfrm>
          <a:prstGeom prst="straightConnector1">
            <a:avLst/>
          </a:prstGeom>
          <a:ln w="25560">
            <a:solidFill>
              <a:srgbClr val="aebad5"/>
            </a:solidFill>
            <a:miter/>
            <a:tailEnd len="med" type="arrow" w="med"/>
          </a:ln>
        </p:spPr>
      </p:cxnSp>
      <p:pic>
        <p:nvPicPr>
          <p:cNvPr id="580" name="Object 7" descr=""/>
          <p:cNvPicPr/>
          <p:nvPr/>
        </p:nvPicPr>
        <p:blipFill>
          <a:blip r:embed="rId10"/>
          <a:stretch/>
        </p:blipFill>
        <p:spPr>
          <a:xfrm>
            <a:off x="2771640" y="4984920"/>
            <a:ext cx="1133640" cy="1662120"/>
          </a:xfrm>
          <a:prstGeom prst="rect">
            <a:avLst/>
          </a:prstGeom>
          <a:ln w="0">
            <a:noFill/>
          </a:ln>
        </p:spPr>
      </p:pic>
      <p:cxnSp>
        <p:nvCxnSpPr>
          <p:cNvPr id="581" name="Straight Arrow Connector 66"/>
          <p:cNvCxnSpPr/>
          <p:nvPr/>
        </p:nvCxnSpPr>
        <p:spPr>
          <a:xfrm flipV="1">
            <a:off x="3419280" y="4120560"/>
            <a:ext cx="432360" cy="864360"/>
          </a:xfrm>
          <a:prstGeom prst="straightConnector1">
            <a:avLst/>
          </a:prstGeom>
          <a:ln w="25560">
            <a:solidFill>
              <a:srgbClr val="aebad5"/>
            </a:solidFill>
            <a:miter/>
            <a:headEnd len="med" type="arrow" w="med"/>
            <a:tailEnd len="med" type="arrow" w="med"/>
          </a:ln>
        </p:spPr>
      </p:cxnSp>
      <p:pic>
        <p:nvPicPr>
          <p:cNvPr id="582" name="Object 8" descr=""/>
          <p:cNvPicPr/>
          <p:nvPr/>
        </p:nvPicPr>
        <p:blipFill>
          <a:blip r:embed="rId11"/>
          <a:stretch/>
        </p:blipFill>
        <p:spPr>
          <a:xfrm>
            <a:off x="5076720" y="4911840"/>
            <a:ext cx="1462320" cy="15699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"/>
          <p:cNvPicPr/>
          <p:nvPr/>
        </p:nvPicPr>
        <p:blipFill>
          <a:blip r:embed="rId12"/>
          <a:stretch/>
        </p:blipFill>
        <p:spPr>
          <a:xfrm>
            <a:off x="3924360" y="1095480"/>
            <a:ext cx="1341360" cy="1368360"/>
          </a:xfrm>
          <a:prstGeom prst="rect">
            <a:avLst/>
          </a:prstGeom>
          <a:ln w="0">
            <a:noFill/>
          </a:ln>
        </p:spPr>
      </p:pic>
      <p:pic>
        <p:nvPicPr>
          <p:cNvPr id="584" name="Object 10" descr=""/>
          <p:cNvPicPr/>
          <p:nvPr/>
        </p:nvPicPr>
        <p:blipFill>
          <a:blip r:embed="rId13"/>
          <a:stretch/>
        </p:blipFill>
        <p:spPr>
          <a:xfrm>
            <a:off x="6929280" y="2759040"/>
            <a:ext cx="1868760" cy="1649520"/>
          </a:xfrm>
          <a:prstGeom prst="rect">
            <a:avLst/>
          </a:prstGeom>
          <a:ln w="0">
            <a:noFill/>
          </a:ln>
        </p:spPr>
      </p:pic>
      <p:cxnSp>
        <p:nvCxnSpPr>
          <p:cNvPr id="585" name="Straight Arrow Connector 70"/>
          <p:cNvCxnSpPr/>
          <p:nvPr/>
        </p:nvCxnSpPr>
        <p:spPr>
          <a:xfrm>
            <a:off x="5724360" y="3471480"/>
            <a:ext cx="1152000" cy="1080"/>
          </a:xfrm>
          <a:prstGeom prst="straightConnector1">
            <a:avLst/>
          </a:prstGeom>
          <a:ln w="25560">
            <a:solidFill>
              <a:srgbClr val="aebad5"/>
            </a:solidFill>
            <a:miter/>
            <a:tailEnd len="med" type="arrow" w="med"/>
          </a:ln>
        </p:spPr>
      </p:cxnSp>
      <p:cxnSp>
        <p:nvCxnSpPr>
          <p:cNvPr id="586" name="Straight Arrow Connector 71"/>
          <p:cNvCxnSpPr/>
          <p:nvPr/>
        </p:nvCxnSpPr>
        <p:spPr>
          <a:xfrm flipH="1" flipV="1">
            <a:off x="5219280" y="4120560"/>
            <a:ext cx="505440" cy="719640"/>
          </a:xfrm>
          <a:prstGeom prst="straightConnector1">
            <a:avLst/>
          </a:prstGeom>
          <a:ln w="25560">
            <a:solidFill>
              <a:srgbClr val="aebad5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87" name="Straight Arrow Connector 72"/>
          <p:cNvCxnSpPr/>
          <p:nvPr/>
        </p:nvCxnSpPr>
        <p:spPr>
          <a:xfrm flipV="1">
            <a:off x="4598640" y="2463480"/>
            <a:ext cx="1080" cy="505440"/>
          </a:xfrm>
          <a:prstGeom prst="straightConnector1">
            <a:avLst/>
          </a:prstGeom>
          <a:ln w="25560">
            <a:solidFill>
              <a:srgbClr val="aebad5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entury Schoolbook"/>
                <a:ea typeface="ＭＳ Ｐゴシック"/>
              </a:rPr>
              <a:t>CONCLUSION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684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gh-level political interest to strengthen forest governance as a means to step up progress towards SFM and addressing RED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ore experience is available as countries have started to take action to improve evidence and knowledge base on forest governance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volvement of stakeholders and ICTs can enhance efficiency and effectiveness of information collection and us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90" name="Picture 3" descr="PROFORlogo-small-rm.jpg"/>
          <p:cNvPicPr/>
          <p:nvPr/>
        </p:nvPicPr>
        <p:blipFill>
          <a:blip r:embed="rId1"/>
          <a:stretch/>
        </p:blipFill>
        <p:spPr>
          <a:xfrm>
            <a:off x="228600" y="22860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" descr="WB-logo"/>
          <p:cNvPicPr/>
          <p:nvPr/>
        </p:nvPicPr>
        <p:blipFill>
          <a:blip r:embed="rId2"/>
          <a:stretch/>
        </p:blipFill>
        <p:spPr>
          <a:xfrm>
            <a:off x="8153280" y="30492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9" descr="FAO_10mm_black"/>
          <p:cNvPicPr/>
          <p:nvPr/>
        </p:nvPicPr>
        <p:blipFill>
          <a:blip r:embed="rId3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STRUCTUR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7715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terest in measuring governan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Key issues in interventio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wo topic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ramework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CT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nclusion and themes for discussio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13" name="Picture 3" descr="PROFORlogo-small-rm.jpg"/>
          <p:cNvPicPr/>
          <p:nvPr/>
        </p:nvPicPr>
        <p:blipFill>
          <a:blip r:embed="rId1"/>
          <a:stretch/>
        </p:blipFill>
        <p:spPr>
          <a:xfrm>
            <a:off x="228600" y="22860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WB-logo"/>
          <p:cNvPicPr/>
          <p:nvPr/>
        </p:nvPicPr>
        <p:blipFill>
          <a:blip r:embed="rId2"/>
          <a:stretch/>
        </p:blipFill>
        <p:spPr>
          <a:xfrm>
            <a:off x="8153280" y="22860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9" descr="FAO_10mm_black"/>
          <p:cNvPicPr/>
          <p:nvPr/>
        </p:nvPicPr>
        <p:blipFill>
          <a:blip r:embed="rId3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OSTS OF POOR FOREST GOVERNANCE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6765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cological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Unplanned and inappropriate deforestation, depletion of resources important to rural livelihoods and loss of ecosystem servi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conomi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Loss of billions of dollars annually in evaded taxes, illegal logging and other forest cri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ocia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Human displacement, conflicts and violence and compromising the traditional rights and beliefs of forest dependent communit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Politica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 Corruption contagion and loss of credibility of govern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18" name="Picture 3" descr="PROFORlogo-small-rm.jpg"/>
          <p:cNvPicPr/>
          <p:nvPr/>
        </p:nvPicPr>
        <p:blipFill>
          <a:blip r:embed="rId1"/>
          <a:stretch/>
        </p:blipFill>
        <p:spPr>
          <a:xfrm>
            <a:off x="228600" y="22860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WB-logo"/>
          <p:cNvPicPr/>
          <p:nvPr/>
        </p:nvPicPr>
        <p:blipFill>
          <a:blip r:embed="rId2"/>
          <a:stretch/>
        </p:blipFill>
        <p:spPr>
          <a:xfrm>
            <a:off x="8153280" y="22860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9" descr="FAO_10mm_black"/>
          <p:cNvPicPr/>
          <p:nvPr/>
        </p:nvPicPr>
        <p:blipFill>
          <a:blip r:embed="rId3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WHY MEASURE GOVERNANCE?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371240"/>
            <a:ext cx="822960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To address the growing realization that improving governance for forests is critical to effective improvements in forests’ economic, social and ecological contributions, including reducing the impacts of climate chang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3" name="Picture 4" descr="WB-logo"/>
          <p:cNvPicPr/>
          <p:nvPr/>
        </p:nvPicPr>
        <p:blipFill>
          <a:blip r:embed="rId1"/>
          <a:stretch/>
        </p:blipFill>
        <p:spPr>
          <a:xfrm>
            <a:off x="8153280" y="22860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9" descr="FAO_10mm_black"/>
          <p:cNvPicPr/>
          <p:nvPr/>
        </p:nvPicPr>
        <p:blipFill>
          <a:blip r:embed="rId2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GROWING INTEREST IN MEASUR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FOREST GOVERNANCE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meet the requirements of policy makers for better information to enhance SF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sign of policy reforms and governance invest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re specifically, to feed int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EDD+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orest legality schemes (FLEGT/VPA, Lacey, other consumer country legislatio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UNFF, etc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ivate investors decisions (investments, corporate responsibility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aking civil-society participation more effectiv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ider governance and anti-corruption work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7" name="Picture 3" descr="PROFORlogo-small-rm.jpg"/>
          <p:cNvPicPr/>
          <p:nvPr/>
        </p:nvPicPr>
        <p:blipFill>
          <a:blip r:embed="rId1"/>
          <a:stretch/>
        </p:blipFill>
        <p:spPr>
          <a:xfrm>
            <a:off x="228600" y="22860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" descr="WB-logo"/>
          <p:cNvPicPr/>
          <p:nvPr/>
        </p:nvPicPr>
        <p:blipFill>
          <a:blip r:embed="rId2"/>
          <a:stretch/>
        </p:blipFill>
        <p:spPr>
          <a:xfrm>
            <a:off x="8153280" y="22860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9" descr="FAO_10mm_black"/>
          <p:cNvPicPr/>
          <p:nvPr/>
        </p:nvPicPr>
        <p:blipFill>
          <a:blip r:embed="rId3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THREE KEY ISSUES FOR GOVERNANCE INTERVENTION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  <a:ea typeface="ＭＳ Ｐゴシック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Systematic gathering of information on forest governance within a well-defined and comprehensive framework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  <a:ea typeface="ＭＳ Ｐゴシック"/>
              </a:rPr>
              <a:t>Knowledg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Relying on a combination of hard-facts and stakeholder /expert perceptions (gathered through multistakeholder consultations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  <a:ea typeface="ＭＳ Ｐゴシック"/>
              </a:rPr>
              <a:t>Inclusivenes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With the sponsorship of government, but with results that can be used by many to develop consensus for reform and momentum for change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32" name="Picture 3" descr="PROFORlogo-small-rm.jpg"/>
          <p:cNvPicPr/>
          <p:nvPr/>
        </p:nvPicPr>
        <p:blipFill>
          <a:blip r:embed="rId1"/>
          <a:stretch/>
        </p:blipFill>
        <p:spPr>
          <a:xfrm>
            <a:off x="228600" y="22860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WB-logo"/>
          <p:cNvPicPr/>
          <p:nvPr/>
        </p:nvPicPr>
        <p:blipFill>
          <a:blip r:embed="rId2"/>
          <a:stretch/>
        </p:blipFill>
        <p:spPr>
          <a:xfrm>
            <a:off x="8153280" y="22860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9" descr="FAO_10mm_black"/>
          <p:cNvPicPr/>
          <p:nvPr/>
        </p:nvPicPr>
        <p:blipFill>
          <a:blip r:embed="rId3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AN APPROA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2590560" y="1752480"/>
            <a:ext cx="6095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FAO-PROFOR Framework for Assessing and monitoring forest governanc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Expert group that produced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  <a:ea typeface="ＭＳ Ｐゴシック"/>
              </a:rPr>
              <a:t>framework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, launched in June 201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Common framework is organized as 3 pillars of governan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Six principles of good governance underpin the frame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37" name="Picture 3" descr="PROFORlogo-small-rm.jpg"/>
          <p:cNvPicPr/>
          <p:nvPr/>
        </p:nvPicPr>
        <p:blipFill>
          <a:blip r:embed="rId1"/>
          <a:stretch/>
        </p:blipFill>
        <p:spPr>
          <a:xfrm>
            <a:off x="228600" y="22860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4" descr="WB-logo"/>
          <p:cNvPicPr/>
          <p:nvPr/>
        </p:nvPicPr>
        <p:blipFill>
          <a:blip r:embed="rId2"/>
          <a:stretch/>
        </p:blipFill>
        <p:spPr>
          <a:xfrm>
            <a:off x="8153280" y="22860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9" descr="FAO_10mm_black"/>
          <p:cNvPicPr/>
          <p:nvPr/>
        </p:nvPicPr>
        <p:blipFill>
          <a:blip r:embed="rId3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http://t0.gstatic.com/images?q=tbn:ANd9GcSAQRjSpn7jhxs754oupAhms9o3HprLCE5F_Z8cLIheBhuLVEt2ww"/>
          <p:cNvPicPr/>
          <p:nvPr/>
        </p:nvPicPr>
        <p:blipFill>
          <a:blip r:embed="rId4"/>
          <a:stretch/>
        </p:blipFill>
        <p:spPr>
          <a:xfrm>
            <a:off x="228600" y="1752480"/>
            <a:ext cx="243828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934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FAO-PROFOR FOREST GOVERNANCE  FRA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893880" y="1600200"/>
            <a:ext cx="6594480" cy="48736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" descr="WB-logo"/>
          <p:cNvPicPr/>
          <p:nvPr/>
        </p:nvPicPr>
        <p:blipFill>
          <a:blip r:embed="rId2"/>
          <a:stretch/>
        </p:blipFill>
        <p:spPr>
          <a:xfrm>
            <a:off x="8153280" y="22860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9" descr="FAO_10mm_black"/>
          <p:cNvPicPr/>
          <p:nvPr/>
        </p:nvPicPr>
        <p:blipFill>
          <a:blip r:embed="rId3"/>
          <a:stretch/>
        </p:blipFill>
        <p:spPr>
          <a:xfrm>
            <a:off x="228600" y="3049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KNOWLEDGE: PRACTICAL EXAMP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AO: Tanzania, Vietnam, Zambia and Peru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orld Bank: Russia, Burkina Faso and Ugand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N-REDD: Ecuador, Indonesia, Nigeria and Vietna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RI: Brazil, Cameroon and Indonesi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7" name="Picture 3" descr="PROFORlogo-small-rm.jpg"/>
          <p:cNvPicPr/>
          <p:nvPr/>
        </p:nvPicPr>
        <p:blipFill>
          <a:blip r:embed="rId1"/>
          <a:stretch/>
        </p:blipFill>
        <p:spPr>
          <a:xfrm>
            <a:off x="228600" y="22860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WB-logo"/>
          <p:cNvPicPr/>
          <p:nvPr/>
        </p:nvPicPr>
        <p:blipFill>
          <a:blip r:embed="rId2"/>
          <a:stretch/>
        </p:blipFill>
        <p:spPr>
          <a:xfrm>
            <a:off x="8153280" y="22860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9" descr="FAO_10mm_black"/>
          <p:cNvPicPr/>
          <p:nvPr/>
        </p:nvPicPr>
        <p:blipFill>
          <a:blip r:embed="rId3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2:55:35Z</dcterms:created>
  <dc:creator>Benoit Bosquet</dc:creator>
  <dc:description/>
  <dc:language>en-US</dc:language>
  <cp:lastModifiedBy>wayte</cp:lastModifiedBy>
  <dcterms:modified xsi:type="dcterms:W3CDTF">2012-09-27T06:58:03Z</dcterms:modified>
  <cp:revision>525</cp:revision>
  <dc:subject/>
  <dc:title>Slide 1</dc:title>
</cp:coreProperties>
</file>