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2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FBAC0C-0C41-4C59-8667-0A7A62D89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5B2B-AC27-4637-8E6B-B8AC117C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B257-FEA1-4144-88F6-309FFDFF5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DEC9-F6A1-4215-9461-14071578D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66C9-6F6D-4F17-B3DF-317553913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2010-C7D3-4302-997C-11FE64707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15A-8C9B-4FA9-933B-7DA600996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92A8-9F33-4BBA-89FE-B09D9A46E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824-5AEA-4764-8061-4C88DBFFA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6890-05E8-4777-A5FE-A6A57A979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7726-F86E-4B53-8280-E733F1BCE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C865-D4BA-4EDB-BFF2-48710269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071D-08E2-4501-9962-6598960A5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2" descr="Canada logo"/>
          <p:cNvPicPr/>
          <p:nvPr/>
        </p:nvPicPr>
        <p:blipFill>
          <a:blip r:embed="rId2"/>
          <a:stretch/>
        </p:blipFill>
        <p:spPr>
          <a:xfrm>
            <a:off x="7696080" y="6400800"/>
            <a:ext cx="1295640" cy="331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28600" y="6477120"/>
            <a:ext cx="2496960" cy="191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14600" y="0"/>
            <a:ext cx="3733920" cy="228600"/>
          </a:xfrm>
          <a:prstGeom prst="rect">
            <a:avLst/>
          </a:prstGeom>
          <a:solidFill>
            <a:srgbClr val="64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solidFill>
            <a:srgbClr val="12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19920" y="0"/>
            <a:ext cx="3124080" cy="228600"/>
          </a:xfrm>
          <a:prstGeom prst="rect">
            <a:avLst/>
          </a:prstGeom>
          <a:solidFill>
            <a:srgbClr val="a5c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242-95FB-40A8-9F15-192F6DDB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4495680" y="0"/>
            <a:ext cx="99072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47" name="Picture 12" descr="Canada logo"/>
          <p:cNvPicPr/>
          <p:nvPr/>
        </p:nvPicPr>
        <p:blipFill>
          <a:blip r:embed="rId3"/>
          <a:stretch/>
        </p:blipFill>
        <p:spPr>
          <a:xfrm>
            <a:off x="7315200" y="6305400"/>
            <a:ext cx="1600200" cy="41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8600" y="6477120"/>
            <a:ext cx="3124080" cy="23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7315200" cy="162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1600200"/>
            <a:ext cx="731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7.wmf"/><Relationship Id="rId9" Type="http://schemas.openxmlformats.org/officeDocument/2006/relationships/image" Target="../media/image13.wmf"/><Relationship Id="rId10" Type="http://schemas.openxmlformats.org/officeDocument/2006/relationships/image" Target="../media/image14.jpeg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505320"/>
            <a:ext cx="88394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76ca1"/>
                </a:solidFill>
                <a:latin typeface="Tahoma"/>
              </a:rPr>
              <a:t>Addressing Economic Sustainability Challenges </a:t>
            </a:r>
            <a:br>
              <a:rPr sz="2800"/>
            </a:br>
            <a:r>
              <a:rPr b="1" lang="en-CA" sz="2800" spc="-1" strike="noStrike">
                <a:solidFill>
                  <a:srgbClr val="176ca1"/>
                </a:solidFill>
                <a:latin typeface="Tahoma"/>
              </a:rPr>
              <a:t> With New Forest Products 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156393"/>
                </a:solidFill>
                <a:latin typeface="Tahoma"/>
              </a:rPr>
              <a:t>Overview of Canada’s approach</a:t>
            </a:r>
            <a:endParaRPr b="0" lang="en-US" sz="26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Glenn Mason</a:t>
            </a:r>
            <a:endParaRPr b="0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Director General – Policy, Economics and Industry Branch</a:t>
            </a:r>
            <a:endParaRPr b="0" lang="en-US" sz="16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Canadian Forest Service</a:t>
            </a:r>
            <a:endParaRPr b="0" lang="en-US" sz="16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2547c"/>
                </a:solidFill>
                <a:latin typeface="Tahoma"/>
              </a:rPr>
              <a:t>Focus on Innovation – Increasing the use of wood in buildings: Cross-Laminated Timber </a:t>
            </a:r>
            <a:endParaRPr b="1" lang="en-US" sz="24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05320" y="2022480"/>
            <a:ext cx="5105160" cy="354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316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Market Access and Acceptanc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Proactive approach toward appropriate recognition of forest product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de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nvironmental rating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co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reen building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urement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newable energ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ahoma"/>
              </a:rPr>
              <a:t>Comments and Questions Welcom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68580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156393"/>
                </a:solidFill>
                <a:latin typeface="Arial"/>
              </a:rPr>
              <a:t>A vibrant forest industry is able to take its rightful place in the Green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629400" cy="37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Presentation Overview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Economic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Forest Sector economic importance in Can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Changes and challen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Focus on inno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Diversified forest products for the Green Econom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The biorefinery model: Increasing the efficiency of the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New products:</a:t>
            </a: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merging and breakthrough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pporting increased use of wood in buil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ahoma"/>
              </a:rPr>
              <a:t>Market Access and Accep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Canadian Forest Service</a:t>
            </a:r>
            <a:br>
              <a:rPr sz="2800"/>
            </a:b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Strategic Prioriti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ahoma"/>
              </a:rPr>
              <a:t>Support Forest Sector Competitiven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riving sector transformation through innovation and market expa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ahoma"/>
              </a:rPr>
              <a:t>Optimize Fores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Optimizing the socio-economic benefits from forests to industry and comm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ahoma"/>
              </a:rPr>
              <a:t>Advance Environmental Leadership</a:t>
            </a:r>
            <a:r>
              <a:rPr b="0" lang="en-CA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ing competitive advantage through strong environmental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Healthy Economics Needed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ustainable forest management is an interplay between three real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nvir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Economic Context – Importance </a:t>
            </a:r>
            <a:br>
              <a:rPr sz="2800"/>
            </a:b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of Forest Sector in Canada 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762120"/>
            <a:ext cx="320040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ibution to GDP: 1.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orts: $26.4B (+$17.2B to balance of tra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ree of Canada’s top 15 exports are forest produc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ood Lumber: $5.2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lp: $7.5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sprint: $2.8 B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paper: &gt;$7.0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Employment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34,000 forest industry jobs in all regions of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ajor aboriginal emplo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bout 200 communities are highly dependant on forest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Economic Context – Change and Challeng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Structura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anadian dollar appreci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cline in North American newsprint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creased competition internation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Short term challe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llapse of the US housing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low recovery from the global rec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jor forest firms in financial difficul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number of mill clos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ant jobs lo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952880" cy="5791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Focus on Innovation – </a:t>
            </a:r>
            <a:br>
              <a:rPr sz="2800"/>
            </a:b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Forest products for the </a:t>
            </a:r>
            <a:br>
              <a:rPr sz="2800"/>
            </a:b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Green Economy </a:t>
            </a:r>
            <a:br>
              <a:rPr sz="2800"/>
            </a:b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114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High valu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A “Green” altern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-900000" y="1052640"/>
            <a:ext cx="9505800" cy="5189760"/>
            <a:chOff x="-900000" y="1052640"/>
            <a:chExt cx="9505800" cy="5189760"/>
          </a:xfrm>
        </p:grpSpPr>
        <p:sp>
          <p:nvSpPr>
            <p:cNvPr id="112" name=""/>
            <p:cNvSpPr/>
            <p:nvPr/>
          </p:nvSpPr>
          <p:spPr>
            <a:xfrm>
              <a:off x="-900000" y="1701720"/>
              <a:ext cx="7105320" cy="40323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755640" y="2417760"/>
              <a:ext cx="187308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-873000" y="2562120"/>
              <a:ext cx="865080" cy="679680"/>
              <a:chOff x="-873000" y="2562120"/>
              <a:chExt cx="865080" cy="6796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699840" y="2562120"/>
                <a:ext cx="542880" cy="43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-873000" y="2965320"/>
                <a:ext cx="86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-609480" y="1913040"/>
              <a:ext cx="1800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754200" y="2562120"/>
              <a:ext cx="194472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8160" y="1052640"/>
              <a:ext cx="8567640" cy="5189760"/>
              <a:chOff x="38160" y="1052640"/>
              <a:chExt cx="8567640" cy="5189760"/>
            </a:xfrm>
          </p:grpSpPr>
          <p:cxnSp>
            <p:nvCxnSpPr>
              <p:cNvPr id="120" name=""/>
              <p:cNvCxnSpPr>
                <a:stCxn id="121" idx="2"/>
                <a:endCxn id="122" idx="1"/>
              </p:cNvCxnSpPr>
              <p:nvPr/>
            </p:nvCxnSpPr>
            <p:spPr>
              <a:xfrm flipH="1">
                <a:off x="357840" y="5297040"/>
                <a:ext cx="219960" cy="435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3" name=""/>
              <p:cNvCxnSpPr>
                <a:stCxn id="124" idx="3"/>
                <a:endCxn id="125" idx="1"/>
              </p:cNvCxnSpPr>
              <p:nvPr/>
            </p:nvCxnSpPr>
            <p:spPr>
              <a:xfrm flipV="1">
                <a:off x="2619360" y="1393200"/>
                <a:ext cx="658080" cy="929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26" name=""/>
              <p:cNvCxnSpPr>
                <a:stCxn id="127" idx="3"/>
                <a:endCxn id="128" idx="1"/>
              </p:cNvCxnSpPr>
              <p:nvPr/>
            </p:nvCxnSpPr>
            <p:spPr>
              <a:xfrm flipV="1">
                <a:off x="3392280" y="2298240"/>
                <a:ext cx="1517040" cy="796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grpSp>
            <p:nvGrpSpPr>
              <p:cNvPr id="129" name=""/>
              <p:cNvGrpSpPr/>
              <p:nvPr/>
            </p:nvGrpSpPr>
            <p:grpSpPr>
              <a:xfrm>
                <a:off x="108000" y="5516640"/>
                <a:ext cx="1079280" cy="725760"/>
                <a:chOff x="108000" y="5516640"/>
                <a:chExt cx="1079280" cy="72576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8560" y="5516640"/>
                  <a:ext cx="57744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108000" y="5965920"/>
                  <a:ext cx="107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umb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133800" y="1125360"/>
                <a:ext cx="1079280" cy="722880"/>
                <a:chOff x="3133800" y="1125360"/>
                <a:chExt cx="1079280" cy="72288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76360" y="1125360"/>
                  <a:ext cx="791640" cy="53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3133800" y="1571760"/>
                  <a:ext cx="107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908600" y="1628640"/>
                <a:ext cx="1079280" cy="808200"/>
                <a:chOff x="4908600" y="1628640"/>
                <a:chExt cx="1079280" cy="808200"/>
              </a:xfrm>
            </p:grpSpPr>
            <p:pic>
              <p:nvPicPr>
                <p:cNvPr id="13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11360" y="1628640"/>
                  <a:ext cx="46980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>
                  <a:off x="4908600" y="2160360"/>
                  <a:ext cx="1079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rket Pul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525680" y="1557360"/>
                <a:ext cx="1081080" cy="25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duc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" name=""/>
              <p:cNvCxnSpPr>
                <a:stCxn id="127" idx="3"/>
                <a:endCxn id="134" idx="2"/>
              </p:cNvCxnSpPr>
              <p:nvPr/>
            </p:nvCxnSpPr>
            <p:spPr>
              <a:xfrm flipV="1">
                <a:off x="3391920" y="1846080"/>
                <a:ext cx="281880" cy="1248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39" name=""/>
              <p:cNvSpPr/>
              <p:nvPr/>
            </p:nvSpPr>
            <p:spPr>
              <a:xfrm>
                <a:off x="5797440" y="364500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240" y="2274840"/>
                <a:ext cx="3119400" cy="28796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880" y="4578480"/>
                <a:ext cx="600120" cy="52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" name=""/>
              <p:cNvGrpSpPr/>
              <p:nvPr/>
            </p:nvGrpSpPr>
            <p:grpSpPr>
              <a:xfrm>
                <a:off x="1790640" y="2085840"/>
                <a:ext cx="1079640" cy="693720"/>
                <a:chOff x="1790640" y="2085840"/>
                <a:chExt cx="1079640" cy="693720"/>
              </a:xfrm>
            </p:grpSpPr>
            <p:pic>
              <p:nvPicPr>
                <p:cNvPr id="14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43000" y="2085840"/>
                  <a:ext cx="5763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>
                  <a:off x="1790640" y="2503080"/>
                  <a:ext cx="1079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WD/TM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rot="1860000">
                <a:off x="1620360" y="2622600"/>
                <a:ext cx="600120" cy="7272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2628720" y="2781360"/>
                <a:ext cx="1079640" cy="866880"/>
                <a:chOff x="2628720" y="2781360"/>
                <a:chExt cx="1079640" cy="86688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44800" y="2781360"/>
                  <a:ext cx="447480" cy="623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2628720" y="3371760"/>
                  <a:ext cx="1079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raf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542880" y="2160720"/>
                <a:ext cx="1152360" cy="25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400000">
                <a:off x="2186640" y="3231360"/>
                <a:ext cx="600120" cy="1008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58880" y="502596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58880" y="4952880"/>
                <a:ext cx="21600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978600">
                <a:off x="756360" y="4076280"/>
                <a:ext cx="590760" cy="704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160" y="5022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wmi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961920" y="3354480"/>
                <a:ext cx="1079640" cy="763920"/>
                <a:chOff x="961920" y="3354480"/>
                <a:chExt cx="1079640" cy="763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61920" y="3841920"/>
                  <a:ext cx="1079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r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77920" y="3354480"/>
                  <a:ext cx="647640" cy="52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7" name=""/>
              <p:cNvSpPr/>
              <p:nvPr/>
            </p:nvSpPr>
            <p:spPr>
              <a:xfrm rot="9094800">
                <a:off x="1591920" y="4115880"/>
                <a:ext cx="600120" cy="6858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6587640" y="1052640"/>
                <a:ext cx="2018160" cy="230760"/>
                <a:chOff x="6587640" y="1052640"/>
                <a:chExt cx="2018160" cy="230760"/>
              </a:xfrm>
            </p:grpSpPr>
            <p:cxnSp>
              <p:nvCxnSpPr>
                <p:cNvPr id="159" name=""/>
                <p:cNvCxnSpPr/>
                <p:nvPr/>
              </p:nvCxnSpPr>
              <p:spPr>
                <a:xfrm flipV="1">
                  <a:off x="6587640" y="1124640"/>
                  <a:ext cx="505800" cy="396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</p:cxnSp>
            <p:sp>
              <p:nvSpPr>
                <p:cNvPr id="160" name=""/>
                <p:cNvSpPr/>
                <p:nvPr/>
              </p:nvSpPr>
              <p:spPr>
                <a:xfrm>
                  <a:off x="7165800" y="1052640"/>
                  <a:ext cx="14400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“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mary”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5797440" y="364500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58880" y="5025960"/>
                <a:ext cx="21600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58880" y="4952880"/>
                <a:ext cx="21600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94080" y="1268280"/>
            <a:ext cx="8055720" cy="5258160"/>
            <a:chOff x="694080" y="1268280"/>
            <a:chExt cx="8055720" cy="5258160"/>
          </a:xfrm>
        </p:grpSpPr>
        <p:grpSp>
          <p:nvGrpSpPr>
            <p:cNvPr id="165" name=""/>
            <p:cNvGrpSpPr/>
            <p:nvPr/>
          </p:nvGrpSpPr>
          <p:grpSpPr>
            <a:xfrm>
              <a:off x="694080" y="1268280"/>
              <a:ext cx="8055720" cy="3914640"/>
              <a:chOff x="694080" y="1268280"/>
              <a:chExt cx="8055720" cy="3914640"/>
            </a:xfrm>
          </p:grpSpPr>
          <p:cxnSp>
            <p:nvCxnSpPr>
              <p:cNvPr id="166" name=""/>
              <p:cNvCxnSpPr/>
              <p:nvPr/>
            </p:nvCxnSpPr>
            <p:spPr>
              <a:xfrm flipV="1">
                <a:off x="6587640" y="1340640"/>
                <a:ext cx="541800" cy="396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67" name=""/>
              <p:cNvSpPr/>
              <p:nvPr/>
            </p:nvSpPr>
            <p:spPr>
              <a:xfrm>
                <a:off x="7207200" y="1268280"/>
                <a:ext cx="15426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“</a:t>
                </a:r>
                <a:r>
                  <a:rPr b="1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econdary”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508720" y="3445200"/>
                <a:ext cx="1078920" cy="647280"/>
                <a:chOff x="5508720" y="3445200"/>
                <a:chExt cx="1078920" cy="64728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5836680" y="3445200"/>
                  <a:ext cx="418320" cy="424080"/>
                  <a:chOff x="5836680" y="3445200"/>
                  <a:chExt cx="418320" cy="4240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863680" y="3458160"/>
                    <a:ext cx="39096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3" h="2391">
                        <a:moveTo>
                          <a:pt x="1580" y="160"/>
                        </a:moveTo>
                        <a:lnTo>
                          <a:pt x="529" y="1044"/>
                        </a:lnTo>
                        <a:lnTo>
                          <a:pt x="1412" y="825"/>
                        </a:lnTo>
                        <a:lnTo>
                          <a:pt x="286" y="1835"/>
                        </a:lnTo>
                        <a:lnTo>
                          <a:pt x="748" y="1658"/>
                        </a:lnTo>
                        <a:lnTo>
                          <a:pt x="0" y="2391"/>
                        </a:lnTo>
                        <a:lnTo>
                          <a:pt x="1110" y="1549"/>
                        </a:lnTo>
                        <a:lnTo>
                          <a:pt x="816" y="1574"/>
                        </a:lnTo>
                        <a:lnTo>
                          <a:pt x="1732" y="766"/>
                        </a:lnTo>
                        <a:lnTo>
                          <a:pt x="2051" y="547"/>
                        </a:lnTo>
                        <a:lnTo>
                          <a:pt x="1126" y="775"/>
                        </a:lnTo>
                        <a:lnTo>
                          <a:pt x="2303" y="0"/>
                        </a:lnTo>
                        <a:lnTo>
                          <a:pt x="1580" y="160"/>
                        </a:lnTo>
                        <a:lnTo>
                          <a:pt x="1580" y="160"/>
                        </a:lnTo>
                        <a:close/>
                      </a:path>
                    </a:pathLst>
                  </a:custGeom>
                  <a:solidFill>
                    <a:srgbClr val="b8b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836680" y="3462840"/>
                    <a:ext cx="3909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02" h="2391">
                        <a:moveTo>
                          <a:pt x="1579" y="160"/>
                        </a:moveTo>
                        <a:lnTo>
                          <a:pt x="528" y="1044"/>
                        </a:lnTo>
                        <a:lnTo>
                          <a:pt x="1411" y="826"/>
                        </a:lnTo>
                        <a:lnTo>
                          <a:pt x="285" y="1835"/>
                        </a:lnTo>
                        <a:lnTo>
                          <a:pt x="747" y="1658"/>
                        </a:lnTo>
                        <a:lnTo>
                          <a:pt x="0" y="2391"/>
                        </a:lnTo>
                        <a:lnTo>
                          <a:pt x="1108" y="1549"/>
                        </a:lnTo>
                        <a:lnTo>
                          <a:pt x="814" y="1574"/>
                        </a:lnTo>
                        <a:lnTo>
                          <a:pt x="1730" y="766"/>
                        </a:lnTo>
                        <a:lnTo>
                          <a:pt x="2050" y="547"/>
                        </a:lnTo>
                        <a:lnTo>
                          <a:pt x="1125" y="775"/>
                        </a:lnTo>
                        <a:lnTo>
                          <a:pt x="2302" y="0"/>
                        </a:lnTo>
                        <a:lnTo>
                          <a:pt x="1579" y="160"/>
                        </a:lnTo>
                        <a:lnTo>
                          <a:pt x="1579" y="160"/>
                        </a:lnTo>
                        <a:close/>
                      </a:path>
                    </a:pathLst>
                  </a:custGeom>
                  <a:solidFill>
                    <a:srgbClr val="ffe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846040" y="3455640"/>
                    <a:ext cx="32796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2" h="2365">
                        <a:moveTo>
                          <a:pt x="1604" y="60"/>
                        </a:moveTo>
                        <a:lnTo>
                          <a:pt x="520" y="968"/>
                        </a:lnTo>
                        <a:lnTo>
                          <a:pt x="1369" y="817"/>
                        </a:lnTo>
                        <a:lnTo>
                          <a:pt x="217" y="1818"/>
                        </a:lnTo>
                        <a:lnTo>
                          <a:pt x="621" y="1700"/>
                        </a:lnTo>
                        <a:lnTo>
                          <a:pt x="0" y="2365"/>
                        </a:lnTo>
                        <a:lnTo>
                          <a:pt x="772" y="1633"/>
                        </a:lnTo>
                        <a:lnTo>
                          <a:pt x="503" y="1675"/>
                        </a:lnTo>
                        <a:lnTo>
                          <a:pt x="1537" y="766"/>
                        </a:lnTo>
                        <a:lnTo>
                          <a:pt x="722" y="868"/>
                        </a:lnTo>
                        <a:lnTo>
                          <a:pt x="1932" y="0"/>
                        </a:lnTo>
                        <a:lnTo>
                          <a:pt x="1604" y="60"/>
                        </a:lnTo>
                        <a:lnTo>
                          <a:pt x="160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900760" y="3445200"/>
                    <a:ext cx="354240" cy="36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4" h="2163">
                        <a:moveTo>
                          <a:pt x="1730" y="143"/>
                        </a:moveTo>
                        <a:lnTo>
                          <a:pt x="765" y="800"/>
                        </a:lnTo>
                        <a:lnTo>
                          <a:pt x="1562" y="631"/>
                        </a:lnTo>
                        <a:lnTo>
                          <a:pt x="427" y="1625"/>
                        </a:lnTo>
                        <a:lnTo>
                          <a:pt x="739" y="1616"/>
                        </a:lnTo>
                        <a:lnTo>
                          <a:pt x="0" y="2163"/>
                        </a:lnTo>
                        <a:lnTo>
                          <a:pt x="924" y="1590"/>
                        </a:lnTo>
                        <a:lnTo>
                          <a:pt x="621" y="1557"/>
                        </a:lnTo>
                        <a:lnTo>
                          <a:pt x="1781" y="547"/>
                        </a:lnTo>
                        <a:lnTo>
                          <a:pt x="1226" y="614"/>
                        </a:lnTo>
                        <a:lnTo>
                          <a:pt x="2084" y="0"/>
                        </a:lnTo>
                        <a:lnTo>
                          <a:pt x="1730" y="143"/>
                        </a:lnTo>
                        <a:lnTo>
                          <a:pt x="1730" y="1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5508720" y="3816000"/>
                  <a:ext cx="1078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75" name=""/>
              <p:cNvCxnSpPr/>
              <p:nvPr/>
            </p:nvCxnSpPr>
            <p:spPr>
              <a:xfrm>
                <a:off x="3168360" y="3384000"/>
                <a:ext cx="2629080" cy="27540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 rot="360000">
                <a:off x="3924000" y="3357000"/>
                <a:ext cx="17265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Black liqu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97440" y="365760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8880" y="503856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880" y="4965480"/>
                <a:ext cx="21564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2413080" y="3946320"/>
                <a:ext cx="1078920" cy="1049400"/>
                <a:chOff x="2413080" y="3946320"/>
                <a:chExt cx="1078920" cy="1049400"/>
              </a:xfrm>
            </p:grpSpPr>
            <p:pic>
              <p:nvPicPr>
                <p:cNvPr id="18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728800" y="3946320"/>
                  <a:ext cx="447120" cy="623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2413080" y="4536720"/>
                  <a:ext cx="10789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oma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oil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3" name=""/>
              <p:cNvCxnSpPr>
                <a:stCxn id="181" idx="3"/>
                <a:endCxn id="177" idx="0"/>
              </p:cNvCxnSpPr>
              <p:nvPr/>
            </p:nvCxnSpPr>
            <p:spPr>
              <a:xfrm flipV="1">
                <a:off x="3176280" y="3656880"/>
                <a:ext cx="2729160" cy="60228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84" name=""/>
              <p:cNvCxnSpPr>
                <a:endCxn id="181" idx="1"/>
              </p:cNvCxnSpPr>
              <p:nvPr/>
            </p:nvCxnSpPr>
            <p:spPr>
              <a:xfrm>
                <a:off x="2330280" y="2790360"/>
                <a:ext cx="398880" cy="146916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85" name=""/>
              <p:cNvCxnSpPr>
                <a:endCxn id="181" idx="1"/>
              </p:cNvCxnSpPr>
              <p:nvPr/>
            </p:nvCxnSpPr>
            <p:spPr>
              <a:xfrm flipH="1">
                <a:off x="2728080" y="3658680"/>
                <a:ext cx="440280" cy="60084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86" name=""/>
              <p:cNvCxnSpPr>
                <a:endCxn id="181" idx="1"/>
              </p:cNvCxnSpPr>
              <p:nvPr/>
            </p:nvCxnSpPr>
            <p:spPr>
              <a:xfrm flipV="1">
                <a:off x="927000" y="4258800"/>
                <a:ext cx="1802160" cy="59616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87" name=""/>
              <p:cNvSpPr/>
              <p:nvPr/>
            </p:nvSpPr>
            <p:spPr>
              <a:xfrm rot="20460000">
                <a:off x="684360" y="4436640"/>
                <a:ext cx="1726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Ba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8" name=""/>
              <p:cNvCxnSpPr/>
              <p:nvPr/>
            </p:nvCxnSpPr>
            <p:spPr>
              <a:xfrm>
                <a:off x="1501560" y="3890520"/>
                <a:ext cx="1227240" cy="369000"/>
              </a:xfrm>
              <a:prstGeom prst="straightConnector1">
                <a:avLst/>
              </a:prstGeom>
              <a:ln w="12600">
                <a:solidFill>
                  <a:srgbClr val="008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89" name=""/>
              <p:cNvSpPr/>
              <p:nvPr/>
            </p:nvSpPr>
            <p:spPr>
              <a:xfrm rot="4560000">
                <a:off x="1763640" y="3153240"/>
                <a:ext cx="172728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Ba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8300000">
                <a:off x="2083680" y="3685320"/>
                <a:ext cx="1726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Ba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080000">
                <a:off x="1332720" y="3872880"/>
                <a:ext cx="1726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Bioma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880000">
                <a:off x="3278160" y="3801600"/>
                <a:ext cx="17269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ea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rot="3000000">
              <a:off x="570240" y="5342760"/>
              <a:ext cx="17272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Sawdu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044360" y="5817960"/>
              <a:ext cx="1079280" cy="708480"/>
              <a:chOff x="1044360" y="5817960"/>
              <a:chExt cx="1079280" cy="7084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1372680" y="5817960"/>
                <a:ext cx="4284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044360" y="6249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a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7" name=""/>
            <p:cNvCxnSpPr>
              <a:endCxn id="195" idx="3"/>
            </p:cNvCxnSpPr>
            <p:nvPr/>
          </p:nvCxnSpPr>
          <p:spPr>
            <a:xfrm>
              <a:off x="899640" y="4953960"/>
              <a:ext cx="687960" cy="864360"/>
            </a:xfrm>
            <a:prstGeom prst="straightConnector1">
              <a:avLst/>
            </a:prstGeom>
            <a:ln w="12600">
              <a:solidFill>
                <a:srgbClr val="008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198" name=""/>
          <p:cNvGrpSpPr/>
          <p:nvPr/>
        </p:nvGrpSpPr>
        <p:grpSpPr>
          <a:xfrm>
            <a:off x="751680" y="1447920"/>
            <a:ext cx="7860240" cy="5008680"/>
            <a:chOff x="751680" y="1447920"/>
            <a:chExt cx="7860240" cy="5008680"/>
          </a:xfrm>
        </p:grpSpPr>
        <p:sp>
          <p:nvSpPr>
            <p:cNvPr id="199" name=""/>
            <p:cNvSpPr/>
            <p:nvPr/>
          </p:nvSpPr>
          <p:spPr>
            <a:xfrm>
              <a:off x="5802480" y="360864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63920" y="498960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63920" y="4916520"/>
              <a:ext cx="216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203" idx="3"/>
              <a:endCxn id="204" idx="1"/>
            </p:cNvCxnSpPr>
            <p:nvPr/>
          </p:nvCxnSpPr>
          <p:spPr>
            <a:xfrm>
              <a:off x="2561040" y="5344920"/>
              <a:ext cx="605520" cy="3992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205" name=""/>
            <p:cNvGrpSpPr/>
            <p:nvPr/>
          </p:nvGrpSpPr>
          <p:grpSpPr>
            <a:xfrm>
              <a:off x="1481400" y="4761000"/>
              <a:ext cx="1079280" cy="722880"/>
              <a:chOff x="1481400" y="4761000"/>
              <a:chExt cx="1079280" cy="72288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17920" y="4761000"/>
                <a:ext cx="606240" cy="4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1481400" y="52074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refi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795920" y="4902480"/>
              <a:ext cx="1079280" cy="708480"/>
              <a:chOff x="4795920" y="4902480"/>
              <a:chExt cx="1079280" cy="7084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1920" y="4902480"/>
                <a:ext cx="68400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795920" y="533448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fu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849760" y="5480280"/>
              <a:ext cx="1295280" cy="976320"/>
              <a:chOff x="2849760" y="5480280"/>
              <a:chExt cx="1295280" cy="9763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65840" y="5480280"/>
                <a:ext cx="6649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849760" y="599760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chemicals &amp; Lign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rot="21300000">
              <a:off x="3425760" y="4964040"/>
              <a:ext cx="1512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io-ethanol, bio-dies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100000">
              <a:off x="2201040" y="5624280"/>
              <a:ext cx="12240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iochemic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1" idx="1"/>
            </p:cNvCxnSpPr>
            <p:nvPr/>
          </p:nvCxnSpPr>
          <p:spPr>
            <a:xfrm flipV="1">
              <a:off x="2563920" y="3681000"/>
              <a:ext cx="3239280" cy="1308600"/>
            </a:xfrm>
            <a:prstGeom prst="straightConnector1">
              <a:avLst/>
            </a:prstGeom>
            <a:ln w="12600">
              <a:solidFill>
                <a:srgbClr val="333399"/>
              </a:solidFill>
              <a:prstDash val="dash"/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 rot="20280000">
              <a:off x="3473640" y="3968640"/>
              <a:ext cx="1998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333399"/>
                  </a:solidFill>
                  <a:latin typeface="Arial"/>
                  <a:ea typeface="Arial"/>
                </a:rPr>
                <a:t>By- &amp; 2°-products bu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"/>
            <p:cNvCxnSpPr>
              <a:stCxn id="203" idx="3"/>
              <a:endCxn id="208" idx="1"/>
            </p:cNvCxnSpPr>
            <p:nvPr/>
          </p:nvCxnSpPr>
          <p:spPr>
            <a:xfrm flipV="1">
              <a:off x="2561040" y="5146200"/>
              <a:ext cx="2451600" cy="199080"/>
            </a:xfrm>
            <a:prstGeom prst="straightConnector1">
              <a:avLst/>
            </a:prstGeom>
            <a:ln w="12600">
              <a:solidFill>
                <a:srgbClr val="333399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218" name=""/>
            <p:cNvGrpSpPr/>
            <p:nvPr/>
          </p:nvGrpSpPr>
          <p:grpSpPr>
            <a:xfrm>
              <a:off x="6594840" y="1447920"/>
              <a:ext cx="2017080" cy="230760"/>
              <a:chOff x="6594840" y="1447920"/>
              <a:chExt cx="2017080" cy="230760"/>
            </a:xfrm>
          </p:grpSpPr>
          <p:cxnSp>
            <p:nvCxnSpPr>
              <p:cNvPr id="219" name=""/>
              <p:cNvCxnSpPr/>
              <p:nvPr/>
            </p:nvCxnSpPr>
            <p:spPr>
              <a:xfrm flipV="1">
                <a:off x="6594840" y="1519920"/>
                <a:ext cx="505440" cy="3960"/>
              </a:xfrm>
              <a:prstGeom prst="straightConnector1">
                <a:avLst/>
              </a:prstGeom>
              <a:ln w="12600">
                <a:solidFill>
                  <a:srgbClr val="c23e3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220" name=""/>
              <p:cNvSpPr/>
              <p:nvPr/>
            </p:nvSpPr>
            <p:spPr>
              <a:xfrm>
                <a:off x="7172280" y="1447920"/>
                <a:ext cx="14396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23e30"/>
                    </a:solidFill>
                    <a:latin typeface="Arial"/>
                    <a:ea typeface="Arial"/>
                  </a:rPr>
                  <a:t>“</a:t>
                </a:r>
                <a:r>
                  <a:rPr b="1" lang="en-US" sz="1000" spc="-1" strike="noStrike">
                    <a:solidFill>
                      <a:srgbClr val="c23e30"/>
                    </a:solidFill>
                    <a:latin typeface="Arial"/>
                    <a:ea typeface="Arial"/>
                  </a:rPr>
                  <a:t>Future”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1" name=""/>
            <p:cNvCxnSpPr/>
            <p:nvPr/>
          </p:nvCxnSpPr>
          <p:spPr>
            <a:xfrm>
              <a:off x="931680" y="4805280"/>
              <a:ext cx="786600" cy="192600"/>
            </a:xfrm>
            <a:prstGeom prst="straightConnector1">
              <a:avLst/>
            </a:prstGeom>
            <a:ln w="12600">
              <a:solidFill>
                <a:srgbClr val="c23e3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V="1" rot="10800000">
              <a:off x="2242800" y="3056760"/>
              <a:ext cx="707040" cy="1967400"/>
            </a:xfrm>
            <a:prstGeom prst="curvedConnector5">
              <a:avLst>
                <a:gd name="adj1" fmla="val 101782"/>
                <a:gd name="adj2" fmla="val 50000"/>
                <a:gd name="adj3" fmla="val 101782"/>
              </a:avLst>
            </a:prstGeom>
            <a:ln w="12600">
              <a:solidFill>
                <a:srgbClr val="c23e3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 rot="16500000">
              <a:off x="1369440" y="3061080"/>
              <a:ext cx="17272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c23e30"/>
                  </a:solidFill>
                  <a:latin typeface="Arial"/>
                  <a:ea typeface="Arial"/>
                </a:rPr>
                <a:t>Lignin &amp; cellulo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/>
            <p:nvPr/>
          </p:nvCxnSpPr>
          <p:spPr>
            <a:xfrm flipH="1" rot="16200000">
              <a:off x="983880" y="3764520"/>
              <a:ext cx="2388240" cy="132480"/>
            </a:xfrm>
            <a:prstGeom prst="curvedConnector5">
              <a:avLst>
                <a:gd name="adj1" fmla="val 27649"/>
                <a:gd name="adj2" fmla="val -81198"/>
                <a:gd name="adj3" fmla="val 27649"/>
              </a:avLst>
            </a:prstGeom>
            <a:ln w="12600">
              <a:solidFill>
                <a:srgbClr val="c23e3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 rot="780000">
              <a:off x="761760" y="4676760"/>
              <a:ext cx="12240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333399"/>
                  </a:solidFill>
                  <a:latin typeface="Arial"/>
                  <a:ea typeface="Arial"/>
                </a:rPr>
                <a:t>Residu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"/>
          <p:cNvCxnSpPr/>
          <p:nvPr/>
        </p:nvCxnSpPr>
        <p:spPr>
          <a:xfrm flipH="1" flipV="1" rot="5400000">
            <a:off x="119520" y="2840400"/>
            <a:ext cx="2256480" cy="1416960"/>
          </a:xfrm>
          <a:prstGeom prst="curvedConnector2">
            <a:avLst/>
          </a:prstGeom>
          <a:ln w="1260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 rot="18088200">
            <a:off x="78120" y="2809440"/>
            <a:ext cx="1727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8000"/>
                </a:solidFill>
                <a:latin typeface="Arial"/>
                <a:ea typeface="Arial"/>
              </a:rPr>
              <a:t>C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2133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of new processes within existing traditional mill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2547c"/>
                </a:solidFill>
                <a:latin typeface="Tahoma"/>
              </a:rPr>
              <a:t>Focus on Innovation – Increasing economic efficiency:  The Biorefine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3429000"/>
            <a:ext cx="2590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Diversification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 including chemicals and energy from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472428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n greater efficiency, new revenu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12547c"/>
                </a:solidFill>
                <a:latin typeface="Tahoma"/>
              </a:rPr>
              <a:t>Focus on Innovation – Emerging and Breakthrough technologies: Nanocrystalline Cellulose</a:t>
            </a:r>
            <a:r>
              <a:rPr b="1" lang="en-CA" sz="2400" spc="-1" strike="noStrike">
                <a:solidFill>
                  <a:srgbClr val="12547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2209680" cy="225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114800" y="3962520"/>
            <a:ext cx="3505320" cy="23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2895840" cy="274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18:20Z</dcterms:created>
  <dc:creator>trindade</dc:creator>
  <dc:description/>
  <dc:language>en-US</dc:language>
  <cp:lastModifiedBy>css-ep</cp:lastModifiedBy>
  <dcterms:modified xsi:type="dcterms:W3CDTF">2012-09-22T14:45:10Z</dcterms:modified>
  <cp:revision>827</cp:revision>
  <dc:subject/>
  <dc:title>Slide 1</dc:title>
</cp:coreProperties>
</file>