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8385-B60B-41F6-8A79-E6A26B3C0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61A2-0918-4528-949A-E50D63E23D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7760" y="42814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xpert advise: No more than 15% of land not covered by ice should be used for crops. By 2030 there will be a  shortage of 300 bi h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E3E9-F4A5-4CFF-8AFA-B64CF3DD0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9173-70DF-4075-B3FE-4FE316DB21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A85-12EA-43D2-B190-1A100BA9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F45-147C-4254-8963-CA356F21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96B-9E37-499B-A68E-EC831CA9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E1F-228C-4D28-AA75-214A91AE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C8F-F937-45D0-B715-D3EEE117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98A-F522-4CDC-976E-1F7DDF9C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A4D-8BAD-4428-942D-DD82C191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BDF-4D07-4C8A-B0DE-626E06DB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D63-A73E-4F07-99A3-281F2865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776-597C-4504-8136-3153AF1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8FD-BD15-4CB6-A138-625585BD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89E-CA56-45D6-B3C1-BC54DA3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CF2C-45A3-4613-AF0E-248BD83CC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ests and the Food, Fibre and Fuel Challenges: Gazing into the futu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f A.  B. 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orld Agroforestry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.temu@cgiar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FW-COFO Rome  September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803240" y="0"/>
            <a:ext cx="6438960" cy="4106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f497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-914400" y="681120"/>
            <a:ext cx="6438960" cy="410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371600" y="46080"/>
            <a:ext cx="5892840" cy="123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d71920"/>
                </a:solidFill>
                <a:latin typeface="Calibri"/>
              </a:rPr>
              <a:t>Trees at centre of 3 co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2306520"/>
            <a:ext cx="9334440" cy="471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4756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955880" y="152280"/>
            <a:ext cx="6438960" cy="410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-762120" y="833400"/>
            <a:ext cx="6438960" cy="410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52280" y="152280"/>
            <a:ext cx="5892840" cy="123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52280" y="2459160"/>
            <a:ext cx="9334800" cy="471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89154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hart 1" descr=""/>
          <p:cNvPicPr/>
          <p:nvPr/>
        </p:nvPicPr>
        <p:blipFill>
          <a:blip r:embed="rId1"/>
          <a:stretch/>
        </p:blipFill>
        <p:spPr>
          <a:xfrm>
            <a:off x="939960" y="1625760"/>
            <a:ext cx="8102520" cy="4749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biota density under crops compared with agroforest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per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arrios et al 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biota density under crops compared with agroforest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per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arrios et al 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hart 2" descr=""/>
          <p:cNvPicPr/>
          <p:nvPr/>
        </p:nvPicPr>
        <p:blipFill>
          <a:blip r:embed="rId1"/>
          <a:stretch/>
        </p:blipFill>
        <p:spPr>
          <a:xfrm>
            <a:off x="635040" y="1549440"/>
            <a:ext cx="77976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 forward (The How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rengthen land governance at local, national, regional and global scales. Begin at the local level to build the global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sustainability mode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Calibri"/>
              </a:rPr>
              <a:t>Strengthen productivit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d forest governance. Forestry must be at the negotiating table on land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acilitate </a:t>
            </a:r>
            <a:r>
              <a:rPr b="0" lang="en-US" sz="2100" spc="-1" strike="noStrike">
                <a:solidFill>
                  <a:srgbClr val="c00000"/>
                </a:solidFill>
                <a:latin typeface="Calibri"/>
              </a:rPr>
              <a:t>inter-sectoral linkages and dialogu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harmonize policies and approaches to land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ake advantage of and reinforce </a:t>
            </a:r>
            <a:r>
              <a:rPr b="0" lang="en-US" sz="2100" spc="-1" strike="noStrike">
                <a:solidFill>
                  <a:srgbClr val="c00000"/>
                </a:solidFill>
                <a:latin typeface="Calibri"/>
              </a:rPr>
              <a:t>National Forest Programm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expand the roles of trees and forests in providing food, fibre and fu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hance the </a:t>
            </a:r>
            <a:r>
              <a:rPr b="0" lang="en-US" sz="2100" spc="-1" strike="noStrike">
                <a:solidFill>
                  <a:srgbClr val="c00000"/>
                </a:solidFill>
                <a:latin typeface="Calibri"/>
              </a:rPr>
              <a:t>integration of trees in farming and other land us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especially through agroforestry innovations. In this context, your support for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Forest &amp; Farm Facility (FFF)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ing launched is crucia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atemu\AppData\Local\Microsoft\Windows\Temporary Internet Files\Content.Outlook\TP71M99G\DSCN1654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1" descr=""/>
          <p:cNvPicPr/>
          <p:nvPr/>
        </p:nvPicPr>
        <p:blipFill>
          <a:blip r:embed="rId2"/>
          <a:stretch/>
        </p:blipFill>
        <p:spPr>
          <a:xfrm>
            <a:off x="2822400" y="5291280"/>
            <a:ext cx="66693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and Nutrition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1 statistics show that there we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25 mi hungry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0 billio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nutritional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ngry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eed 9bi people in 2050, the current food supply must increase by 7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ore la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be needed to produce food and we will nee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er productiv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 per uni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ording to the International Energy Agency  (IEA), the 2035 demand for energy will increase by about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one thir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12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contributes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16% of current energy dem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Globally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57% 0f all harvested wood goes to fue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The percentages differs widely between countries and are typically much higher for tropical developing coun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dwindling fossil fuels and rising concern on their impact on climate the push for clean energy is toward more biofuels; therefore more land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bre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current estimates are not complete, the demand for fibre to meet human needs is rising sharply, especially with urb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e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mand for solid wood (panels, sawn wood and pulp/paper) between 2010 and 2030 is estimated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t 700 million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land will be needed to produce more fi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re is the Additional lan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127160"/>
          <a:ext cx="8229600" cy="4815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nd use Catego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e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 bi 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st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f which 7% plantat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 bi ha  (3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: crop cultiv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bi ha  (12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: pas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 bi ha  (26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otentially available  for pro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.7 bi ha  (5.25%)*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usable (some for protection reasons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3 bi ha  (28.7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dapted from Nilsson  S. 201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Title 1"/>
          <p:cNvSpPr/>
          <p:nvPr/>
        </p:nvSpPr>
        <p:spPr>
          <a:xfrm>
            <a:off x="380880" y="624672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nevitable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re are five logically linked conclus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Conclusion 1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meet the demand for food, fuel and fib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ore land and wa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ill be needed, yet these resources are finit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Conclusion 2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sionar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olicies and decis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re needed regarding land us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Conclusion 3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Rural livelihood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with 70% of population)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articularly threate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Conclusion 4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mate change exacerbates the situation, especially in marginal areas such a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rylands, coastal and mountain ecosystems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Mitigation and adaptation measures apply additional pressure on land u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Conclusion 5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ap the rising demand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fficient production, processing and use/reuse/recycling  are imper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) Better land use and land gover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volu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land use is needed, urgent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lity information is needed to guide policies and decisions for this evolution, especially to meet the following challen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es each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land use system and governance impact on livelihood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environmental resilienc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benefits be increased while ensuring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sustainable management of land and especially forest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policy and governance measures are needed to ensure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quity and protect the rights of the poo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) With agroforestry it is possible to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and produ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/resto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ecosystem func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integr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sil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Climate change and build up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itigation and adap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duce pres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fo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the essence of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imate Smart Agriculture (C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2308" t="0" r="0" b="32287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31920" y="38268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00000"/>
                </a:solidFill>
                <a:latin typeface="Calibri"/>
              </a:rPr>
              <a:t>Multi Functional LANDSCAP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1:09:00Z</dcterms:created>
  <dc:creator>Temu, August (ICRAF)</dc:creator>
  <dc:description/>
  <dc:language>en-US</dc:language>
  <cp:lastModifiedBy>wayte</cp:lastModifiedBy>
  <cp:lastPrinted>2012-09-19T13:45:56Z</cp:lastPrinted>
  <dcterms:modified xsi:type="dcterms:W3CDTF">2012-09-27T06:56:53Z</dcterms:modified>
  <cp:revision>38</cp:revision>
  <dc:subject/>
  <dc:title>WFW-COFO Rome 2012</dc:title>
</cp:coreProperties>
</file>