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D5E4-D9A0-4E38-AC74-8A29944A3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E075-1106-4321-A091-5554767B8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C2D-32A1-4E8B-8603-414A4FD1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09F-A473-48D0-B27F-D95A3943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4C5-200D-4A76-8FD2-6D4CDAD8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FE6-2ACB-4972-98CB-01DEA418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CFA2-9C4D-433B-90F6-DD44C3A3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4A3B-468C-4BE3-B34C-D326E4A6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0B38-5880-4A33-AFA5-22D4A227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9D60-C02E-4ED4-914D-53AF012C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781B-6807-4191-A4E4-7CDD27EC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A55D-1AF3-405D-ADD4-B5B7C49C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1A08-D4AB-47E1-A6F6-A21BF8AA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E34-FC23-49C2-B441-7ED858DB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6EC9-0A33-46D4-BE25-8CD88AEF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4574-AD45-4A4B-9478-E12437CA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FE1D-BC9B-404B-AAA2-F7C92F4D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7CDA-88B6-490E-A51A-25D635D5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FBFE-D74E-456A-9993-3500CB7F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CF74C-54D3-46F7-BB1F-30A80EA7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F939C-1E9F-42BD-92AF-CAD60A57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11C39-1D76-4A6A-AA94-7F60ACCB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3344D-E04D-4BCD-87F2-DD720CF0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7F3D8-1A5B-46C4-A33A-FFC3A343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4A6-9BCC-458D-A658-90DD4DB4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2DBEC-7A51-402C-ADCC-1529EDE0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AC03B-C62D-4C16-AFEB-879BE4AE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3BD30-F855-4485-AD6E-451863BE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C3071-6221-417F-AE79-5A46302C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599E-4B36-46C0-A39E-B584E248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FBDC0-A3E0-48CD-91C1-E4EE9627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9C9EF-F0EE-4A2C-82A5-4D7CFAA1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FFCBA-AC71-4BCF-8755-CA449B7F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4330B-B70D-4516-AD95-4B9885AD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95222-DB31-4334-96C4-01DC3456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45B-C23D-4054-AC34-8993A4D8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7D02A-C16B-4EEC-837E-D13D503E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76FD0-BA5C-4BCF-B5FF-14F86356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EB2D4-A674-46FA-90B6-79D0F795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3D969-8DAC-419A-91DB-86E1D566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C65BB-B254-4E86-AE1C-2BEB03F6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DF9CC-47B9-4560-AEA2-6A5A83E2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80AE6-A7A1-4E42-871F-56271FCE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98AA1-6A91-4034-8A40-5EAD66B8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42FD2-7C3D-44A2-8FED-6964B031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498-FA82-4732-A89D-276EB678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C84-8E71-4153-A739-B144B83F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4A4D-67EF-4BC1-A0C8-A3BEE2B9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727-010D-413A-980D-48F8ACFE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346-402A-4BBB-9D26-512BDC78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086C-0709-46ED-A94C-AC5DE70DA22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5E87-FB95-495F-B5AA-2DD52808988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2BA7-E18C-41AC-8021-E1EBCF73422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370B-9CC6-4BFE-A7F0-5CAACE84BC6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3381480" cy="12952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760320" y="2676600"/>
            <a:ext cx="630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Implementing the Forest Instru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in the Philipp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1523880" y="365760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cardo Calder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rector, Forest Management Burea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partment of Environment and Natural Re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735120" y="6248520"/>
            <a:ext cx="80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sented at NLBI Side Event – COFO 21, September 24, Rome, Ital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304920" y="609480"/>
            <a:ext cx="861048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apacity Building  Activities and Policy Framework Activiti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terpris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ment Trai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gislative Forum and Semin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laboration with UN-REDD (Lea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afting of Social and Environmental Safegu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rticipatory Carbon Accoun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 Activiti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amework Setting – All Forestry Sector Policies and Pro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licy Compendium and Catalo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152280" y="698400"/>
            <a:ext cx="883944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mportance of Implementing Forest Instru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t is instrumental in achieving Sustainable Forest Management (SFM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FM is a significant goal in Philippine Forestr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restry sector offers livelihood opportunit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FM contributes to mitigating climate chan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rests serve as ‘hedge’ against natural calamities (floods, erosion, flooding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152280" y="698400"/>
            <a:ext cx="883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mportance of Implementing Forest Instru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FM is ‘front and center’ in many DENR progra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cutive Order No. 318 -  Promoting Sustainable Forest Management in the Philippin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stainable Forest Management Bill – Approved by the Philippine Congress. Pending Approval by the Philippine Sena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LBI Project contributed significantly in the crafting of the Bi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228600" y="838080"/>
            <a:ext cx="86868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mplementing Forest Instrument in the Philippin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ighly participatory and adopted a consensus-building proce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ased on multi-stakeholder participation and inpu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ational and regional consultation proce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ssessment and inventory of the 25 policies and measures vis-à-vis Philippine national polic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380880" y="3808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he Consultative Process and Consensus-Build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wo groups conducted the consult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839880" y="2843280"/>
            <a:ext cx="799920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380880" y="380880"/>
            <a:ext cx="8229600" cy="70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he Consultative Process and Consensus-Build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y Two group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ommended by National workshop group involving different stakeholders (public, NGO, CSO, technic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group tasked to consult with specific group of stakehol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idered most ‘open’ and transparent consultation process – consulting group familiar and ‘trusted’ by consulted grou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380880" y="457200"/>
            <a:ext cx="79250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he Consultative Proces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egiona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ed priority policies and measures (25 Policies and measures)  from each stakeholder grou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ed strengths, weaknesses, and ga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ationa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rmonized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oritized list of policies (4 out of 25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ock-taking activ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ined four priority polic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ed appropriate actions and capacity-building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380880" y="533520"/>
            <a:ext cx="853452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riority Polici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, implement, publish and, as necessary, update national forest programmes or other strategies for sustainable forest manag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 Review and improve forest legislation, strengthen forest law enforcement, promote good govern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 Encourage the private sector and CSOs to implement voluntary instruments such as forest certifi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 Enhance access by households, small scale-scale owners, forest dependent local and indigenous communities to forest re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304920" y="533520"/>
            <a:ext cx="81532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mpacts of Consensus-Building Proces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ocess of seeking a compromise led to a stronger partnership among stakehold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stakeholders’ voices were heard and their views and preferences consider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stakeholder groups felt they were seriously considered as equal partners and active participants in the decision-making proce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1:41:17Z</dcterms:created>
  <dc:creator>Mendoza, Guillermo A</dc:creator>
  <dc:description/>
  <dc:language>en-US</dc:language>
  <cp:lastModifiedBy>wayte</cp:lastModifiedBy>
  <dcterms:modified xsi:type="dcterms:W3CDTF">2012-09-26T13:42:47Z</dcterms:modified>
  <cp:revision>16</cp:revision>
  <dc:subject/>
  <dc:title>PowerPoint Presentation</dc:title>
</cp:coreProperties>
</file>