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D8B-546E-49C9-AAC3-8D95DBAF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A08-3410-4DC4-A06D-D4F8461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2EC04-4111-497A-9033-F13BD1F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8CB48-F027-4E81-A1EA-8E7AF83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343F6-B87E-449B-8704-59EDEA3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4DE32-E1D2-4D19-8EBB-5A9A199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E103A-7084-4F1E-AC05-B9DB1F3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F2E0F-C618-44B2-8172-9CC0811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DF09C-413C-47B4-949F-69B6B48C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CC0DF-D5E7-47C7-BEAF-3B14685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47A11-4825-43CA-8F83-5896DD56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8B5F1-D357-4528-B1EC-46839A3A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4F6-6E1B-4600-8798-E6A20F82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84049-E529-4875-BF33-9F0C7420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D5D3-991C-4AC5-A5FE-44F3E8D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25EA8-9C92-4084-84EE-2C846AC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17D0B-9BD7-4D08-BA9A-9882C627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056A4-505D-44C5-99D7-86344C38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89F2-8508-4883-8A39-59E70BD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C2E42-33A4-4EE9-894C-97BECAA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4F6AD-4D3E-42DF-B8C0-9F02D5A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9CAE1-4954-4448-B8EE-00276F3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9B5C7-01D2-42E6-89E0-59C9A56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7AC-A616-4B29-97CA-A203EDAC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87F5-8350-4457-949A-C201BD67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A221D-430D-4D31-A0ED-A5D8864D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FCED7-139C-445C-9D31-3B490C3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CF0A0-EDCB-4CB5-AEB0-0A39679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43C9B-77DD-45CA-A08E-F6A3A0F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7564-6FBD-4F9B-BE7F-16F1E6C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0BA7A-C308-49AE-8DFB-125B3AA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2BC49-902E-4AE9-B783-0A15D52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AAF33-C3FB-4396-BEB0-BDBB803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33570-044E-4D6C-9580-32D8C1A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A94-9C06-4338-B349-225B43B4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2FDFC-D446-4692-B96F-63846E8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CB62-27C1-48EE-B7E1-07EE1BB2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E8FF7-E3AA-4E44-B349-92CEF4E5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D84CD-15AF-4682-8475-A852DAC1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9FCAE-7A2C-470C-8D4F-D31FD81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9F0C7-90B0-4C79-9597-59F7269B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22AB1-26D2-45CD-BD2F-FE96E72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0C7AE-2FDF-4A9B-907A-842FABA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81B9C-0FCE-4F0E-9A68-4B7FF10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E5881-063D-47C7-9090-91EFF97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5111-579C-4D74-BDE0-F0F041B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39E9D-7905-48D2-84D1-998028B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35B76-E225-4421-B40C-24D61C79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D171B-3FCC-4467-A781-04579C1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B06B8-624D-41AC-87D0-E03AEEC9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4BA9E-6136-4A17-AEE8-DE0AF354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8EA-92FB-408E-80DC-6819BAE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8D1-C6E9-4CEA-AA19-2CA57B57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EC6-F681-460D-A052-B471BBD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DA1-7C84-487B-A8DD-86346AF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35E-4203-4226-8652-419ADE5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0CC-9130-4424-97CA-B6276D1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BD46-0536-4DC1-88CC-83DA2D8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BC20-782A-4CD3-AB1F-5525957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1D6-0EEF-49A8-8FB8-EE42813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972-5262-432E-B019-8817C64E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55CC-6036-47D5-A15B-F35E9C4E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BD60-78AF-4148-8732-121A7337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4CA2-45CA-4957-B195-2CA50F7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FB31-44CF-47E9-9BF0-9C32FB5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B55F-90FE-4D06-B00E-6AB530D0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80E1-BEC4-4998-B6CA-B8C335DE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FEB-A95E-44E0-A41A-512EC4BF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3AF6-BF07-4B58-8806-AE562735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2371-CE25-4EC0-8DD7-62CDC53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97B9-7218-47BB-873C-24A4914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71F5-29B5-4FE2-B2B3-D00C248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A46E-94BC-4A9E-9E74-F5ACDE7B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B65F-5107-47E0-8788-F1C0DA0F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81EC-610F-4ABA-8904-0738DBED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29F0-7414-4E98-BB9B-FDA39748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FE66-18DE-428C-9041-54D9B39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0708-C8E6-49B8-9D5D-53FE63A4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1D9-C284-4AB8-A200-494D145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3666-29F1-4278-96F2-783D5D7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D23E-7D7A-4186-8D17-0E80DF5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505D-19F6-4210-A680-1846DE30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B4BC-F41C-4CF7-AF8C-1B655CE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A3E7-EFDC-4040-A9B6-122F981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546E-6683-49C7-AF5F-6D992F8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E5B0-B1D7-45A2-A108-585812B7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E9B7-A12E-4C70-A305-243E263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D3C5-4BA4-4581-926D-396B68F4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BCDB-76AC-470E-800D-5BEC90ED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A70-6593-48AA-8D36-9123C70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F024-AB3A-4596-A8BB-07B5466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2072-F83E-4087-B970-A17C8E44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A781A-2531-4108-A7CE-4215320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ECD2-EE1D-4FBF-A8E1-C8429759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E629-5AB7-47D2-9184-C7CEACF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0878-4435-4254-ABB7-DDFB7E1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A70C-0F60-4A09-86BF-E5BC648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BB6F-5B0B-467D-9680-9AB5422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94FB-A7F9-483E-99CB-EFEFD44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A72B-33C2-4E10-ABAC-ABA35BDD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B66-51A5-4CF7-AFF1-F0B556B2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0733-29F1-41BD-9A3C-E9CB2124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CC67-E4A9-4D0C-B096-28B17878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F222-E158-48F4-8292-4AA589C4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6B277-56F5-4909-B5B0-7307FCD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B4B3-B72E-411F-9FAB-3384BF88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9198-B3C8-4A74-8BF7-BB395B9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6D89A-EDB7-4350-8DD8-595EC2D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0586-A9FE-4A02-9729-2108A51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218D-8B3D-46B2-8A8F-FE8736D5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25BA-7641-4E4C-87F3-2D8D485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FE4-5040-4B6D-8218-A90318D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DA1B-4F48-4B9D-9FEE-8057CD29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D081-893A-4153-BCD9-963AC333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7BF6-DB88-4933-8B88-D3C46F8C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D422-6D32-4C88-8C78-B4CB2FD3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10D8-FD0E-490E-A5DC-3953B3E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81AD-2A52-43E3-B2E7-DE90855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A08A-1755-4BA2-BA5B-FDC911BB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92D4-47F7-4A39-AFE2-170464F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6F5F-E83B-4315-9A2A-11E0488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E64B-5FD0-4FE2-9DE7-67CA1C1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D9E-136F-4625-B698-7B70991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BD83A-D165-4FE0-AF77-27CBDA4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A92C-331E-4977-B5CF-850DA56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DEAC-2B0D-48D7-8155-7DDB6926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22B14-7AAC-447F-8525-007F2474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A40A-F312-41A0-BC0B-82EEBABB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AF773-2B03-47AC-96FA-7DB4C743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D349-6054-48E5-B73E-DB7E527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F76E-0F4F-4F12-9B6E-573E48C7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1919-24D2-4276-A254-E453D05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9938-0906-4ACB-B7C2-F422E102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56C-0A99-4742-924F-837F341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16AF-5852-4196-80E6-FC4B1B31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37A29-EE8D-4565-BDBD-61FAA5F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6DAD8-5B1B-47CF-BA48-F2AD80C8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2D90D-6118-46A6-9784-3FD3DE8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086A-73CB-4F8B-BC2A-0FEDE5D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8CE1-8E3B-4720-9680-3893CACB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5DB4-740F-47E5-BAFF-CA142C72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60269-4E58-4970-BB89-238DA6E3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2795-18BE-4BA0-B63C-F4B502E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96DD8-4156-4D4E-A65A-A53F755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F26-A5E7-4BB0-8359-EEEC4F0F7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90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B2F-F011-4A19-8ECB-8B60D52F70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663C-6ABC-4F18-957C-2C3A21318C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E5FF-4C3C-40D1-A3DA-19E1931F39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52C-F47A-48A6-9B80-C69E25B86C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FB8-1BE6-493A-80D0-BE36DF78E5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C5A-6AFC-439E-93A8-4123C72560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9B0-8AA1-4516-984B-3441CF0241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49E-7490-4DB2-A4C3-C8D52B72B4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846-E105-4843-A8B6-E0C7E4458C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F0E9-0458-4D20-878F-613530F9B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3E7-9949-4605-9168-154D0B0949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12189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  <a:ea typeface="Aharoni"/>
              </a:rPr>
              <a:t>Implementing Forest Instrument in Libe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Edward S. Kamar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Manager/Forest Products Marketing, Forestry Development Authority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381480" cy="12952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1981080" y="55627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Presented At COFO Twenty-First Session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ide Event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onday,  September 24, Rome, Ita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Picture 12" descr="Picture2.png"/>
          <p:cNvPicPr/>
          <p:nvPr/>
        </p:nvPicPr>
        <p:blipFill>
          <a:blip r:embed="rId2"/>
          <a:stretch/>
        </p:blipFill>
        <p:spPr>
          <a:xfrm>
            <a:off x="2895480" y="2895480"/>
            <a:ext cx="30816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marL="465120" indent="-40464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enhances the sustainable management strategy of Liberia;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helps to ensure reduction in deforestation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duces the risk of vulnerability on the forest dependent communi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rengthens NFP platform which were supported by NFP Facility and GF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5120" indent="-4046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380880" y="457200"/>
            <a:ext cx="8229600" cy="1068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The Significance of Forest Instrument in Liberia 1/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6840" y="1828440"/>
            <a:ext cx="5257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400" spc="-1" strike="noStrike">
                <a:solidFill>
                  <a:srgbClr val="000000"/>
                </a:solidFill>
                <a:latin typeface="Corbel"/>
              </a:rPr>
              <a:t>Provides baseline for  the capacity building of platforms in Liber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400" spc="-1" strike="noStrike">
                <a:solidFill>
                  <a:srgbClr val="000000"/>
                </a:solidFill>
                <a:latin typeface="Corbel"/>
              </a:rPr>
              <a:t>Contributes to the capacity building of the forest sector stakehold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400" spc="-1" strike="noStrike">
                <a:solidFill>
                  <a:srgbClr val="000000"/>
                </a:solidFill>
                <a:latin typeface="Corbel"/>
              </a:rPr>
              <a:t>Increases  awareness on the forest sector legal framework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400" spc="-1" strike="noStrike">
                <a:solidFill>
                  <a:srgbClr val="000000"/>
                </a:solidFill>
                <a:latin typeface="Corbel"/>
              </a:rPr>
              <a:t>Plays catalytic role to the on-going initiatives and programmes in Liber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762120" y="304920"/>
            <a:ext cx="7619760" cy="1068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 Significance of Forest Instrument in Liberia  2/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Picture 9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8605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04560" y="1828800"/>
            <a:ext cx="4190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9639d"/>
                </a:solidFill>
                <a:latin typeface="Corbel"/>
              </a:rPr>
              <a:t>County level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Developed materials and approach for awareness raising and assessment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Disseminated information materials  on NLBI, Forestry laws and other regulatory instruments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380880" y="228600"/>
            <a:ext cx="80010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process of awareness raising and assessment of  policies and measures 1/3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1" descr="C:\Users\SormongarSardayZwuen\Desktop\Margibi County Workshop Photos\SAM_1061.JPG"/>
          <p:cNvPicPr/>
          <p:nvPr/>
        </p:nvPicPr>
        <p:blipFill>
          <a:blip r:embed="rId1"/>
          <a:stretch/>
        </p:blipFill>
        <p:spPr>
          <a:xfrm>
            <a:off x="4724280" y="2286000"/>
            <a:ext cx="35942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6840" y="1676160"/>
            <a:ext cx="79246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lding workshops across the various counties with at least 40 participants   at each workshop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wareness for NBLI and the legal   framework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sessment of  country’s situation  (policies     and measures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fication of priorities at county levels (15   counties); four top priorities areas were identified at each county leve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380880"/>
            <a:ext cx="82296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The process of awareness raising and assessment of  policies and measures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2/3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01320" y="1981080"/>
            <a:ext cx="41180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639d"/>
                </a:solidFill>
                <a:latin typeface="Corbel"/>
              </a:rPr>
              <a:t>National level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wareness on NLBI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ssessed  policies and measures with over 80 participants present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Four (4) top priorities were identifie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685800" y="228600"/>
            <a:ext cx="7772400" cy="1068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e process of awareness raising and assessing National Workshops 3/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2" name="Picture 0" descr="SAM_1149.JPG"/>
          <p:cNvPicPr/>
          <p:nvPr/>
        </p:nvPicPr>
        <p:blipFill>
          <a:blip r:embed="rId1"/>
          <a:srcRect l="12388" t="0" r="0" b="0"/>
          <a:stretch/>
        </p:blipFill>
        <p:spPr>
          <a:xfrm>
            <a:off x="4495680" y="2286000"/>
            <a:ext cx="4060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8544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ventory of  the on-going initiatives was tak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rived activities from the five  priorities  of policies and measures including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p-grading of the FDA Webs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ining manual in Book-Keeping and financial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ining manual in Agro-fores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ining manual on SF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puter training man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lection of training sites  and participants for trainings done by the CFF and the CFDC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8600" y="228600"/>
            <a:ext cx="8381880" cy="1557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How this process was used to engage local stakeholders in forest policy decision making and to strengthen the local level stakeholder platforms of the NF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151920" y="1752120"/>
            <a:ext cx="4496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rbel"/>
              </a:rPr>
              <a:t>At the National Workshop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wo level outcomes were integrate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en NFF and 15 CF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elated  the 60 top county-level priorities with the 4 national level priority areas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ive policies and measures  were selected as National prioritiz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6" name="Title 1" descr=""/>
          <p:cNvPicPr/>
          <p:nvPr/>
        </p:nvPicPr>
        <p:blipFill>
          <a:blip r:embed="rId1"/>
          <a:stretch/>
        </p:blipFill>
        <p:spPr>
          <a:xfrm>
            <a:off x="378000" y="73080"/>
            <a:ext cx="8242200" cy="1457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liberia"/>
          <p:cNvPicPr/>
          <p:nvPr/>
        </p:nvPicPr>
        <p:blipFill>
          <a:blip r:embed="rId2"/>
          <a:stretch/>
        </p:blipFill>
        <p:spPr>
          <a:xfrm>
            <a:off x="4724280" y="1981080"/>
            <a:ext cx="4008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09480" y="121896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#22: Support capacity building of  communities in resource management approaches to reduce pressure on forests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#23: Promote stakeholders participation in     development and implementation of forest related policies and programs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#14: Review and strengthened law   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enforcement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#5:    Promote efficient utilization of    forest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products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#4:     Enhance the contribution of forest to      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poverty  reduction and sustainable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Times New Roman"/>
              </a:rPr>
              <a:t>development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8539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9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547120" cy="731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797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4:51:35Z</dcterms:created>
  <dc:creator>Owner</dc:creator>
  <dc:description/>
  <dc:language>en-US</dc:language>
  <cp:lastModifiedBy>wayte</cp:lastModifiedBy>
  <dcterms:modified xsi:type="dcterms:W3CDTF">2012-09-26T13:41:33Z</dcterms:modified>
  <cp:revision>99</cp:revision>
  <dc:subject/>
  <dc:title>Slide 1</dc:title>
</cp:coreProperties>
</file>