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A38-FEAE-46FD-8317-1C6DA815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C39-0FAC-4C02-B0F8-E7661B87CC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9E8-5405-4EDB-8093-672A64E6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533-AC82-4320-B608-0F66855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3C0-41D8-4DBE-AA5F-5BC8EE7C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FA1-FC54-4709-8DA2-014C904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C2B14-FB12-451B-914E-0117E953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3C0CA-4342-4376-B924-DD76B8C1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A672-A3F2-4652-96F5-DFEBB51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B9134-CFFD-498A-81B3-33BB2C4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0E47C-51A9-4067-895F-4F65EC0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8E294-48F6-4CB7-B921-DBAAEDC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2AD2-FA61-42D5-95C4-FFE3E75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E4B-0123-4137-A924-05CE49BA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37E18-C1A5-45B4-B032-E111181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5EADF-CF77-44E7-BD37-255FEED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81B4C-3CC4-4FA8-A8FD-B48FCD9E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A552-DE1C-4DF4-9240-8CA86F29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7A9E3-B60E-446C-AE6B-657F12FE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4BED-6F47-4EB8-B131-BD0A26BF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79EE-AE43-47A1-A416-707E3EA0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8F4D-189D-4F1D-A4E5-CF1FED2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BE00-C2DE-4CC9-90F7-D9048CD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0D90-2C84-4189-AEE4-DB71219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102-15FB-4A77-BFD3-307E47E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493B-07DE-4014-854D-52F434D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E832-BB59-4E74-893C-05F5FEF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EB69-3F45-4D01-A618-24C45D5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80CB-9A64-4FCB-85BE-AC9630E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815D-D847-41F4-B35A-544A2C7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3F4A-B4DA-45F4-BB8B-AE845D5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D145-6E8F-4DA0-A950-1F3E5D70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B2007-5951-4647-8815-08C5D361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DBE3E-BF7E-4452-954D-23D1457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F856F-28B7-4D30-9A7C-662543D0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4D3-FD25-45DD-8CB6-7D62567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FD0EF-4786-4251-8919-178443C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D0291-CE4E-4CD9-BFDC-E8FF964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A97D2-FFF8-4C2A-8732-0CB97023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D914E-66B9-465E-9678-7F91606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606CB-FA84-4F6E-A41F-FC4BFBD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8E6EA-0FC8-4DE0-9EE1-7994C3C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7D0C5-73A4-49CC-B5E1-8C1EFC3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0ECEB-37B7-4E33-A680-02BB095C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72C04-A65A-4BD1-B08C-0D1DF16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91E5E-75DC-4852-BAFE-3A8CAD62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48F-0544-49BD-A6DC-3042268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25ADB-1270-4B68-82F5-210B350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26969-BA5E-4669-9A48-D850589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2BDC6-5636-4341-8B09-9E0F46A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6634B-51E1-4985-BFDB-C7668B3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779E1-28DF-4B7B-8ED8-65C374EB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5A251-B6D2-48DB-91CA-FC31920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26A1-DBF3-462B-9850-1311D56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E8A3E-A7FB-48F5-B07D-10575D9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B7343-D10F-486F-9E8A-F92892E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70490-C638-4E85-83E0-E0874246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9E9-964B-4676-B60C-C352F403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7590C-8927-4F0C-BF65-49D7C0C9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5F486-200A-44C6-B366-FE357D67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DE5B-6DB1-412F-8D59-42616461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819C5-293B-4DCC-8568-791F6D56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BA429-7247-404E-BDD3-DA3F41C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9AAA9-2F80-4199-8009-1C32D22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6A690-4465-410F-B86D-E6AD6AA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F0D8D-12D5-4F35-8F82-DB06A8C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1C302-9A4A-4622-8678-DA57877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A4274-47BB-49D3-A538-83BB85D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1CA-6BD4-43B3-882F-C2FF200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03E4B-7998-441D-B1A1-3919F30A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12DAE-5EEA-4386-82CA-6F9380C8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F4614-5679-4689-AA9A-B759E22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EB5-F43D-4149-A073-DCF1EF3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581-7763-404A-B808-EE2ED0D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6AA4-FA59-4B71-93A7-1C053FDEE1D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12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3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08E-CB16-428A-AC23-9C769AA0840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A83-4A54-4917-8559-9C879477CAB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9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16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9D0-73CA-4BCA-8E99-60562D120DE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DFB-EF51-45FF-83D1-0A41ED2AD85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E36-2685-4F7B-B5B9-F8746815442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1 Imagen" descr="C:\Users\Supervisor\Desktop\DOCUMENTO FINAL INF 2008\FOTOS\Fotos primera\CLASE DE USO DE LA TIERRA\bosque natural primario interveni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26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60" name="3 Imagen" descr="C:\Users\Leonardo.Chavez\AppData\Local\Microsoft\Windows\Temporary Internet Files\Content.Outlook\8ZDRO6OH\logo BMELV alemania.jpg"/>
          <p:cNvPicPr/>
          <p:nvPr/>
        </p:nvPicPr>
        <p:blipFill>
          <a:blip r:embed="rId2"/>
          <a:stretch/>
        </p:blipFill>
        <p:spPr>
          <a:xfrm>
            <a:off x="7929720" y="285840"/>
            <a:ext cx="950760" cy="642960"/>
          </a:xfrm>
          <a:prstGeom prst="rect">
            <a:avLst/>
          </a:prstGeom>
          <a:ln w="0">
            <a:noFill/>
          </a:ln>
        </p:spPr>
      </p:pic>
      <p:pic>
        <p:nvPicPr>
          <p:cNvPr id="261" name="4 Imagen" descr="C:\Users\Leonardo.Chavez\AppData\Local\Microsoft\Windows\Temporary Internet Files\Content.Outlook\8ZDRO6OH\logo instrumento forestal.jpg"/>
          <p:cNvPicPr/>
          <p:nvPr/>
        </p:nvPicPr>
        <p:blipFill>
          <a:blip r:embed="rId3"/>
          <a:stretch/>
        </p:blipFill>
        <p:spPr>
          <a:xfrm>
            <a:off x="7358040" y="28584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262" name="ipfyH2In4dXmE5e-M:" descr="http://t0.gstatic.com/images?q=tbn:ANd9GcQ_XlOfPBhfSnHSyJyWLq8Rkrr-HpHMJhIib8W9zx2kJYTTN2IkNDSzFq2Y"/>
          <p:cNvPicPr/>
          <p:nvPr/>
        </p:nvPicPr>
        <p:blipFill>
          <a:blip r:embed="rId4"/>
          <a:stretch/>
        </p:blipFill>
        <p:spPr>
          <a:xfrm>
            <a:off x="785880" y="28584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263" name="7 Imagen" descr="G:\Logos\Logo INAFOR.jpg"/>
          <p:cNvPicPr/>
          <p:nvPr/>
        </p:nvPicPr>
        <p:blipFill>
          <a:blip r:embed="rId5"/>
          <a:stretch/>
        </p:blipFill>
        <p:spPr>
          <a:xfrm>
            <a:off x="0" y="285840"/>
            <a:ext cx="714240" cy="642960"/>
          </a:xfrm>
          <a:prstGeom prst="rect">
            <a:avLst/>
          </a:prstGeom>
          <a:ln w="0">
            <a:noFill/>
          </a:ln>
        </p:spPr>
      </p:pic>
      <p:sp>
        <p:nvSpPr>
          <p:cNvPr id="264" name="9 CuadroTexto"/>
          <p:cNvSpPr/>
          <p:nvPr/>
        </p:nvSpPr>
        <p:spPr>
          <a:xfrm>
            <a:off x="1042920" y="270828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MPLEMENTING THE FOREST INSTRUMENT IN </a:t>
            </a:r>
            <a:r>
              <a:rPr b="1" lang="es-NI" sz="3200" spc="-1" strike="noStrike">
                <a:solidFill>
                  <a:srgbClr val="ffffff"/>
                </a:solidFill>
                <a:latin typeface="Arial Black"/>
              </a:rPr>
              <a:t>NICARAGU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6"/>
          <a:stretch/>
        </p:blipFill>
        <p:spPr>
          <a:xfrm>
            <a:off x="1857240" y="214200"/>
            <a:ext cx="4714920" cy="928800"/>
          </a:xfrm>
          <a:prstGeom prst="rect">
            <a:avLst/>
          </a:prstGeom>
          <a:ln w="0">
            <a:noFill/>
          </a:ln>
        </p:spPr>
      </p:pic>
      <p:sp>
        <p:nvSpPr>
          <p:cNvPr id="266" name="12 Rectángulo"/>
          <p:cNvSpPr/>
          <p:nvPr/>
        </p:nvSpPr>
        <p:spPr>
          <a:xfrm>
            <a:off x="1403280" y="4149720"/>
            <a:ext cx="64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illiam Schwartz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ituto Nacional Forestal Nicaragua (INAFOR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291636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LBI Side Event – COFO 2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ptember 24, Rome, Ital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2 CuadroTexto"/>
          <p:cNvSpPr/>
          <p:nvPr/>
        </p:nvSpPr>
        <p:spPr>
          <a:xfrm>
            <a:off x="179280" y="1700280"/>
            <a:ext cx="85694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contributes to consolidate forest and environmental initiatives at    the   national level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motes the strengthening of the National Forest Programme, National Forest Policy, Forest Act 462, and the Regulations and Technical Norms for Forest Management implementation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s an opportunities for participation of different local actors in the forest concertation spaces and promotes the strengthening of ongoing cross-sectional processes at national level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l that allows carrying out an assessment on the sector forest progress at national level by the 25 policies and measure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0" name="4 CuadroTexto"/>
          <p:cNvGrpSpPr/>
          <p:nvPr/>
        </p:nvGrpSpPr>
        <p:grpSpPr>
          <a:xfrm>
            <a:off x="1030320" y="6480"/>
            <a:ext cx="7669080" cy="1395360"/>
            <a:chOff x="1030320" y="6480"/>
            <a:chExt cx="7669080" cy="1395360"/>
          </a:xfrm>
        </p:grpSpPr>
        <p:pic>
          <p:nvPicPr>
            <p:cNvPr id="271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30320" y="6480"/>
              <a:ext cx="76690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258920" y="189000"/>
              <a:ext cx="712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Why the implementation of the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Calibri"/>
                </a:rPr>
                <a:t>Forest Instrument</a:t>
              </a: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 in Nicaragua is very relevant? 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2 CuadroTexto"/>
          <p:cNvSpPr/>
          <p:nvPr/>
        </p:nvSpPr>
        <p:spPr>
          <a:xfrm>
            <a:off x="250920" y="2133720"/>
            <a:ext cx="475272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AFOR  has given strong support as a counterpart since the beginning of the Project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se relationship between INAFOR and the Project Coordinator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orest Instrument has been supported by the National Forest Commission (CONAFOR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3 Imagen" descr="FOTOS TALLER NACIONAL 002"/>
          <p:cNvPicPr/>
          <p:nvPr/>
        </p:nvPicPr>
        <p:blipFill>
          <a:blip r:embed="rId2"/>
          <a:stretch/>
        </p:blipFill>
        <p:spPr>
          <a:xfrm>
            <a:off x="5292720" y="1989000"/>
            <a:ext cx="3429000" cy="3360960"/>
          </a:xfrm>
          <a:prstGeom prst="rect">
            <a:avLst/>
          </a:prstGeom>
          <a:ln w="28440">
            <a:solidFill>
              <a:srgbClr val="9bbb59"/>
            </a:solidFill>
            <a:miter/>
          </a:ln>
        </p:spPr>
      </p:pic>
      <p:grpSp>
        <p:nvGrpSpPr>
          <p:cNvPr id="276" name="4 CuadroTexto"/>
          <p:cNvGrpSpPr/>
          <p:nvPr/>
        </p:nvGrpSpPr>
        <p:grpSpPr>
          <a:xfrm>
            <a:off x="334800" y="1182600"/>
            <a:ext cx="3505320" cy="817560"/>
            <a:chOff x="334800" y="1182600"/>
            <a:chExt cx="3505320" cy="817560"/>
          </a:xfrm>
        </p:grpSpPr>
        <p:pic>
          <p:nvPicPr>
            <p:cNvPr id="277" name="4 CuadroTexto" descr=""/>
            <p:cNvPicPr/>
            <p:nvPr/>
          </p:nvPicPr>
          <p:blipFill>
            <a:blip r:embed="rId3"/>
            <a:stretch/>
          </p:blipFill>
          <p:spPr>
            <a:xfrm>
              <a:off x="334800" y="1182600"/>
              <a:ext cx="3505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68360" y="134136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Institutional issue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79" name="5 CuadroTexto"/>
          <p:cNvGrpSpPr/>
          <p:nvPr/>
        </p:nvGrpSpPr>
        <p:grpSpPr>
          <a:xfrm>
            <a:off x="1054080" y="225360"/>
            <a:ext cx="7321680" cy="897120"/>
            <a:chOff x="1054080" y="225360"/>
            <a:chExt cx="7321680" cy="897120"/>
          </a:xfrm>
        </p:grpSpPr>
        <p:pic>
          <p:nvPicPr>
            <p:cNvPr id="280" name="5 CuadroTexto" descr=""/>
            <p:cNvPicPr/>
            <p:nvPr/>
          </p:nvPicPr>
          <p:blipFill>
            <a:blip r:embed="rId4"/>
            <a:stretch/>
          </p:blipFill>
          <p:spPr>
            <a:xfrm>
              <a:off x="1054080" y="225360"/>
              <a:ext cx="7321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187280" y="404640"/>
              <a:ext cx="70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Process of the Implementation 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Users\Chavez\AppData\Local\Microsoft\Windows\Temporary Internet Files\Content.Outlook\RZ5SZDUR\03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C:\Users\Leonardo.Chavez\Desktop\Mis Documentos\FAO-GCP 111 GER\CONSULTORIAS\EVALUACION DE 25 POLITICAS Y MEDIDAS\DOCUMENTOS ULTIMAS VERSIONES\FOTOS NLBI\FOTOS TALLER LEON\TALLERES 156.jpg"/>
          <p:cNvPicPr/>
          <p:nvPr/>
        </p:nvPicPr>
        <p:blipFill>
          <a:blip r:embed="rId2"/>
          <a:stretch/>
        </p:blipFill>
        <p:spPr>
          <a:xfrm>
            <a:off x="5435640" y="1989000"/>
            <a:ext cx="3571920" cy="3000600"/>
          </a:xfrm>
          <a:prstGeom prst="rect">
            <a:avLst/>
          </a:prstGeom>
          <a:ln w="0">
            <a:noFill/>
          </a:ln>
        </p:spPr>
      </p:pic>
      <p:sp>
        <p:nvSpPr>
          <p:cNvPr id="284" name="3 CuadroTexto"/>
          <p:cNvSpPr/>
          <p:nvPr/>
        </p:nvSpPr>
        <p:spPr>
          <a:xfrm>
            <a:off x="324000" y="1700280"/>
            <a:ext cx="51116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the coordination of INAFOR 11 Regional Workshops were carried out at the local level.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More than 500  participants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high level of discussion and consensus was a very interesting exercise for the participa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ring the selection of policies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of the main results of the Regional Workshops was the provision of X-rays of the forest sector at national level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5" name="4 CuadroTexto"/>
          <p:cNvGrpSpPr/>
          <p:nvPr/>
        </p:nvGrpSpPr>
        <p:grpSpPr>
          <a:xfrm>
            <a:off x="476280" y="1047600"/>
            <a:ext cx="4016520" cy="744840"/>
            <a:chOff x="476280" y="1047600"/>
            <a:chExt cx="4016520" cy="744840"/>
          </a:xfrm>
        </p:grpSpPr>
        <p:pic>
          <p:nvPicPr>
            <p:cNvPr id="286" name="4 CuadroTexto" descr=""/>
            <p:cNvPicPr/>
            <p:nvPr/>
          </p:nvPicPr>
          <p:blipFill>
            <a:blip r:embed="rId3"/>
            <a:stretch/>
          </p:blipFill>
          <p:spPr>
            <a:xfrm>
              <a:off x="476280" y="1047600"/>
              <a:ext cx="4016520" cy="7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11280" y="1197000"/>
              <a:ext cx="37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gional Workshops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88" name="5 CuadroTexto"/>
          <p:cNvGrpSpPr/>
          <p:nvPr/>
        </p:nvGrpSpPr>
        <p:grpSpPr>
          <a:xfrm>
            <a:off x="835200" y="225360"/>
            <a:ext cx="7327800" cy="897120"/>
            <a:chOff x="835200" y="225360"/>
            <a:chExt cx="7327800" cy="897120"/>
          </a:xfrm>
        </p:grpSpPr>
        <p:pic>
          <p:nvPicPr>
            <p:cNvPr id="289" name="5 CuadroTexto" descr=""/>
            <p:cNvPicPr/>
            <p:nvPr/>
          </p:nvPicPr>
          <p:blipFill>
            <a:blip r:embed="rId4"/>
            <a:stretch/>
          </p:blipFill>
          <p:spPr>
            <a:xfrm>
              <a:off x="835200" y="225360"/>
              <a:ext cx="73278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971640" y="404640"/>
              <a:ext cx="705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Process of the Implementation 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Leonardo.Chavez\AppData\Local\Microsoft\Windows\Temporary Internet Files\Content.Outlook\8ZDRO6OH\muestra fondo dn leoardo (2).jpg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2" name="2 CuadroTexto"/>
          <p:cNvGrpSpPr/>
          <p:nvPr/>
        </p:nvGrpSpPr>
        <p:grpSpPr>
          <a:xfrm>
            <a:off x="1773360" y="225360"/>
            <a:ext cx="5767200" cy="897120"/>
            <a:chOff x="1773360" y="225360"/>
            <a:chExt cx="5767200" cy="897120"/>
          </a:xfrm>
        </p:grpSpPr>
        <p:pic>
          <p:nvPicPr>
            <p:cNvPr id="293" name="2 CuadroTexto" descr=""/>
            <p:cNvPicPr/>
            <p:nvPr/>
          </p:nvPicPr>
          <p:blipFill>
            <a:blip r:embed="rId2"/>
            <a:stretch/>
          </p:blipFill>
          <p:spPr>
            <a:xfrm>
              <a:off x="1773360" y="225360"/>
              <a:ext cx="57672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908000" y="404640"/>
              <a:ext cx="55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Main Results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5" name="3 Rectángulo"/>
          <p:cNvSpPr/>
          <p:nvPr/>
        </p:nvSpPr>
        <p:spPr>
          <a:xfrm>
            <a:off x="539640" y="112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ve consensus policies and measures prioritized at country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5 Tabla" descr=""/>
          <p:cNvPicPr/>
          <p:nvPr/>
        </p:nvPicPr>
        <p:blipFill>
          <a:blip r:embed="rId3"/>
          <a:stretch/>
        </p:blipFill>
        <p:spPr>
          <a:xfrm>
            <a:off x="-73080" y="1554120"/>
            <a:ext cx="8967960" cy="41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2 CuadroTexto"/>
          <p:cNvSpPr/>
          <p:nvPr/>
        </p:nvSpPr>
        <p:spPr>
          <a:xfrm>
            <a:off x="1357200" y="428760"/>
            <a:ext cx="6072480" cy="703800"/>
          </a:xfrm>
          <a:prstGeom prst="rect">
            <a:avLst/>
          </a:prstGeom>
          <a:solidFill>
            <a:srgbClr val="e7bc29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Arial Black"/>
              </a:rPr>
              <a:t>WHAT HAS THE FOREST INSTRUMENT DONE IN NICARAGUA 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4 CuadroTexto"/>
          <p:cNvSpPr/>
          <p:nvPr/>
        </p:nvSpPr>
        <p:spPr>
          <a:xfrm>
            <a:off x="179280" y="1773360"/>
            <a:ext cx="57150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forest sector ha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NEVE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had a program of credit for forest activitie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The current Government established the Banco Produzcamos as an alternative for small farmer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The Forest Instrument provedes technical assistance to the Banco Produzcamo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4.  The small farmers and forestry producers can be eligible for credit for productive activitie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Picture 1" descr="H:\Fotos\CUTUM61PA3PR1C1_54.JPG"/>
          <p:cNvPicPr/>
          <p:nvPr/>
        </p:nvPicPr>
        <p:blipFill>
          <a:blip r:embed="rId2"/>
          <a:stretch/>
        </p:blipFill>
        <p:spPr>
          <a:xfrm>
            <a:off x="6156360" y="2349360"/>
            <a:ext cx="2786040" cy="292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01" name="6 CuadroTexto"/>
          <p:cNvGrpSpPr/>
          <p:nvPr/>
        </p:nvGrpSpPr>
        <p:grpSpPr>
          <a:xfrm>
            <a:off x="1176480" y="249120"/>
            <a:ext cx="7089480" cy="1390680"/>
            <a:chOff x="1176480" y="249120"/>
            <a:chExt cx="7089480" cy="1390680"/>
          </a:xfrm>
        </p:grpSpPr>
        <p:pic>
          <p:nvPicPr>
            <p:cNvPr id="302" name="6 CuadroTexto" descr=""/>
            <p:cNvPicPr/>
            <p:nvPr/>
          </p:nvPicPr>
          <p:blipFill>
            <a:blip r:embed="rId3"/>
            <a:stretch/>
          </p:blipFill>
          <p:spPr>
            <a:xfrm>
              <a:off x="1176480" y="249120"/>
              <a:ext cx="70894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357200" y="428760"/>
              <a:ext cx="664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What has the Forest Instrument done in Nicaragua?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4 CuadroTexto"/>
          <p:cNvSpPr/>
          <p:nvPr/>
        </p:nvSpPr>
        <p:spPr>
          <a:xfrm>
            <a:off x="250920" y="2133720"/>
            <a:ext cx="525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 Adjusting the current forestry credit program of the Banco Produzcamo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6. Support very close with the forest producers at the local level in order to bring information about financial issu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7. To influence in intersectorial policies or programs.</a:t>
            </a:r>
            <a:r>
              <a:rPr b="1" lang="en-US" sz="2200" spc="-1" strike="noStrike">
                <a:solidFill>
                  <a:srgbClr val="536142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6" name="Picture 1" descr="H:\Fotos\CUTUM61PA3PR1C1_54.JPG"/>
          <p:cNvPicPr/>
          <p:nvPr/>
        </p:nvPicPr>
        <p:blipFill>
          <a:blip r:embed="rId2"/>
          <a:stretch/>
        </p:blipFill>
        <p:spPr>
          <a:xfrm>
            <a:off x="5940360" y="2276640"/>
            <a:ext cx="2635200" cy="264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07" name="6 CuadroTexto"/>
          <p:cNvGrpSpPr/>
          <p:nvPr/>
        </p:nvGrpSpPr>
        <p:grpSpPr>
          <a:xfrm>
            <a:off x="1176480" y="249120"/>
            <a:ext cx="7089480" cy="1390680"/>
            <a:chOff x="1176480" y="249120"/>
            <a:chExt cx="7089480" cy="1390680"/>
          </a:xfrm>
        </p:grpSpPr>
        <p:pic>
          <p:nvPicPr>
            <p:cNvPr id="308" name="6 CuadroTexto" descr=""/>
            <p:cNvPicPr/>
            <p:nvPr/>
          </p:nvPicPr>
          <p:blipFill>
            <a:blip r:embed="rId3"/>
            <a:stretch/>
          </p:blipFill>
          <p:spPr>
            <a:xfrm>
              <a:off x="1176480" y="249120"/>
              <a:ext cx="70894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357200" y="428760"/>
              <a:ext cx="664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What has the Forest Instrument done in Nicaragua?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3 CuadroTexto"/>
          <p:cNvSpPr/>
          <p:nvPr/>
        </p:nvSpPr>
        <p:spPr>
          <a:xfrm>
            <a:off x="179280" y="1628640"/>
            <a:ext cx="6337440" cy="429120"/>
          </a:xfrm>
          <a:prstGeom prst="rect">
            <a:avLst/>
          </a:prstGeom>
          <a:solidFill>
            <a:srgbClr val="f3a447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rest Instrument Impact at the Regional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2" name="4 CuadroTexto" descr=""/>
          <p:cNvPicPr/>
          <p:nvPr/>
        </p:nvPicPr>
        <p:blipFill>
          <a:blip r:embed="rId2"/>
          <a:stretch/>
        </p:blipFill>
        <p:spPr>
          <a:xfrm>
            <a:off x="96840" y="2382840"/>
            <a:ext cx="5280120" cy="3182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:\Fotos\CUTUM363PA1PR1C1_526.jpg"/>
          <p:cNvPicPr/>
          <p:nvPr/>
        </p:nvPicPr>
        <p:blipFill>
          <a:blip r:embed="rId3"/>
          <a:stretch/>
        </p:blipFill>
        <p:spPr>
          <a:xfrm>
            <a:off x="5796000" y="2565360"/>
            <a:ext cx="2643120" cy="2786040"/>
          </a:xfrm>
          <a:prstGeom prst="rect">
            <a:avLst/>
          </a:prstGeom>
          <a:ln w="38160">
            <a:solidFill>
              <a:srgbClr val="f3a447"/>
            </a:solidFill>
            <a:miter/>
          </a:ln>
        </p:spPr>
      </p:pic>
      <p:grpSp>
        <p:nvGrpSpPr>
          <p:cNvPr id="314" name="6 CuadroTexto"/>
          <p:cNvGrpSpPr/>
          <p:nvPr/>
        </p:nvGrpSpPr>
        <p:grpSpPr>
          <a:xfrm>
            <a:off x="1219320" y="6480"/>
            <a:ext cx="7089480" cy="1395360"/>
            <a:chOff x="1219320" y="6480"/>
            <a:chExt cx="7089480" cy="1395360"/>
          </a:xfrm>
        </p:grpSpPr>
        <p:pic>
          <p:nvPicPr>
            <p:cNvPr id="315" name="6 CuadroTexto" descr=""/>
            <p:cNvPicPr/>
            <p:nvPr/>
          </p:nvPicPr>
          <p:blipFill>
            <a:blip r:embed="rId4"/>
            <a:stretch/>
          </p:blipFill>
          <p:spPr>
            <a:xfrm>
              <a:off x="1219320" y="6480"/>
              <a:ext cx="7089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403280" y="189000"/>
              <a:ext cx="664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What has the Forest Instrument done in Nicaragua?</a:t>
              </a: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Chavez\AppData\Local\Microsoft\Windows\Temporary Internet Files\Content.Outlook\RZ5SZDUR\02 fondo blanco (2).jpg"/>
          <p:cNvPicPr/>
          <p:nvPr/>
        </p:nvPicPr>
        <p:blipFill>
          <a:blip r:embed="rId1"/>
          <a:stretch/>
        </p:blipFill>
        <p:spPr>
          <a:xfrm>
            <a:off x="0" y="15228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1 CuadroTexto"/>
          <p:cNvSpPr/>
          <p:nvPr/>
        </p:nvSpPr>
        <p:spPr>
          <a:xfrm>
            <a:off x="1357200" y="428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Arial Black"/>
              </a:rPr>
              <a:t>NEXT CHALLENGES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9" name="2 CuadroTexto" descr=""/>
          <p:cNvPicPr/>
          <p:nvPr/>
        </p:nvPicPr>
        <p:blipFill>
          <a:blip r:embed="rId2"/>
          <a:stretch/>
        </p:blipFill>
        <p:spPr>
          <a:xfrm>
            <a:off x="585720" y="1206360"/>
            <a:ext cx="8425080" cy="3432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321" name="6 CuadroTexto"/>
          <p:cNvSpPr/>
          <p:nvPr/>
        </p:nvSpPr>
        <p:spPr>
          <a:xfrm>
            <a:off x="428760" y="278604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anks for you attention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10 CuadroTexto"/>
          <p:cNvSpPr/>
          <p:nvPr/>
        </p:nvSpPr>
        <p:spPr>
          <a:xfrm>
            <a:off x="2268360" y="4292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nstantia"/>
              </a:rPr>
              <a:t>http://inafor.gob.ni/nlbi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21:08:09Z</dcterms:created>
  <dc:creator>Leonardo.Chavez</dc:creator>
  <dc:description/>
  <dc:language>en-US</dc:language>
  <cp:lastModifiedBy>wayte</cp:lastModifiedBy>
  <dcterms:modified xsi:type="dcterms:W3CDTF">2012-09-26T13:40:20Z</dcterms:modified>
  <cp:revision>231</cp:revision>
  <dc:subject/>
  <dc:title>Diapositiva 1</dc:title>
</cp:coreProperties>
</file>