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7AE-CE9C-4090-A6F5-F6579143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E01-1B84-487A-8242-017BFEDD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5FE-588D-41B3-9C54-EC8A8A81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DC2-C29E-4AF8-A4BD-3CBEF3D2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440-CBE1-4BD8-BEAF-2D658528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B6F-6270-449D-9F17-5E5E065D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C30-8B31-4A53-959F-D6779370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EE0-F32B-4E3B-9116-C72D5F4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007-A23B-48A4-A258-9A5C0FD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5BA-5377-4D01-AF21-E18D1425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419-3FB3-4B88-9138-120C841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28B-C812-4955-8A76-E43DCD6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67EC-45CF-47E0-B12C-6C54E8B71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412640"/>
            <a:ext cx="3957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Calibri"/>
              </a:rPr>
              <a:t>Trade in forest commodities and phytosanitary measur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196880"/>
            <a:ext cx="590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iroma Sathyapal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iting expert, FA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istry of Primary Industries (MPI), NZ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85152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Calibri"/>
              </a:rPr>
              <a:t>Why do we need  e- learning on Trade  and phytosanitary measures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715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obal trade in timber and other forest products estimated &gt; US$ 330 billion/year (201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" name="Picture 8" descr="ANd9GcTkhUbItkA8TyGzTLKpa_BCtpnIJ840fIm7Me5amgLVWL1TjTSj"/>
          <p:cNvPicPr/>
          <p:nvPr/>
        </p:nvPicPr>
        <p:blipFill>
          <a:blip r:embed="rId1"/>
          <a:srcRect l="0" t="0" r="0" b="11138"/>
          <a:stretch/>
        </p:blipFill>
        <p:spPr>
          <a:xfrm>
            <a:off x="1042920" y="3141720"/>
            <a:ext cx="5543640" cy="35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ANd9GcT6g1uH7zjMsfgYBgec2u6yNHf8QEXmv5WSQc5z3kOdMmckbtQpd1Fwmdxf"/>
          <p:cNvPicPr/>
          <p:nvPr/>
        </p:nvPicPr>
        <p:blipFill>
          <a:blip r:embed="rId2"/>
          <a:stretch/>
        </p:blipFill>
        <p:spPr>
          <a:xfrm>
            <a:off x="5651640" y="4221000"/>
            <a:ext cx="25923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3" presetSubtype="16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8360" y="2925720"/>
            <a:ext cx="4991040" cy="3743280"/>
          </a:xfrm>
          <a:prstGeom prst="rect">
            <a:avLst/>
          </a:prstGeom>
          <a:ln cap="sq" w="3816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351160" y="2133720"/>
            <a:ext cx="4992480" cy="3743280"/>
          </a:xfrm>
          <a:prstGeom prst="rect">
            <a:avLst/>
          </a:prstGeom>
          <a:ln cap="sq" w="3816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Content Placeholder 2" descr=""/>
          <p:cNvPicPr/>
          <p:nvPr/>
        </p:nvPicPr>
        <p:blipFill>
          <a:blip r:embed="rId3"/>
          <a:stretch/>
        </p:blipFill>
        <p:spPr>
          <a:xfrm>
            <a:off x="3995640" y="981000"/>
            <a:ext cx="4992840" cy="3743280"/>
          </a:xfrm>
          <a:prstGeom prst="rect">
            <a:avLst/>
          </a:prstGeom>
          <a:ln cap="sq" w="3816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-27000"/>
            <a:ext cx="7632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alibri"/>
              </a:rPr>
              <a:t>Forest commodities &amp; pest ris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2051" t="2436" r="2311" b="1223"/>
          <a:stretch/>
        </p:blipFill>
        <p:spPr>
          <a:xfrm>
            <a:off x="395280" y="966960"/>
            <a:ext cx="5040360" cy="3808080"/>
          </a:xfrm>
          <a:prstGeom prst="rect">
            <a:avLst/>
          </a:prstGeom>
          <a:ln cap="sq" w="3816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4992840" cy="3744720"/>
          </a:xfrm>
          <a:prstGeom prst="rect">
            <a:avLst/>
          </a:prstGeom>
          <a:ln cap="sq" w="3816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5" descr=""/>
          <p:cNvPicPr/>
          <p:nvPr/>
        </p:nvPicPr>
        <p:blipFill>
          <a:blip r:embed="rId3"/>
          <a:srcRect l="0" t="0" r="2508" b="0"/>
          <a:stretch/>
        </p:blipFill>
        <p:spPr>
          <a:xfrm>
            <a:off x="3995640" y="2903400"/>
            <a:ext cx="4932360" cy="3743640"/>
          </a:xfrm>
          <a:prstGeom prst="rect">
            <a:avLst/>
          </a:prstGeom>
          <a:ln cap="sq" w="3816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alibri"/>
              </a:rPr>
              <a:t>Import of forest commoditi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992840" cy="374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4" descr=""/>
          <p:cNvPicPr/>
          <p:nvPr/>
        </p:nvPicPr>
        <p:blipFill>
          <a:blip r:embed="rId2"/>
          <a:srcRect l="0" t="0" r="3370" b="22341"/>
          <a:stretch/>
        </p:blipFill>
        <p:spPr>
          <a:xfrm>
            <a:off x="539640" y="2637000"/>
            <a:ext cx="5327640" cy="3787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-273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alibri"/>
              </a:rPr>
              <a:t>Export of forest commoditi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58920" y="981000"/>
            <a:ext cx="4992480" cy="3743280"/>
          </a:xfrm>
          <a:prstGeom prst="rect">
            <a:avLst/>
          </a:prstGeom>
          <a:ln cap="sq" w="38160">
            <a:solidFill>
              <a:srgbClr val="80808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4992480" cy="3743640"/>
          </a:xfrm>
          <a:prstGeom prst="rect">
            <a:avLst/>
          </a:prstGeom>
          <a:ln cap="sq" w="381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995640" y="2946240"/>
            <a:ext cx="4992840" cy="3743640"/>
          </a:xfrm>
          <a:prstGeom prst="rect">
            <a:avLst/>
          </a:prstGeom>
          <a:ln cap="sq" w="38160">
            <a:solidFill>
              <a:srgbClr val="80808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852640"/>
            <a:ext cx="4546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>
                <a:solidFill>
                  <a:srgbClr val="666633"/>
                </a:solidFill>
                <a:latin typeface="Calibri"/>
              </a:rPr>
              <a:t>Lets use e learning to spread the word on Safe Tra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2:22:32Z</dcterms:created>
  <dc:creator>Marcelli, Gabriele (FOEP)</dc:creator>
  <dc:description/>
  <dc:language>en-US</dc:language>
  <cp:lastModifiedBy>ALLARD</cp:lastModifiedBy>
  <dcterms:modified xsi:type="dcterms:W3CDTF">2012-09-25T08:33:34Z</dcterms:modified>
  <cp:revision>64</cp:revision>
  <dc:subject/>
  <dc:title>Slide 1</dc:title>
</cp:coreProperties>
</file>