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812-EB22-48C8-9A0D-1AF95DD0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7C9-BE4E-421B-B4E8-0ED2127F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81E-B4B5-4A93-98DE-F73DF9B5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2AB-FB6E-4025-B81E-F3909726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E11-D6F9-4FA3-B5F7-11E0475A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07E-FEC7-4F01-AB26-F7BCC9EB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310F-AFE9-42C4-A3CD-BD542505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E2F4-4E98-44D0-8D66-84670CF0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45C-08DA-4430-A289-9D65A6D8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2BB-617C-43AB-A892-A84632A2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1C0-4159-4A61-B66C-AA969633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7EC-C9B4-406A-A82B-D9B53B5D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6398-C1E2-46FB-955E-F2642BB364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ao.org/forestry/material-educativo/es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395748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Forestry Educ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latform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Central America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Caribbean Countrie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3640" y="5300640"/>
            <a:ext cx="597672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eorgia"/>
              </a:rPr>
              <a:t>Vanda Ferreira dos Santo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eorgia"/>
              </a:rPr>
              <a:t>Forestry Information Offic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Georgia"/>
              </a:rPr>
              <a:t>Today’s presentation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 initiativ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34272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articipating countr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34272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Main Objectiv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34272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Beneficiar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34272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 platform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The initiativ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6" name="Content Placeholder 3" descr="TH6.jpg"/>
          <p:cNvPicPr/>
          <p:nvPr/>
        </p:nvPicPr>
        <p:blipFill>
          <a:blip r:embed="rId1"/>
          <a:stretch/>
        </p:blipFill>
        <p:spPr>
          <a:xfrm>
            <a:off x="2238480" y="2116080"/>
            <a:ext cx="46670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Participating countr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8" name="Content Placeholder 3" descr="Central_America_&amp;_Caribbean.jpg"/>
          <p:cNvPicPr/>
          <p:nvPr/>
        </p:nvPicPr>
        <p:blipFill>
          <a:blip r:embed="rId1"/>
          <a:stretch/>
        </p:blipFill>
        <p:spPr>
          <a:xfrm>
            <a:off x="1655640" y="1600200"/>
            <a:ext cx="583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ain Objectiv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o</a:t>
            </a: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 improve access to, and exchange of, information and knowledge in forestry science and technology between developing countries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in Central America and the Caribbea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Beneficiar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" name="Content Placeholder 5" descr="21564.jpg"/>
          <p:cNvPicPr/>
          <p:nvPr/>
        </p:nvPicPr>
        <p:blipFill>
          <a:blip r:embed="rId1"/>
          <a:stretch/>
        </p:blipFill>
        <p:spPr>
          <a:xfrm>
            <a:off x="457200" y="2505240"/>
            <a:ext cx="4038480" cy="271620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6" descr="sf09-discussion8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Platform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24000" y="2924280"/>
            <a:ext cx="860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 u="sng">
                <a:solidFill>
                  <a:srgbClr val="009999"/>
                </a:solidFill>
                <a:uFillTx/>
                <a:latin typeface="Georgia"/>
                <a:ea typeface="ＭＳ Ｐゴシック"/>
                <a:hlinkClick r:id="rId1"/>
              </a:rPr>
              <a:t>http://www.fao.org/forestry/material-educativo/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3715920"/>
            <a:ext cx="45464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633"/>
                </a:solidFill>
                <a:latin typeface="Georgia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2:22:32Z</dcterms:created>
  <dc:creator>Marcelli, Gabriele (FOEP)</dc:creator>
  <dc:description/>
  <dc:language>en-US</dc:language>
  <cp:lastModifiedBy>wayte</cp:lastModifiedBy>
  <dcterms:modified xsi:type="dcterms:W3CDTF">2012-09-26T14:23:50Z</dcterms:modified>
  <cp:revision>47</cp:revision>
  <dc:subject/>
  <dc:title>Slide 1</dc:title>
</cp:coreProperties>
</file>