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CA7-3C8D-43F1-BA6D-BA4AAB40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825-247D-452A-BDEF-8E5678C3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92C-8EF0-4BDB-BC93-1EB5ACB9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2F3-0128-4851-AC0F-65DBF268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6D9-EDF0-4E2D-BEF1-98637A2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EAA-8016-43CD-9A0A-6E5C23B7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DFD-D9D3-40CF-807C-B0D275F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893-1F5B-46FF-B915-B6D68470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C2A-4519-443D-882E-9413072C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536-1E42-496D-8E8B-E9E4519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533-362D-4AC6-835D-0680552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B6D-7E0B-4763-A7FD-DA8D7FF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FE34-E70B-44A4-B4EA-EFDA367C3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2"/>
          <p:cNvSpPr/>
          <p:nvPr/>
        </p:nvSpPr>
        <p:spPr>
          <a:xfrm>
            <a:off x="4284720" y="692280"/>
            <a:ext cx="0" cy="27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6"/>
          <p:cNvSpPr/>
          <p:nvPr/>
        </p:nvSpPr>
        <p:spPr>
          <a:xfrm flipH="1">
            <a:off x="1332000" y="3429000"/>
            <a:ext cx="2952720" cy="244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4284720" y="3429000"/>
            <a:ext cx="3095640" cy="266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0" y="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io+20 declaration mapping and F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3635280" y="333360"/>
            <a:ext cx="32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atural resources/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79280" y="587700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43640" y="6093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verty all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/green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3348000" y="314172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ustai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2627280" y="407664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Food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3354480" y="378936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161928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3132000" y="4724280"/>
            <a:ext cx="16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pen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2484360" y="5229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od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1981440" y="436572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amily fa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760680" y="39337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col &amp; org fa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4284720" y="37162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verty erad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859280" y="4005360"/>
            <a:ext cx="6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D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6443640" y="5661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ve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6300720" y="5373720"/>
            <a:ext cx="15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m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172360" y="3213000"/>
            <a:ext cx="14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reen j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6551640" y="5877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ocial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4716360" y="422100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ural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5435640" y="4508640"/>
            <a:ext cx="10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3"/>
          <p:cNvSpPr/>
          <p:nvPr/>
        </p:nvSpPr>
        <p:spPr>
          <a:xfrm>
            <a:off x="4643280" y="479736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xpor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4716360" y="5732640"/>
            <a:ext cx="16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air 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5007240" y="602136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fra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7380360" y="3933720"/>
            <a:ext cx="17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olistic sustai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7"/>
          <p:cNvSpPr/>
          <p:nvPr/>
        </p:nvSpPr>
        <p:spPr>
          <a:xfrm>
            <a:off x="5508720" y="5084640"/>
            <a:ext cx="46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echnical co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8"/>
          <p:cNvSpPr/>
          <p:nvPr/>
        </p:nvSpPr>
        <p:spPr>
          <a:xfrm>
            <a:off x="3203640" y="2924280"/>
            <a:ext cx="26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ife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3203640" y="27082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atural capital/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5226840" y="23493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cosystem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2057040" y="24922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nd and s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2"/>
          <p:cNvSpPr/>
          <p:nvPr/>
        </p:nvSpPr>
        <p:spPr>
          <a:xfrm>
            <a:off x="2771640" y="22050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3"/>
          <p:cNvSpPr/>
          <p:nvPr/>
        </p:nvSpPr>
        <p:spPr>
          <a:xfrm>
            <a:off x="3708360" y="191628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ou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4"/>
          <p:cNvSpPr/>
          <p:nvPr/>
        </p:nvSpPr>
        <p:spPr>
          <a:xfrm>
            <a:off x="2843280" y="126828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5003640" y="170028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6"/>
          <p:cNvSpPr/>
          <p:nvPr/>
        </p:nvSpPr>
        <p:spPr>
          <a:xfrm>
            <a:off x="3780000" y="170028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7"/>
          <p:cNvSpPr/>
          <p:nvPr/>
        </p:nvSpPr>
        <p:spPr>
          <a:xfrm>
            <a:off x="2700360" y="155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ishing/stock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9"/>
          <p:cNvSpPr/>
          <p:nvPr/>
        </p:nvSpPr>
        <p:spPr>
          <a:xfrm>
            <a:off x="3851280" y="12682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ral re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0"/>
          <p:cNvSpPr/>
          <p:nvPr/>
        </p:nvSpPr>
        <p:spPr>
          <a:xfrm>
            <a:off x="3492360" y="1484280"/>
            <a:ext cx="34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rine 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1"/>
          <p:cNvSpPr/>
          <p:nvPr/>
        </p:nvSpPr>
        <p:spPr>
          <a:xfrm>
            <a:off x="1619280" y="198900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Wa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2"/>
          <p:cNvSpPr/>
          <p:nvPr/>
        </p:nvSpPr>
        <p:spPr>
          <a:xfrm>
            <a:off x="3348000" y="105264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erritorial integ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3"/>
          <p:cNvSpPr/>
          <p:nvPr/>
        </p:nvSpPr>
        <p:spPr>
          <a:xfrm>
            <a:off x="5364000" y="1268280"/>
            <a:ext cx="24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ource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4"/>
          <p:cNvSpPr/>
          <p:nvPr/>
        </p:nvSpPr>
        <p:spPr>
          <a:xfrm>
            <a:off x="5940360" y="148428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w carbon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6"/>
          <p:cNvSpPr/>
          <p:nvPr/>
        </p:nvSpPr>
        <p:spPr>
          <a:xfrm>
            <a:off x="7101360" y="22050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reen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7"/>
          <p:cNvSpPr/>
          <p:nvPr/>
        </p:nvSpPr>
        <p:spPr>
          <a:xfrm>
            <a:off x="4932360" y="1052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ustainable 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8"/>
          <p:cNvSpPr/>
          <p:nvPr/>
        </p:nvSpPr>
        <p:spPr>
          <a:xfrm>
            <a:off x="7956720" y="2924280"/>
            <a:ext cx="17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erg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9"/>
          <p:cNvSpPr/>
          <p:nvPr/>
        </p:nvSpPr>
        <p:spPr>
          <a:xfrm>
            <a:off x="6516720" y="1773360"/>
            <a:ext cx="19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0"/>
          <p:cNvSpPr/>
          <p:nvPr/>
        </p:nvSpPr>
        <p:spPr>
          <a:xfrm>
            <a:off x="1619280" y="1413000"/>
            <a:ext cx="14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ublic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1"/>
          <p:cNvSpPr/>
          <p:nvPr/>
        </p:nvSpPr>
        <p:spPr>
          <a:xfrm>
            <a:off x="7524720" y="198900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ustainable c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7740720" y="2421000"/>
            <a:ext cx="22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reen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3"/>
          <p:cNvSpPr/>
          <p:nvPr/>
        </p:nvSpPr>
        <p:spPr>
          <a:xfrm>
            <a:off x="3635280" y="24922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4"/>
          <p:cNvSpPr/>
          <p:nvPr/>
        </p:nvSpPr>
        <p:spPr>
          <a:xfrm>
            <a:off x="7164360" y="2637000"/>
            <a:ext cx="29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aster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68"/>
          <p:cNvSpPr/>
          <p:nvPr/>
        </p:nvSpPr>
        <p:spPr>
          <a:xfrm>
            <a:off x="108000" y="2565360"/>
            <a:ext cx="8567640" cy="1727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0"/>
          <p:cNvSpPr/>
          <p:nvPr/>
        </p:nvSpPr>
        <p:spPr>
          <a:xfrm>
            <a:off x="-252360" y="155736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Governance, Science &amp; Knowledge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76"/>
          <p:cNvSpPr/>
          <p:nvPr/>
        </p:nvSpPr>
        <p:spPr>
          <a:xfrm rot="10800000">
            <a:off x="539640" y="1193400"/>
            <a:ext cx="8367840" cy="4756320"/>
          </a:xfrm>
          <a:custGeom>
            <a:avLst/>
            <a:gdLst>
              <a:gd name="textAreaLeft" fmla="*/ 0 w 8367840"/>
              <a:gd name="textAreaRight" fmla="*/ 8368200 w 8367840"/>
              <a:gd name="textAreaTop" fmla="*/ 0 h 4756320"/>
              <a:gd name="textAreaBottom" fmla="*/ 4756680 h 4756320"/>
            </a:gdLst>
            <a:ahLst/>
            <a:rect l="textAreaLeft" t="textAreaTop" r="textAreaRight" b="textAreaBottom"/>
            <a:pathLst>
              <a:path stroke="0" w="8367713" h="4756150">
                <a:moveTo>
                  <a:pt x="8367155" y="2416915"/>
                </a:moveTo>
                <a:lnTo>
                  <a:pt x="8367155" y="2416915"/>
                </a:lnTo>
                <a:arcTo wR="4183857" hR="2378075" stAng="31917" swAng="21568091"/>
                <a:lnTo>
                  <a:pt x="4183857" y="2378075"/>
                </a:lnTo>
                <a:close/>
              </a:path>
              <a:path fill="none" w="8367713" h="4756150">
                <a:moveTo>
                  <a:pt x="8367155" y="2416915"/>
                </a:moveTo>
                <a:lnTo>
                  <a:pt x="8367155" y="2416915"/>
                </a:lnTo>
                <a:arcTo wR="4183857" hR="2378075" stAng="31917" swAng="2156809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7"/>
          <p:cNvSpPr/>
          <p:nvPr/>
        </p:nvSpPr>
        <p:spPr>
          <a:xfrm>
            <a:off x="277164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30a0"/>
                </a:solidFill>
                <a:latin typeface="Calibri"/>
              </a:rPr>
              <a:t>FAO man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13:44Z</dcterms:created>
  <dc:creator>rojase</dc:creator>
  <dc:description/>
  <dc:language>en-US</dc:language>
  <cp:lastModifiedBy>rojase</cp:lastModifiedBy>
  <dcterms:modified xsi:type="dcterms:W3CDTF">2012-05-30T16:20:27Z</dcterms:modified>
  <cp:revision>16</cp:revision>
  <dc:subject/>
  <dc:title>Slide 1</dc:title>
</cp:coreProperties>
</file>