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C3D-079D-4D3D-B8AC-0D024FD3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ABA-5431-42CD-83F3-E934A8EB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9D1-2D46-4E78-923D-0A0B8485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E95-F069-4848-ACE8-6D649243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87A-2204-4777-916D-2C08FEF5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34C-5945-4FA9-B6BD-C15D6C4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19C-C1E6-47D3-90F9-7C4060F6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6AD-C7C2-425F-9593-3D19EA78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5D8-9581-46FF-99AA-1C533AD9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B94-44B1-491C-A34F-7BC03690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5E7-D032-459F-8743-268E8DAF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51E-66D8-411D-9CB9-9C171F38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5717-ABC8-4150-A8D9-D94F9EB68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fao.org/forestry/forestsandwater/en/" TargetMode="External"/><Relationship Id="rId3" Type="http://schemas.openxmlformats.org/officeDocument/2006/relationships/hyperlink" Target="http://www.fao.org/forestry/forestsandwater/en/" TargetMode="External"/><Relationship Id="rId4" Type="http://schemas.openxmlformats.org/officeDocument/2006/relationships/hyperlink" Target="http://www.fao.org/forestry/forestsandwater/en/" TargetMode="External"/><Relationship Id="rId5" Type="http://schemas.openxmlformats.org/officeDocument/2006/relationships/hyperlink" Target="http://www.fao.org/forestry/forestsandwater/en/" TargetMode="External"/><Relationship Id="rId6" Type="http://schemas.openxmlformats.org/officeDocument/2006/relationships/hyperlink" Target="http://www.fao.org/forestry/forestsandwater/en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51280" y="1700280"/>
            <a:ext cx="46782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Forêts et eau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59280" y="3789360"/>
            <a:ext cx="5400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dans le contexte du changement climatiqu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’est-ce qui man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alyse rég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réflection liée au changement cli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roches inter-sectori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dres institu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e la discussion à l’action: vers un agenda pr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81080" y="274320"/>
            <a:ext cx="950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Forêts et eau: attention internationale (II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Arial"/>
              </a:rPr>
              <a:t>Points à examiner par COFO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Adresser des recommendations à la FAO pour 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futur travaux sur les forêts et l’ eau, notam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principaux problèmes liés à la question des forêts et l’eau dans le contexte du changement cli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les lac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les leçons à ti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les défis à relever, coopération intersector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Arial"/>
              </a:rPr>
              <a:t>Points à examiner par COFO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Demander aux pays d’ intensifier les travaux sur la question forêts et 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Demander à la FAO d’ aider les Etats Membres à cet ég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3348000" y="1557360"/>
            <a:ext cx="3490920" cy="4392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Arial"/>
              </a:rPr>
              <a:t>Points à examiner par COF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Georgia"/>
              </a:rPr>
              <a:t>Merc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79280" y="2708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o.org/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orestry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orestsandwater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en/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176720" cy="535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2Watertoweralpine glacier"/>
          <p:cNvPicPr/>
          <p:nvPr/>
        </p:nvPicPr>
        <p:blipFill>
          <a:blip r:embed="rId3"/>
          <a:stretch/>
        </p:blipFill>
        <p:spPr>
          <a:xfrm>
            <a:off x="4500720" y="1125360"/>
            <a:ext cx="43560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orêts et eau: documents de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74328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3671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orêts et eau: résumé des fai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lation entre les forêts et l’ea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lexe et dépend de 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one climatique et sa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tuation géol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sition des espè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nsité des arb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alité” de la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stion forest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068"/>
          <p:cNvPicPr/>
          <p:nvPr/>
        </p:nvPicPr>
        <p:blipFill>
          <a:blip r:embed="rId2"/>
          <a:stretch/>
        </p:blipFill>
        <p:spPr>
          <a:xfrm>
            <a:off x="5076720" y="2205000"/>
            <a:ext cx="2881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orêts et eau: résumé des fait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 forêts influencent et règlent l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hydrologiqu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ce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n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évap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évapo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filtr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Et avec le changement climat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Foto 558"/>
          <p:cNvPicPr/>
          <p:nvPr/>
        </p:nvPicPr>
        <p:blipFill>
          <a:blip r:embed="rId2"/>
          <a:stretch/>
        </p:blipFill>
        <p:spPr>
          <a:xfrm>
            <a:off x="4356000" y="2349360"/>
            <a:ext cx="3672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orêts et eau: résumé des faits (I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 forêts contribuent à la conservation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qualité de l’ea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bilisation des s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isation de l’érosion superfic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éduction de la séd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ltration des sédiments et des pollu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Et avec le changement climat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orêts et eau: résumé des faits (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 forêts contribuent à la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éduction de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2781360" cy="331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3132000" y="2133720"/>
            <a:ext cx="3024360" cy="331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O-673511"/>
          <p:cNvPicPr/>
          <p:nvPr/>
        </p:nvPicPr>
        <p:blipFill>
          <a:blip r:embed="rId4"/>
          <a:stretch/>
        </p:blipFill>
        <p:spPr>
          <a:xfrm>
            <a:off x="6227640" y="2133720"/>
            <a:ext cx="2519640" cy="3311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3964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ondation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348000" y="486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issement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300720" y="486900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écheresse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95280" y="5445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Et avec le changement climatique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orêts et eau: résumé des faits (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ans le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égions arid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t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mi-arid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romis entre la consommation d’eau par 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bres et les services écosysté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Et avec le changement climat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720" y="27432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Forêts et eau: attention internationale (I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Shiga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novembre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arsovi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novembre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Oulu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août 200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ragowo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octobre 200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om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octobre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Barcelon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octobre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Antaly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mai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Buenos Air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octobre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Lisbonn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avril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Rome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(octobre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2:22:32Z</dcterms:created>
  <dc:creator>Marcelli, Gabriele (FOEP)</dc:creator>
  <dc:description/>
  <dc:language>en-US</dc:language>
  <cp:lastModifiedBy>Wayte, Valerie (FOEL)</cp:lastModifiedBy>
  <dcterms:modified xsi:type="dcterms:W3CDTF">2010-10-14T13:27:09Z</dcterms:modified>
  <cp:revision>16</cp:revision>
  <dc:subject/>
  <dc:title>Slide 1</dc:title>
</cp:coreProperties>
</file>