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wmf" ContentType="image/x-wmf"/>
  <Override PartName="/ppt/media/image38.jpeg" ContentType="image/jpeg"/>
  <Override PartName="/ppt/media/image31.wmf" ContentType="image/x-wmf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978-7DBB-44BE-9634-EE7F66B048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635-8D29-475E-BBF3-1BFB66179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FECF-8019-4806-8977-518AB2DBE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5F8-B8B9-495A-A33E-22EF0502A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7FB-80AE-4D09-9CF3-71B354FB9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6624-3CED-4515-8B6A-28722AA45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08E1-9294-4602-BD7A-018803480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1F9-B997-4A7B-944A-B92E093D7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E8D3-4BB2-4FD7-867D-0EF49B1BF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390-21D4-43E2-B632-6A23F718A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438B-187E-479B-8AA8-803F8A63E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9D8A-C11B-47EB-A17E-EC1AE5B5C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4F43-8131-4B9E-B7D4-0E390D4C1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B9D2-3729-4160-8C87-1DDF6CE43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AB5-D3D9-4DD0-9698-B201506BB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060-2AF7-4441-BCD7-2CFEC6F30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213-F65A-443D-91AF-C80524EAF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5A9-1293-4994-8379-30D2B39FA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2F19-1246-4B9C-A23C-7F87B44AD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4C4-BD62-439D-85DF-CCAD35E02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05B-FC45-4443-9D0B-2BB3B6FE6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307-3504-44EB-B791-9A9FA07BB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E467-90C1-4145-8444-4D59697C6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ED38-19F5-4679-99D3-D359ED6BA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E57-1DCC-4287-B67D-113595D9A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63BF-94EF-4DC1-BAAD-F7323F8F9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E8F-5589-4B9A-A7DF-115DCECC7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DB6-DBA3-4A26-B733-B38462DE1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0B7B-0931-4F29-ADFD-905675401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78D0-BDC3-408B-9490-F29BB2271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4D5-4276-4303-BFA7-40B16857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B1C-0BED-4960-B7B4-B6F2135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E33-6675-4380-A060-0040AD0A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33E-8E04-4119-B0DB-9E040ED9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C488F-291F-4D06-9C07-F00199C13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A4D9-47C9-4C2F-B4B1-DCAE8C1D9E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87153-B8AA-45FF-BE43-97EE54F365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26F65-5BD4-4552-8371-E4570A356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DA10B-C61A-4550-AB32-EAFF814CB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71360" y="189000"/>
            <a:ext cx="7918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51137-4AD1-43B1-BBDB-E784A8B89B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2C8DB-7C1C-4F4F-9CA0-CDF427FFF9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F5B-5058-4F33-BE3B-B089DAF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F31B-B696-4611-BA01-370A809C1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E26F3-D5E6-4B1E-AAD4-1E82C0565A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7F56-D3AE-4013-AF4F-96074E602B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5273-AF8D-4FF5-8430-382FE827D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3384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15400" y="160020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526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3384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15400" y="3964320"/>
            <a:ext cx="24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DB04-ECD1-4342-B03C-1D91E23ED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6EA-C9E7-4D02-859A-098885A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6CD-6967-4707-A1AE-484CD8D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54E-76A6-4778-BC4D-DFEC8B7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71360" y="189000"/>
            <a:ext cx="7918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74C-C325-426B-8959-2D9624AF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E9E-0CE3-4A43-A092-F477B46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64400" y="396432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B43-9A48-43AA-8162-EDBE2D4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4400" y="1600200"/>
            <a:ext cx="372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2640" y="3964320"/>
            <a:ext cx="7634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8BB-DE40-41C9-B724-07BEA01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94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5760" y="6227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3B6-15E0-463E-9FD7-7667AFD72B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0" y="360"/>
            <a:ext cx="938160" cy="6857640"/>
            <a:chOff x="0" y="360"/>
            <a:chExt cx="938160" cy="6857640"/>
          </a:xfrm>
        </p:grpSpPr>
        <p:sp>
          <p:nvSpPr>
            <p:cNvPr id="6" name="Text Box 9"/>
            <p:cNvSpPr/>
            <p:nvPr/>
          </p:nvSpPr>
          <p:spPr>
            <a:xfrm rot="16200000">
              <a:off x="112320" y="88920"/>
              <a:ext cx="4586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0"/>
            <p:cNvSpPr/>
            <p:nvPr/>
          </p:nvSpPr>
          <p:spPr>
            <a:xfrm rot="16200000">
              <a:off x="-2975760" y="3124080"/>
              <a:ext cx="660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8ec9"/>
                  </a:solidFill>
                  <a:latin typeface="Arial"/>
                </a:rPr>
                <a:t>INTERGOVERNMENTAL PANEL ON CLIMATE CHANG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1"/>
            <p:cNvGrpSpPr/>
            <p:nvPr/>
          </p:nvGrpSpPr>
          <p:grpSpPr>
            <a:xfrm>
              <a:off x="0" y="8280"/>
              <a:ext cx="938160" cy="6849720"/>
              <a:chOff x="0" y="8280"/>
              <a:chExt cx="938160" cy="6849720"/>
            </a:xfrm>
          </p:grpSpPr>
          <p:pic>
            <p:nvPicPr>
              <p:cNvPr id="9" name="Picture 12" descr="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-3092400" y="3101040"/>
                <a:ext cx="6840720" cy="65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3" descr="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-1478160" y="4443120"/>
                <a:ext cx="454536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Picture 14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-358920" y="1021680"/>
                <a:ext cx="231048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" name="Text Box 15"/>
            <p:cNvSpPr/>
            <p:nvPr/>
          </p:nvSpPr>
          <p:spPr>
            <a:xfrm rot="16200000">
              <a:off x="-427680" y="5869080"/>
              <a:ext cx="144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ff"/>
                  </a:solidFill>
                  <a:latin typeface="Arial"/>
                </a:rPr>
                <a:t>Task Force on Inventori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25" descr="rainbow"/>
          <p:cNvPicPr/>
          <p:nvPr/>
        </p:nvPicPr>
        <p:blipFill>
          <a:blip r:embed="rId5"/>
          <a:srcRect l="0" t="0" r="0" b="67167"/>
          <a:stretch/>
        </p:blipFill>
        <p:spPr>
          <a:xfrm>
            <a:off x="1050840" y="1231920"/>
            <a:ext cx="8093160" cy="5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 rot="16200000">
            <a:off x="-2649600" y="3864240"/>
            <a:ext cx="5649840" cy="337320"/>
          </a:xfrm>
          <a:prstGeom prst="rect">
            <a:avLst/>
          </a:prstGeom>
          <a:solidFill>
            <a:srgbClr val="2a7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PCC National Greenhouse Gas Inventory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95280" y="2602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24000" y="18900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ec9"/>
                </a:solidFill>
                <a:latin typeface="Arial"/>
              </a:rPr>
              <a:t>INTERGOVERNMENTAL PANEL ON CLIMATE CH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0" y="0"/>
            <a:ext cx="9143640" cy="1206000"/>
            <a:chOff x="0" y="0"/>
            <a:chExt cx="9143640" cy="1206000"/>
          </a:xfrm>
        </p:grpSpPr>
        <p:pic>
          <p:nvPicPr>
            <p:cNvPr id="54" name="Picture 13" descr=""/>
            <p:cNvPicPr/>
            <p:nvPr/>
          </p:nvPicPr>
          <p:blipFill>
            <a:blip r:embed="rId2"/>
            <a:stretch/>
          </p:blipFill>
          <p:spPr>
            <a:xfrm>
              <a:off x="11880" y="0"/>
              <a:ext cx="9131760" cy="84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3"/>
            <a:stretch/>
          </p:blipFill>
          <p:spPr>
            <a:xfrm>
              <a:off x="0" y="838800"/>
              <a:ext cx="60678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4"/>
            <a:stretch/>
          </p:blipFill>
          <p:spPr>
            <a:xfrm>
              <a:off x="6059160" y="840960"/>
              <a:ext cx="3084480" cy="36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8" descr="rainbow"/>
          <p:cNvPicPr/>
          <p:nvPr/>
        </p:nvPicPr>
        <p:blipFill>
          <a:blip r:embed="rId5"/>
          <a:srcRect l="0" t="67167" r="0" b="0"/>
          <a:stretch/>
        </p:blipFill>
        <p:spPr>
          <a:xfrm>
            <a:off x="0" y="6800760"/>
            <a:ext cx="9144000" cy="57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0" y="666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Task Force on Invento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491160"/>
            <a:ext cx="28958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2572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BCB4-550A-4D73-BF41-C7C1F851FB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0.jpe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7680" y="2130120"/>
            <a:ext cx="8805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PCC Guidelines for National GHG Inventories and Reporting for Forest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5600" y="3886200"/>
            <a:ext cx="879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lin Sriva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CC National Greenhouse Gas Inventorie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Forestry Week/19th Committee on Forestry Sessions in Rom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ch 16-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9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1809720" y="4389480"/>
            <a:ext cx="6689880" cy="39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8072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pproach in IPCC Guidelines for land use and land use change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fluxes occur at widely varying spatial and tempora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Measurement of C fluxes extremely difficult due to heterogeneity of terrestrial ecosystems and uncertainty in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actical first order approach makes two  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ux of C  = changes in carbon stocks in carbon p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in carbon stocks can be estimated from land use and management at various points in time, their impacts on carbon stocks and the biological response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ing Carbon Stock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1368360" y="2006640"/>
          <a:ext cx="6586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006640"/>
                    <a:ext cx="6586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857160" y="5378400"/>
            <a:ext cx="7918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Stock change method                      (b) Gain loss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ular Callout 8"/>
          <p:cNvSpPr/>
          <p:nvPr/>
        </p:nvSpPr>
        <p:spPr>
          <a:xfrm>
            <a:off x="1098720" y="4973760"/>
            <a:ext cx="3336840" cy="696960"/>
          </a:xfrm>
          <a:prstGeom prst="wedgeRectCallout">
            <a:avLst>
              <a:gd name="adj1" fmla="val -2009"/>
              <a:gd name="adj2" fmla="val 7508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by countries with national inventor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ular Callout 11"/>
          <p:cNvSpPr/>
          <p:nvPr/>
        </p:nvSpPr>
        <p:spPr>
          <a:xfrm>
            <a:off x="4692600" y="5005440"/>
            <a:ext cx="3336840" cy="753840"/>
          </a:xfrm>
          <a:prstGeom prst="wedgeRectCallout">
            <a:avLst>
              <a:gd name="adj1" fmla="val -4412"/>
              <a:gd name="adj2" fmla="val 5887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by countries without  national inventor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Pools in different land use categ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1019160" y="1274760"/>
          <a:ext cx="76024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274760"/>
                    <a:ext cx="76024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52640" y="4563720"/>
            <a:ext cx="763416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2155680" y="2111400"/>
            <a:ext cx="1892520" cy="283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3144960" y="1325520"/>
            <a:ext cx="1792080" cy="693720"/>
          </a:xfrm>
          <a:prstGeom prst="wedgeRectCallout">
            <a:avLst>
              <a:gd name="adj1" fmla="val -38574"/>
              <a:gd name="adj2" fmla="val 6990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ing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5002200" y="1335240"/>
            <a:ext cx="1636560" cy="1188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6431040" y="722160"/>
            <a:ext cx="2547720" cy="741600"/>
          </a:xfrm>
          <a:prstGeom prst="wedgeRectCallout">
            <a:avLst>
              <a:gd name="adj1" fmla="val -43643"/>
              <a:gd name="adj2" fmla="val 8297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ries can choose to account for HWP p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4846680" y="2379600"/>
            <a:ext cx="1892160" cy="2370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6595920" y="2614680"/>
            <a:ext cx="2548080" cy="741240"/>
          </a:xfrm>
          <a:prstGeom prst="wedgeRectCallout">
            <a:avLst>
              <a:gd name="adj1" fmla="val -43643"/>
              <a:gd name="adj2" fmla="val 8297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Organic Mat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the carbon stock change add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carbon stock changes for a stratum of a land use categ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C stock changes for a land use categ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665440" y="3387600"/>
            <a:ext cx="324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550960" y="2608200"/>
            <a:ext cx="3513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762280" y="2589120"/>
            <a:ext cx="3503520" cy="12319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995400" y="2558880"/>
            <a:ext cx="781200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LU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=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D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HW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102120" y="4165560"/>
            <a:ext cx="4483080" cy="530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L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=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Σ 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LU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139760" y="5816520"/>
            <a:ext cx="7639200" cy="52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carbon stock changes from all land use catego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FOL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F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G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W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S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needs for estimating emissions/removals from land use and land use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AutoShape 5"/>
          <p:cNvGrpSpPr/>
          <p:nvPr/>
        </p:nvGrpSpPr>
        <p:grpSpPr>
          <a:xfrm>
            <a:off x="3322800" y="1768320"/>
            <a:ext cx="2858760" cy="1017720"/>
            <a:chOff x="3322800" y="1768320"/>
            <a:chExt cx="2858760" cy="1017720"/>
          </a:xfrm>
        </p:grpSpPr>
        <p:pic>
          <p:nvPicPr>
            <p:cNvPr id="229" name="AutoShape 5" descr=""/>
            <p:cNvPicPr/>
            <p:nvPr/>
          </p:nvPicPr>
          <p:blipFill>
            <a:blip r:embed="rId1"/>
            <a:stretch/>
          </p:blipFill>
          <p:spPr>
            <a:xfrm>
              <a:off x="3322800" y="1768320"/>
              <a:ext cx="28587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483000" y="1832040"/>
              <a:ext cx="263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 need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6"/>
          <p:cNvGrpSpPr/>
          <p:nvPr/>
        </p:nvGrpSpPr>
        <p:grpSpPr>
          <a:xfrm>
            <a:off x="1011240" y="3773520"/>
            <a:ext cx="3835440" cy="1768320"/>
            <a:chOff x="1011240" y="3773520"/>
            <a:chExt cx="3835440" cy="1768320"/>
          </a:xfrm>
        </p:grpSpPr>
        <p:pic>
          <p:nvPicPr>
            <p:cNvPr id="232" name="AutoShape 6" descr=""/>
            <p:cNvPicPr/>
            <p:nvPr/>
          </p:nvPicPr>
          <p:blipFill>
            <a:blip r:embed="rId2"/>
            <a:stretch/>
          </p:blipFill>
          <p:spPr>
            <a:xfrm>
              <a:off x="1011240" y="3773520"/>
              <a:ext cx="38354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203480" y="3871800"/>
              <a:ext cx="3538440" cy="13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or area change data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 a land use categor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Activity Data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8"/>
          <p:cNvGrpSpPr/>
          <p:nvPr/>
        </p:nvGrpSpPr>
        <p:grpSpPr>
          <a:xfrm>
            <a:off x="4059360" y="2693880"/>
            <a:ext cx="641160" cy="970200"/>
            <a:chOff x="4059360" y="2693880"/>
            <a:chExt cx="641160" cy="970200"/>
          </a:xfrm>
        </p:grpSpPr>
        <p:pic>
          <p:nvPicPr>
            <p:cNvPr id="235" name="AutoShape 8" descr=""/>
            <p:cNvPicPr/>
            <p:nvPr/>
          </p:nvPicPr>
          <p:blipFill>
            <a:blip r:embed="rId3"/>
            <a:stretch/>
          </p:blipFill>
          <p:spPr>
            <a:xfrm>
              <a:off x="4059360" y="2693880"/>
              <a:ext cx="6411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086600">
              <a:off x="4350960" y="2736720"/>
              <a:ext cx="2174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11"/>
          <p:cNvGrpSpPr/>
          <p:nvPr/>
        </p:nvGrpSpPr>
        <p:grpSpPr>
          <a:xfrm>
            <a:off x="4846680" y="2676600"/>
            <a:ext cx="706320" cy="968400"/>
            <a:chOff x="4846680" y="2676600"/>
            <a:chExt cx="706320" cy="968400"/>
          </a:xfrm>
        </p:grpSpPr>
        <p:pic>
          <p:nvPicPr>
            <p:cNvPr id="238" name="AutoShape 11" descr=""/>
            <p:cNvPicPr/>
            <p:nvPr/>
          </p:nvPicPr>
          <p:blipFill>
            <a:blip r:embed="rId4"/>
            <a:stretch/>
          </p:blipFill>
          <p:spPr>
            <a:xfrm>
              <a:off x="4846680" y="2676600"/>
              <a:ext cx="706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19993800">
              <a:off x="5114520" y="2717280"/>
              <a:ext cx="216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13"/>
          <p:cNvGrpSpPr/>
          <p:nvPr/>
        </p:nvGrpSpPr>
        <p:grpSpPr>
          <a:xfrm>
            <a:off x="4896000" y="3767040"/>
            <a:ext cx="3870000" cy="1731960"/>
            <a:chOff x="4896000" y="3767040"/>
            <a:chExt cx="3870000" cy="1731960"/>
          </a:xfrm>
        </p:grpSpPr>
        <p:pic>
          <p:nvPicPr>
            <p:cNvPr id="241" name="AutoShape 13" descr=""/>
            <p:cNvPicPr/>
            <p:nvPr/>
          </p:nvPicPr>
          <p:blipFill>
            <a:blip r:embed="rId5"/>
            <a:stretch/>
          </p:blipFill>
          <p:spPr>
            <a:xfrm>
              <a:off x="4896000" y="3767040"/>
              <a:ext cx="38700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083200" y="3865680"/>
              <a:ext cx="35780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on on associa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n stoc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Stock change factors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methodological T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52640" y="1434960"/>
            <a:ext cx="78264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C Guidelines pro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ee methodological t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ying in complexity to be chosen on the basis of national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r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first order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arse activity data from global datasets, simplifying assumptions, IPCC default parameters, larg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accurate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saggregated activity data, country specific parameter values, smaller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r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order meth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modeling and/or inventory measurement systems driven by data at higher resolution and much lower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Tier methods (Tier 2&amp;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required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source categ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rce or sink categories that contribute substantially to the overall national inventory level, trend or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MCj02817140000[1]"/>
          <p:cNvPicPr/>
          <p:nvPr/>
        </p:nvPicPr>
        <p:blipFill>
          <a:blip r:embed="rId1"/>
          <a:stretch/>
        </p:blipFill>
        <p:spPr>
          <a:xfrm>
            <a:off x="7547040" y="0"/>
            <a:ext cx="1011240" cy="141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7680" y="2130120"/>
            <a:ext cx="8805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Requirements for Implementation of IPCC Methods for Forest lan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gpgimg"/>
          <p:cNvPicPr/>
          <p:nvPr/>
        </p:nvPicPr>
        <p:blipFill>
          <a:blip r:embed="rId1"/>
          <a:stretch/>
        </p:blipFill>
        <p:spPr>
          <a:xfrm>
            <a:off x="3614760" y="3436920"/>
            <a:ext cx="1782720" cy="2100240"/>
          </a:xfrm>
          <a:prstGeom prst="rect">
            <a:avLst/>
          </a:prstGeom>
          <a:ln w="0">
            <a:noFill/>
          </a:ln>
        </p:spPr>
      </p:pic>
      <p:sp>
        <p:nvSpPr>
          <p:cNvPr id="248" name="Tree"/>
          <p:cNvSpPr/>
          <p:nvPr/>
        </p:nvSpPr>
        <p:spPr>
          <a:xfrm>
            <a:off x="3684600" y="34704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stock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tocks in the forest land vary by climate, soil, forest type, management practices, disturbance regime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IPCC methods (Tier 1) use default data on carbon stocks on broad continental scales stratified by climate, eco-zone, forest type and continent  and do not capture the differences due to human induced disturbances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ification for Tier 1 methods in IPCC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71440" y="1298520"/>
          <a:ext cx="7531200" cy="5384880"/>
        </p:xfrm>
        <a:graphic>
          <a:graphicData uri="http://schemas.openxmlformats.org/drawingml/2006/table">
            <a:tbl>
              <a:tblPr/>
              <a:tblGrid>
                <a:gridCol w="2509920"/>
                <a:gridCol w="2511360"/>
                <a:gridCol w="250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il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logical Z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temperate d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temperate w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 temperate d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 temperate mo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d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mo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w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activity cl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ctivity cl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d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can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la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rain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moist deciduous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dry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shrubla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deser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 mountain sys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opical humid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opical dry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opical step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opical deser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opical mountain sys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e oceanic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e continental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e step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e deser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e mountain sys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al coniferous fore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al tundra woodla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al mountain sys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er Tier stratificatio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14480" y="1168560"/>
            <a:ext cx="78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curate (higher tier) methods require country specific data with a finer disaggregation of carbon stocks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disturbance (primary, secondary, logge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r 2/3 data from national inventories and/or modeling approaches will likely be required for REDD esti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C Guidelines on national greenhouse gas inven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 of IPCC Guidelines in the context of UNF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C methodologies for estimation of emissions from land use and land us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ments for implementation of IPCC methods for Forest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NFMA in suppor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HG inventories and RE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on area and area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nd use and land use change area should be disaggregated to match the carbon stock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stratification scheme for Tier 1 methods is based on the classification scheme for the default Carbon stocks and other parameters given in IPCC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ier methods require finer level of area stratification to match the more disaggregated information on C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approaches for area change re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38320" y="1468440"/>
          <a:ext cx="7548480" cy="4932360"/>
        </p:xfrm>
        <a:graphic>
          <a:graphicData uri="http://schemas.openxmlformats.org/drawingml/2006/table">
            <a:tbl>
              <a:tblPr/>
              <a:tblGrid>
                <a:gridCol w="2516040"/>
                <a:gridCol w="2516400"/>
                <a:gridCol w="251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area of land use for various land use categories; no tracking of land use convers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ing of land use conversion on a non-spatially explicit bas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ing of land use conversion on a spatially explicit bas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-Net changes between categor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-net changes between categor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-net changes between categories &amp; within categor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8880" y="1257120"/>
            <a:ext cx="811512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forest/ land use invent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census (agricultural census, urban census 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sensing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C Guidelines default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O data (FRA, FAO Yearbook of Forest Product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land cover data sets (IGBP/DIS, USGS, GLCF, CLC2000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to be considered for data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52280" y="1380960"/>
            <a:ext cx="778644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data shoul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equ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ste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le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are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land use and land use transitions within the whol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scheme may differ from the national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resolution of area data (M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accuracy and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to be considered…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ness (wall-to-wall/samp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ailability of consistent and reliabl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storical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data on forest land area is essential for R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7680" y="2130120"/>
            <a:ext cx="8805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NFMA in Suppor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GHG Inventories and RE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45600" y="3886200"/>
            <a:ext cx="8798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3719520" y="3957480"/>
            <a:ext cx="2009880" cy="1914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64800" y="189000"/>
            <a:ext cx="81788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NFMA in suppor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GHG inventories and RE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47600" y="1314360"/>
            <a:ext cx="76392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te, robust and reliable information on forests and other land uses critical to UNFCCC GHG reporting, future REDD regime and other internatio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FMA has the potential to respond effectively to the information needs of UNFCCC process and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MA should support regular and consistent monitoring of C stocks, area and area changes of forestland and other land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NFMA…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39320" y="1257480"/>
            <a:ext cx="7939080" cy="49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MA should help gather information of all C pools at a higher level of disaggregation to support higher ti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collection efforts and sampling intensity should aim at a level of reliability that can be applicable to higher tier methods and RED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MA should aim at creating and enhancing national technical and institutional capacity to undertake regular monitoring of forests and other land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03040" y="1396800"/>
            <a:ext cx="779940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CC methodologies give detailed methods with varying degrees of complexity for different national circumstances for estimation of national GHG emissions and removals and can potentially be applied to R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and consistent Information on C stocks and areas of land use and land use changes is essential for estimating national GHG emissions and removals and R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MA process can be fine-tuned to adequately respond to the increased data needs for UNFCCC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7680" y="2130120"/>
            <a:ext cx="8805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C Guidelines in all UN languages can be downloaded from www.ipcc-nggip.or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PCC Guidelines for National Greenhouse Gas Inven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69480" y="1362240"/>
            <a:ext cx="48596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vised 1996 Guidelines -Land-Use Change and Forestry (LU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000 Good Practice Guidance and Uncertainty Management (GPG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ood Practice Guidance for Land Use, Land-Use Change and Forestry (GPG-LULU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006 IPCC Guidelines for National Greenhouse Gas Inven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5979960" y="2481120"/>
            <a:ext cx="1822680" cy="1966680"/>
            <a:chOff x="5979960" y="2481120"/>
            <a:chExt cx="1822680" cy="1966680"/>
          </a:xfrm>
        </p:grpSpPr>
        <p:pic>
          <p:nvPicPr>
            <p:cNvPr id="113" name="Picture 5" descr=""/>
            <p:cNvPicPr/>
            <p:nvPr/>
          </p:nvPicPr>
          <p:blipFill>
            <a:blip r:embed="rId1"/>
            <a:stretch/>
          </p:blipFill>
          <p:spPr>
            <a:xfrm>
              <a:off x="5979960" y="2481120"/>
              <a:ext cx="111564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6333840" y="2714400"/>
              <a:ext cx="111564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3"/>
            <a:stretch/>
          </p:blipFill>
          <p:spPr>
            <a:xfrm>
              <a:off x="6687000" y="2994480"/>
              <a:ext cx="1115640" cy="145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900840" y="3292560"/>
            <a:ext cx="1449360" cy="153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gpgimg"/>
          <p:cNvPicPr/>
          <p:nvPr/>
        </p:nvPicPr>
        <p:blipFill>
          <a:blip r:embed="rId5"/>
          <a:stretch/>
        </p:blipFill>
        <p:spPr>
          <a:xfrm>
            <a:off x="7693200" y="3726000"/>
            <a:ext cx="1450800" cy="170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0"/>
          <p:cNvGrpSpPr/>
          <p:nvPr/>
        </p:nvGrpSpPr>
        <p:grpSpPr>
          <a:xfrm>
            <a:off x="6272280" y="1306440"/>
            <a:ext cx="2289240" cy="5551200"/>
            <a:chOff x="6272280" y="1306440"/>
            <a:chExt cx="2289240" cy="5551200"/>
          </a:xfrm>
        </p:grpSpPr>
        <p:pic>
          <p:nvPicPr>
            <p:cNvPr id="119" name="Picture 11" descr="vol5"/>
            <p:cNvPicPr/>
            <p:nvPr/>
          </p:nvPicPr>
          <p:blipFill>
            <a:blip r:embed="rId6"/>
            <a:stretch/>
          </p:blipFill>
          <p:spPr>
            <a:xfrm>
              <a:off x="7415280" y="1306440"/>
              <a:ext cx="11462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2" descr="vol4_2"/>
            <p:cNvPicPr/>
            <p:nvPr/>
          </p:nvPicPr>
          <p:blipFill>
            <a:blip r:embed="rId7"/>
            <a:stretch/>
          </p:blipFill>
          <p:spPr>
            <a:xfrm>
              <a:off x="6272280" y="2066760"/>
              <a:ext cx="11462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vol4_1"/>
            <p:cNvPicPr/>
            <p:nvPr/>
          </p:nvPicPr>
          <p:blipFill>
            <a:blip r:embed="rId8"/>
            <a:stretch/>
          </p:blipFill>
          <p:spPr>
            <a:xfrm>
              <a:off x="7415280" y="2690640"/>
              <a:ext cx="11462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4" descr="vol3_2"/>
            <p:cNvPicPr/>
            <p:nvPr/>
          </p:nvPicPr>
          <p:blipFill>
            <a:blip r:embed="rId9"/>
            <a:stretch/>
          </p:blipFill>
          <p:spPr>
            <a:xfrm>
              <a:off x="6272280" y="3449520"/>
              <a:ext cx="1146240" cy="13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5" descr="vol3_1"/>
            <p:cNvPicPr/>
            <p:nvPr/>
          </p:nvPicPr>
          <p:blipFill>
            <a:blip r:embed="rId10"/>
            <a:stretch/>
          </p:blipFill>
          <p:spPr>
            <a:xfrm>
              <a:off x="7415280" y="4084560"/>
              <a:ext cx="1146240" cy="13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6" descr="vol2"/>
            <p:cNvPicPr/>
            <p:nvPr/>
          </p:nvPicPr>
          <p:blipFill>
            <a:blip r:embed="rId11"/>
            <a:stretch/>
          </p:blipFill>
          <p:spPr>
            <a:xfrm>
              <a:off x="6272280" y="4838400"/>
              <a:ext cx="114624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7" descr="vol1"/>
            <p:cNvPicPr/>
            <p:nvPr/>
          </p:nvPicPr>
          <p:blipFill>
            <a:blip r:embed="rId12"/>
            <a:stretch/>
          </p:blipFill>
          <p:spPr>
            <a:xfrm>
              <a:off x="7415280" y="5465520"/>
              <a:ext cx="1146240" cy="139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of IPCC Guidelines on Land Use and Land Use Change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52640" y="160020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996 IPCC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and Land Use and Change and Forestry (LUCF) separ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the most important activities resulting in GHG emissions/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mplicit assumption about estimating emissions and removals only over lands subject to human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PG2000 &amp; GPG-LULU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lly addr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od pract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uncertainty management in national GHG inventor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PG-LULUC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re-organized all emissions and removals from land use activities into six broad land-us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PG-LULUC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rst used managed land as a proxy for anthropogenic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of IPCC Guidelines on Land Use and Land Use Change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52640" y="1599840"/>
            <a:ext cx="763416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2006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tegration of Agriculture and LUCF/LULUCF sectors into ‘Agriculture Forestry and Land Use’ (AFOLU) to remove inconsistencies and doubl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tained the basic structure of GPG-LULU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tained and made more explicit the concept of managed land as a proxy for anthropogenic emissions and rem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mproved guidance on H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urther refinement of methods and improved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evance of IPCC Guidelines in the context of UNFC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52640" y="1345680"/>
            <a:ext cx="7812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CCC and Kyoto Protocol require the parties to report their national greenhouse gas inventories using the IPCC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G2000 and GPG-LULUCF are mandatory for the Annex I countries while Non-Annex I countries are encouraged to use them for reporting their GHG inventories to the UNFC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Decision 2/CP.13 of ‘Bali Action Plan’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encourag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the use of the most recent (GPG- LULUCF) IPCC Guidelines as a basis for reporting greenhouse gas emissions from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645240" y="758880"/>
            <a:ext cx="1542960" cy="590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7680" y="2130120"/>
            <a:ext cx="8805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CC Methodologies for Estimation of Emissions from Land Use and Land Us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6791400" y="3232080"/>
            <a:ext cx="1498320" cy="3625560"/>
            <a:chOff x="6791400" y="3232080"/>
            <a:chExt cx="1498320" cy="3625560"/>
          </a:xfrm>
        </p:grpSpPr>
        <p:pic>
          <p:nvPicPr>
            <p:cNvPr id="135" name="Picture 7" descr="vol5"/>
            <p:cNvPicPr/>
            <p:nvPr/>
          </p:nvPicPr>
          <p:blipFill>
            <a:blip r:embed="rId1"/>
            <a:stretch/>
          </p:blipFill>
          <p:spPr>
            <a:xfrm>
              <a:off x="7539480" y="3232080"/>
              <a:ext cx="75024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vol4_2"/>
            <p:cNvPicPr/>
            <p:nvPr/>
          </p:nvPicPr>
          <p:blipFill>
            <a:blip r:embed="rId2"/>
            <a:stretch/>
          </p:blipFill>
          <p:spPr>
            <a:xfrm>
              <a:off x="6791400" y="3728520"/>
              <a:ext cx="75024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9" descr="vol4_1"/>
            <p:cNvPicPr/>
            <p:nvPr/>
          </p:nvPicPr>
          <p:blipFill>
            <a:blip r:embed="rId3"/>
            <a:stretch/>
          </p:blipFill>
          <p:spPr>
            <a:xfrm>
              <a:off x="7539480" y="4136040"/>
              <a:ext cx="75024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0" descr="vol3_2"/>
            <p:cNvPicPr/>
            <p:nvPr/>
          </p:nvPicPr>
          <p:blipFill>
            <a:blip r:embed="rId4"/>
            <a:stretch/>
          </p:blipFill>
          <p:spPr>
            <a:xfrm>
              <a:off x="6791400" y="4631760"/>
              <a:ext cx="750240" cy="9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1" descr="vol3_1"/>
            <p:cNvPicPr/>
            <p:nvPr/>
          </p:nvPicPr>
          <p:blipFill>
            <a:blip r:embed="rId5"/>
            <a:stretch/>
          </p:blipFill>
          <p:spPr>
            <a:xfrm>
              <a:off x="7539480" y="5046480"/>
              <a:ext cx="750240" cy="9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vol2"/>
            <p:cNvPicPr/>
            <p:nvPr/>
          </p:nvPicPr>
          <p:blipFill>
            <a:blip r:embed="rId6"/>
            <a:stretch/>
          </p:blipFill>
          <p:spPr>
            <a:xfrm>
              <a:off x="6791400" y="5538960"/>
              <a:ext cx="750240" cy="9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3" descr="vol1"/>
            <p:cNvPicPr/>
            <p:nvPr/>
          </p:nvPicPr>
          <p:blipFill>
            <a:blip r:embed="rId7"/>
            <a:stretch/>
          </p:blipFill>
          <p:spPr>
            <a:xfrm>
              <a:off x="7539480" y="5948640"/>
              <a:ext cx="750240" cy="90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4" descr="gpgimg"/>
          <p:cNvPicPr/>
          <p:nvPr/>
        </p:nvPicPr>
        <p:blipFill>
          <a:blip r:embed="rId8"/>
          <a:stretch/>
        </p:blipFill>
        <p:spPr>
          <a:xfrm>
            <a:off x="3862440" y="4064040"/>
            <a:ext cx="1450800" cy="170964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5"/>
          <p:cNvGrpSpPr/>
          <p:nvPr/>
        </p:nvGrpSpPr>
        <p:grpSpPr>
          <a:xfrm>
            <a:off x="723960" y="3675240"/>
            <a:ext cx="1821960" cy="1966680"/>
            <a:chOff x="723960" y="3675240"/>
            <a:chExt cx="1821960" cy="1966680"/>
          </a:xfrm>
        </p:grpSpPr>
        <p:pic>
          <p:nvPicPr>
            <p:cNvPr id="144" name="Picture 16" descr=""/>
            <p:cNvPicPr/>
            <p:nvPr/>
          </p:nvPicPr>
          <p:blipFill>
            <a:blip r:embed="rId9"/>
            <a:stretch/>
          </p:blipFill>
          <p:spPr>
            <a:xfrm>
              <a:off x="723960" y="3675240"/>
              <a:ext cx="111528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7" descr=""/>
            <p:cNvPicPr/>
            <p:nvPr/>
          </p:nvPicPr>
          <p:blipFill>
            <a:blip r:embed="rId10"/>
            <a:stretch/>
          </p:blipFill>
          <p:spPr>
            <a:xfrm>
              <a:off x="1077840" y="3908520"/>
              <a:ext cx="1115640" cy="14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8" descr=""/>
            <p:cNvPicPr/>
            <p:nvPr/>
          </p:nvPicPr>
          <p:blipFill>
            <a:blip r:embed="rId11"/>
            <a:stretch/>
          </p:blipFill>
          <p:spPr>
            <a:xfrm>
              <a:off x="1430640" y="4188600"/>
              <a:ext cx="1115280" cy="14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AutoShape 19"/>
          <p:cNvSpPr/>
          <p:nvPr/>
        </p:nvSpPr>
        <p:spPr>
          <a:xfrm>
            <a:off x="2714760" y="4889520"/>
            <a:ext cx="779400" cy="317520"/>
          </a:xfrm>
          <a:custGeom>
            <a:avLst/>
            <a:gdLst>
              <a:gd name="textAreaLeft" fmla="*/ 136440 w 779400"/>
              <a:gd name="textAreaRight" fmla="*/ 565200 w 779400"/>
              <a:gd name="textAreaTop" fmla="*/ 42480 h 317520"/>
              <a:gd name="textAreaBottom" fmla="*/ 2750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5592600" y="4803840"/>
            <a:ext cx="981360" cy="365040"/>
          </a:xfrm>
          <a:custGeom>
            <a:avLst/>
            <a:gdLst>
              <a:gd name="textAreaLeft" fmla="*/ 171720 w 981360"/>
              <a:gd name="textAreaRight" fmla="*/ 711720 w 981360"/>
              <a:gd name="textAreaTop" fmla="*/ 48600 h 365040"/>
              <a:gd name="textAreaBottom" fmla="*/ 3164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5440" y="18900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 Land Use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4"/>
          <p:cNvGrpSpPr/>
          <p:nvPr/>
        </p:nvGrpSpPr>
        <p:grpSpPr>
          <a:xfrm>
            <a:off x="2054160" y="3035160"/>
            <a:ext cx="1255680" cy="1219320"/>
            <a:chOff x="2054160" y="3035160"/>
            <a:chExt cx="1255680" cy="1219320"/>
          </a:xfrm>
        </p:grpSpPr>
        <p:pic>
          <p:nvPicPr>
            <p:cNvPr id="151" name="Oval 4" descr=""/>
            <p:cNvPicPr/>
            <p:nvPr/>
          </p:nvPicPr>
          <p:blipFill>
            <a:blip r:embed="rId1"/>
            <a:stretch/>
          </p:blipFill>
          <p:spPr>
            <a:xfrm>
              <a:off x="2054160" y="3035160"/>
              <a:ext cx="1255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55760" y="3232080"/>
              <a:ext cx="8571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la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Oval 5"/>
          <p:cNvGrpSpPr/>
          <p:nvPr/>
        </p:nvGrpSpPr>
        <p:grpSpPr>
          <a:xfrm>
            <a:off x="2816280" y="1743120"/>
            <a:ext cx="1249200" cy="1212840"/>
            <a:chOff x="2816280" y="1743120"/>
            <a:chExt cx="1249200" cy="1212840"/>
          </a:xfrm>
        </p:grpSpPr>
        <p:pic>
          <p:nvPicPr>
            <p:cNvPr id="154" name="Oval 5" descr=""/>
            <p:cNvPicPr/>
            <p:nvPr/>
          </p:nvPicPr>
          <p:blipFill>
            <a:blip r:embed="rId2"/>
            <a:stretch/>
          </p:blipFill>
          <p:spPr>
            <a:xfrm>
              <a:off x="2816280" y="1743120"/>
              <a:ext cx="12492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011400" y="1936800"/>
              <a:ext cx="8571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est la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6"/>
          <p:cNvGrpSpPr/>
          <p:nvPr/>
        </p:nvGrpSpPr>
        <p:grpSpPr>
          <a:xfrm>
            <a:off x="2919240" y="4309920"/>
            <a:ext cx="1251000" cy="1219320"/>
            <a:chOff x="2919240" y="4309920"/>
            <a:chExt cx="1251000" cy="1219320"/>
          </a:xfrm>
        </p:grpSpPr>
        <p:pic>
          <p:nvPicPr>
            <p:cNvPr id="157" name="Oval 6" descr=""/>
            <p:cNvPicPr/>
            <p:nvPr/>
          </p:nvPicPr>
          <p:blipFill>
            <a:blip r:embed="rId3"/>
            <a:stretch/>
          </p:blipFill>
          <p:spPr>
            <a:xfrm>
              <a:off x="2919240" y="4309920"/>
              <a:ext cx="1251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117960" y="4505400"/>
              <a:ext cx="857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tlemen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Oval 7"/>
          <p:cNvGrpSpPr/>
          <p:nvPr/>
        </p:nvGrpSpPr>
        <p:grpSpPr>
          <a:xfrm>
            <a:off x="4541760" y="4206960"/>
            <a:ext cx="1255680" cy="1218960"/>
            <a:chOff x="4541760" y="4206960"/>
            <a:chExt cx="1255680" cy="1218960"/>
          </a:xfrm>
        </p:grpSpPr>
        <p:pic>
          <p:nvPicPr>
            <p:cNvPr id="160" name="Oval 7" descr=""/>
            <p:cNvPicPr/>
            <p:nvPr/>
          </p:nvPicPr>
          <p:blipFill>
            <a:blip r:embed="rId4"/>
            <a:stretch/>
          </p:blipFill>
          <p:spPr>
            <a:xfrm>
              <a:off x="4541760" y="4206960"/>
              <a:ext cx="12556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743360" y="4402080"/>
              <a:ext cx="85752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tla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Oval 8"/>
          <p:cNvGrpSpPr/>
          <p:nvPr/>
        </p:nvGrpSpPr>
        <p:grpSpPr>
          <a:xfrm>
            <a:off x="4395960" y="1670040"/>
            <a:ext cx="1255680" cy="1219320"/>
            <a:chOff x="4395960" y="1670040"/>
            <a:chExt cx="1255680" cy="1219320"/>
          </a:xfrm>
        </p:grpSpPr>
        <p:pic>
          <p:nvPicPr>
            <p:cNvPr id="163" name="Oval 8" descr=""/>
            <p:cNvPicPr/>
            <p:nvPr/>
          </p:nvPicPr>
          <p:blipFill>
            <a:blip r:embed="rId5"/>
            <a:stretch/>
          </p:blipFill>
          <p:spPr>
            <a:xfrm>
              <a:off x="4395960" y="1670040"/>
              <a:ext cx="1255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99000" y="1868400"/>
              <a:ext cx="8571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Oval 9"/>
          <p:cNvGrpSpPr/>
          <p:nvPr/>
        </p:nvGrpSpPr>
        <p:grpSpPr>
          <a:xfrm>
            <a:off x="5353200" y="2889360"/>
            <a:ext cx="1255680" cy="1212840"/>
            <a:chOff x="5353200" y="2889360"/>
            <a:chExt cx="1255680" cy="1212840"/>
          </a:xfrm>
        </p:grpSpPr>
        <p:pic>
          <p:nvPicPr>
            <p:cNvPr id="166" name="Oval 9" descr=""/>
            <p:cNvPicPr/>
            <p:nvPr/>
          </p:nvPicPr>
          <p:blipFill>
            <a:blip r:embed="rId6"/>
            <a:stretch/>
          </p:blipFill>
          <p:spPr>
            <a:xfrm>
              <a:off x="5353200" y="2889360"/>
              <a:ext cx="12556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553000" y="3083040"/>
              <a:ext cx="857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assla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3792600" y="2840040"/>
            <a:ext cx="1020600" cy="1521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3282840" y="3532320"/>
            <a:ext cx="2098800" cy="39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3759120" y="2804760"/>
            <a:ext cx="1077840" cy="1531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V="1">
            <a:off x="3289320" y="2847960"/>
            <a:ext cx="1539720" cy="7221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386160" y="3587760"/>
            <a:ext cx="1378080" cy="757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V="1">
            <a:off x="4753080" y="2876040"/>
            <a:ext cx="77760" cy="14274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 flipV="1">
            <a:off x="2790720" y="2742840"/>
            <a:ext cx="154080" cy="307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4032360" y="2174760"/>
            <a:ext cx="3571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5545080" y="2598840"/>
            <a:ext cx="192240" cy="353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1"/>
          <p:cNvSpPr/>
          <p:nvPr/>
        </p:nvSpPr>
        <p:spPr>
          <a:xfrm>
            <a:off x="2935440" y="4186080"/>
            <a:ext cx="182520" cy="298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4157640" y="4898520"/>
            <a:ext cx="405000" cy="1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5630760" y="4091040"/>
            <a:ext cx="250920" cy="355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 flipV="1">
            <a:off x="3743280" y="2935440"/>
            <a:ext cx="77760" cy="13572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3830760" y="2859120"/>
            <a:ext cx="1511280" cy="6350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 flipV="1">
            <a:off x="3809880" y="3559320"/>
            <a:ext cx="1549440" cy="769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360" y="189000"/>
            <a:ext cx="79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issions and removals from a land use categ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AutoShape 4"/>
          <p:cNvGrpSpPr/>
          <p:nvPr/>
        </p:nvGrpSpPr>
        <p:grpSpPr>
          <a:xfrm>
            <a:off x="4632480" y="2981160"/>
            <a:ext cx="4151160" cy="884520"/>
            <a:chOff x="4632480" y="2981160"/>
            <a:chExt cx="4151160" cy="884520"/>
          </a:xfrm>
        </p:grpSpPr>
        <p:pic>
          <p:nvPicPr>
            <p:cNvPr id="185" name="AutoShape 4" descr=""/>
            <p:cNvPicPr/>
            <p:nvPr/>
          </p:nvPicPr>
          <p:blipFill>
            <a:blip r:embed="rId1"/>
            <a:stretch/>
          </p:blipFill>
          <p:spPr>
            <a:xfrm>
              <a:off x="4632480" y="2981160"/>
              <a:ext cx="415116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13120" y="3116160"/>
              <a:ext cx="394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nd remaining in t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me land use category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AutoShape 5"/>
          <p:cNvGrpSpPr/>
          <p:nvPr/>
        </p:nvGrpSpPr>
        <p:grpSpPr>
          <a:xfrm>
            <a:off x="4651200" y="4151160"/>
            <a:ext cx="4194360" cy="884520"/>
            <a:chOff x="4651200" y="4151160"/>
            <a:chExt cx="4194360" cy="884520"/>
          </a:xfrm>
        </p:grpSpPr>
        <p:pic>
          <p:nvPicPr>
            <p:cNvPr id="188" name="AutoShape 5" descr=""/>
            <p:cNvPicPr/>
            <p:nvPr/>
          </p:nvPicPr>
          <p:blipFill>
            <a:blip r:embed="rId2"/>
            <a:stretch/>
          </p:blipFill>
          <p:spPr>
            <a:xfrm>
              <a:off x="4651200" y="4151160"/>
              <a:ext cx="419436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27520" y="4284720"/>
              <a:ext cx="39877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nd changed to the land use category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om other land use categori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6"/>
          <p:cNvGrpSpPr/>
          <p:nvPr/>
        </p:nvGrpSpPr>
        <p:grpSpPr>
          <a:xfrm>
            <a:off x="1011240" y="3633840"/>
            <a:ext cx="3043080" cy="882720"/>
            <a:chOff x="1011240" y="3633840"/>
            <a:chExt cx="3043080" cy="882720"/>
          </a:xfrm>
        </p:grpSpPr>
        <p:pic>
          <p:nvPicPr>
            <p:cNvPr id="191" name="AutoShape 6" descr=""/>
            <p:cNvPicPr/>
            <p:nvPr/>
          </p:nvPicPr>
          <p:blipFill>
            <a:blip r:embed="rId3"/>
            <a:stretch/>
          </p:blipFill>
          <p:spPr>
            <a:xfrm>
              <a:off x="1011240" y="3633840"/>
              <a:ext cx="304308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092240" y="3765600"/>
              <a:ext cx="28335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emissions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om a land use category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8"/>
          <p:cNvGrpSpPr/>
          <p:nvPr/>
        </p:nvGrpSpPr>
        <p:grpSpPr>
          <a:xfrm>
            <a:off x="3962520" y="3456000"/>
            <a:ext cx="706320" cy="573120"/>
            <a:chOff x="3962520" y="3456000"/>
            <a:chExt cx="706320" cy="573120"/>
          </a:xfrm>
        </p:grpSpPr>
        <p:pic>
          <p:nvPicPr>
            <p:cNvPr id="194" name="AutoShape 8" descr=""/>
            <p:cNvPicPr/>
            <p:nvPr/>
          </p:nvPicPr>
          <p:blipFill>
            <a:blip r:embed="rId4"/>
            <a:stretch/>
          </p:blipFill>
          <p:spPr>
            <a:xfrm>
              <a:off x="3962520" y="3456000"/>
              <a:ext cx="706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57400">
              <a:off x="4016160" y="3708000"/>
              <a:ext cx="523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9"/>
          <p:cNvGrpSpPr/>
          <p:nvPr/>
        </p:nvGrpSpPr>
        <p:grpSpPr>
          <a:xfrm>
            <a:off x="3865680" y="4248000"/>
            <a:ext cx="871560" cy="946440"/>
            <a:chOff x="3865680" y="4248000"/>
            <a:chExt cx="871560" cy="946440"/>
          </a:xfrm>
        </p:grpSpPr>
        <p:pic>
          <p:nvPicPr>
            <p:cNvPr id="197" name="AutoShape 9" descr=""/>
            <p:cNvPicPr/>
            <p:nvPr/>
          </p:nvPicPr>
          <p:blipFill>
            <a:blip r:embed="rId5"/>
            <a:stretch/>
          </p:blipFill>
          <p:spPr>
            <a:xfrm>
              <a:off x="3865680" y="4248000"/>
              <a:ext cx="87156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07000">
              <a:off x="4022280" y="4327560"/>
              <a:ext cx="514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0"/>
          <p:cNvSpPr/>
          <p:nvPr/>
        </p:nvSpPr>
        <p:spPr>
          <a:xfrm>
            <a:off x="1030320" y="5402160"/>
            <a:ext cx="7918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missions/removals are reported under the final land use categ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5:27:34Z</dcterms:created>
  <dc:creator>eggleston</dc:creator>
  <dc:description/>
  <dc:language>en-US</dc:language>
  <cp:lastModifiedBy>Unset</cp:lastModifiedBy>
  <dcterms:modified xsi:type="dcterms:W3CDTF">2009-03-18T07:53:54Z</dcterms:modified>
  <cp:revision>173</cp:revision>
  <dc:subject/>
  <dc:title>Slide 1</dc:title>
</cp:coreProperties>
</file>