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D8A-7A32-47DF-A018-838D82A7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91A-B32B-4DA3-9C85-7A8E974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EDC-2CA0-4EF9-B27E-803945E1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A2C-EDB6-49E7-BFA5-D2A5C525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2A4-B3E9-41E8-B2F7-B3B980A7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E22-362F-45D3-ACEC-2B46F520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F9B-A4A9-424F-846B-A1D4374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5DD-CB8C-403E-9AB7-B41F003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4CB-B8A0-4ACF-8F2E-99463D65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E26-EBF6-45B9-A800-EC5DE17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835-6C85-44C3-99DE-91A92499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577-3785-4365-980E-BAED1CC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A96B-0532-4E1D-BBAC-9F66668812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 FOR CONSIDERATION DURING THE HOF DIALOGU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levance of public sector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public sector forestry agencies remaining relev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neral changes in public sector instit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has change been handled in your depart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r responses compare with other government department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unctional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efining tasks, are there systematic efforts and effective tools and approaches to identify the clients or customers and their need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uctural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structural changes in your organization based primarily on changes in the functions, or are changes necessary even when functions remain intac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most ideal framework for your in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the greatest constraints and opportunities in accomplishing your vis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NEL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arma Dukp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Bhut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im Farre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Can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exandrou Charalambo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Cyp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an-Luc Guitto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mes Sing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Guy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tar Cissé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Seneg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rik Kosenkraniu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EUSTA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3:36:56Z</dcterms:created>
  <dc:creator>Rutt, Rebecca (FOEL)</dc:creator>
  <dc:description/>
  <dc:language>en-US</dc:language>
  <cp:lastModifiedBy>Casa, Maria (FOEL)</cp:lastModifiedBy>
  <dcterms:modified xsi:type="dcterms:W3CDTF">2009-03-27T11:06:11Z</dcterms:modified>
  <cp:revision>7</cp:revision>
  <dc:subject/>
  <dc:title>ISSUES FOR CONSIDERATION DURING THE HOF DIALOGUE </dc:title>
</cp:coreProperties>
</file>