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120" y="394848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34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8344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4828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444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12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4828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444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12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8344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8344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834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8344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834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120" y="394848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608120" y="2066760"/>
            <a:ext cx="7535880" cy="3800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9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5212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646280" y="6186600"/>
            <a:ext cx="3070080" cy="58248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27640" y="6127920"/>
            <a:ext cx="268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6699"/>
                </a:solidFill>
                <a:latin typeface="Verdana"/>
              </a:rPr>
              <a:t>Konstantin von Teuff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6699"/>
                </a:solidFill>
                <a:latin typeface="Verdana"/>
              </a:rPr>
              <a:t>IUFRO Group 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4920" y="1268280"/>
            <a:ext cx="7705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Verdana"/>
              </a:rPr>
              <a:t>Forest Research Management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Verdana"/>
              </a:rPr>
              <a:t>in an Era of Globalization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19280" y="3068640"/>
            <a:ext cx="7345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orld Forestry Week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6 – 18 March 2009, Rome, Ita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cietal needs and research reality – the future of public foresty re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Verdana"/>
              </a:rPr>
              <a:t>Konstantin von Teuffel,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rest Research Institute Baden-Württemberg, Freiburg, German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UFRO Group 6/06 “Directors Forum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5950080"/>
            <a:ext cx="194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Funding and financing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90560" y="133992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Stable core funding inevitab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50% plus!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etitive third party funds, i.e.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“soft money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mportant also for quality assu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nt trend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cu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re funding (forestry no “hot issue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more competitive fund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“restricted to projects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blem: shift from expertise to mone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Funding and financing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nt trends (ctd.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</a:t>
            </a: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problem-orient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integrated programs, less single research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&gt; more integ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&gt; loss of disciplinary fo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</a:t>
            </a: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cross sector &amp; cross disciplinar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allenge: how to find excellent partner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</a:t>
            </a: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participator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esearch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Hot topics and emerging challenges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sources of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UFRO  Directors Forum, Washington DC 2007 (excerp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UFRO Division 6 propos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FS main challe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ropean Forest Institute (EFI) strate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st Technology Platform (FTP) strategic research 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tional Forest Research Instit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Hot topics and emerging challenges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0720" y="1700280"/>
            <a:ext cx="73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p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Verdana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stainability of forests &amp; forest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viability of forest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uation of non commercial forest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ests and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Hot topics and emerging challenges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20360" y="1700280"/>
            <a:ext cx="727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tics and bre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verty allev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st ecosystem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b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asive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st fi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-27000"/>
            <a:ext cx="759636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20491200">
            <a:off x="2275920" y="2631960"/>
            <a:ext cx="61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Structure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2257200"/>
            <a:ext cx="7086600" cy="30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public forestry research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ting the 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ing quality and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ing and financ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t topics and emerging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7760" y="27468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Why public forestry research?</a:t>
            </a:r>
            <a:br>
              <a:rPr sz="3200"/>
            </a:b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(in comparison with universities)</a:t>
            </a:r>
            <a:endParaRPr b="0" lang="en-US" sz="2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2257200"/>
            <a:ext cx="7086600" cy="31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Quic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action to emerging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Unbias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of the art knowledge for policy ad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 term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monitoring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s for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relevant and appli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Setting the agenda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45368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major aspects: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Who and 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let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cientis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t the agenda alon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prevent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politicia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doing alone als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beyond disciplines and sectors =&gt; challenge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Setting the agenda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95696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on between politicians and scientis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(push AND pull!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sts: anticipate future top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ians: give some freedom (foresight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Setting the agenda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55700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tructured proce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evitable (vs. freestyl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ingly scarce resources =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trategy proces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.g. IUFRO, EFI, CIFOR, national institutions) use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a of conflict for public research institutes: assigned tasks vs.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ities increasingly challe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loose innovation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 rot="21079200">
            <a:off x="2771280" y="5035680"/>
            <a:ext cx="6337440" cy="914400"/>
          </a:xfrm>
          <a:prstGeom prst="ellipse">
            <a:avLst/>
          </a:prstGeom>
          <a:solidFill>
            <a:srgbClr val="ffff00">
              <a:alpha val="5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research vs. breaking new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Setting the agenda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57000"/>
            <a:ext cx="7086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Verdana"/>
              </a:rPr>
              <a:t>How? (ctd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Verdana"/>
              </a:rPr>
              <a:t>foresight studi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s instruments to anticipate upcoming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Ensuring quality and efficiency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80840" y="1555920"/>
            <a:ext cx="74278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and exter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rnal: classical instr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ed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public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citation indices 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aware of limitations! (“citation circles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 of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oft mone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ational performance indicators for benchmarking use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 rot="20663400">
            <a:off x="4506840" y="3738240"/>
            <a:ext cx="4025880" cy="12031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n’t be too mechan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Ensuring quality and efficiency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1483920"/>
            <a:ext cx="73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ethical standards</a:t>
            </a: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consequences for your institution: organisation, structures, documentation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ive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cience control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ystems (by when, with how many resources, which objecti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allocation personnel an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 rot="20944200">
            <a:off x="2627280" y="4962600"/>
            <a:ext cx="5654880" cy="12031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n’t strangulate your scien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0:21:39Z</dcterms:created>
  <dc:creator>Stoeger</dc:creator>
  <dc:description/>
  <dc:language>en-US</dc:language>
  <cp:lastModifiedBy>Casa, Maria (FOEL)</cp:lastModifiedBy>
  <cp:lastPrinted>2001-09-28T15:59:50Z</cp:lastPrinted>
  <dcterms:modified xsi:type="dcterms:W3CDTF">2009-03-27T11:05:53Z</dcterms:modified>
  <cp:revision>334</cp:revision>
  <dc:subject/>
  <dc:title>Folie 1</dc:title>
</cp:coreProperties>
</file>