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DCA67-6D80-4775-AB4D-06E9BCA3E61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BDD80-D832-452F-AA8C-F968B084C86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D2485-85BF-4CD0-B0B7-DC8E40B8726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39F07-6E9E-464F-84E9-3DE54A853F1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outlooks are generalized and might not happen in the same way all over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fessors should be adapting as fast as changes are to be made, should specialized/general programs be in separate universit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91356-3EF9-4DD5-841F-0AD7709A62F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523D0-5019-4403-A038-91B61D15CA2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953C-3A73-42DB-BEBB-E74BCDF32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1A82-F3A7-46FA-9D7F-E0BBA5E17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78C7-8DB7-4ACD-A6A4-34A4769D8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1AF0-EA2F-468E-9351-ED7BD1AD7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F7D494-A480-41F1-9695-D6C6DA74AB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D01C0B-86AF-4712-A8DB-B678CE8E4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0F8DE3-E3D5-45CC-8FDA-FC9B5B46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9CB505-7D06-4198-89EB-5B6C77BCF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4F68F9-890C-4959-8EE6-1590FF604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280" y="-171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73A0B2-37D0-4174-8C1D-699645E40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1FEA57-8BCB-4DD1-A96F-1E5BA05E9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B23A-2165-4693-A027-E529A2C9D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EB7969-483C-447F-9F46-4835E21C7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6C33EB-8ABD-40C2-8566-6CCA33BB0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7A42B4-B174-4BA2-9622-A308DB6E0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49140C-A742-4DF1-9452-5073FA64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1BEA7B-D305-48F5-87D4-0CBE5B0252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E8D4-E346-4782-A7FC-C89DB570F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024D-58CD-4F97-9C7C-FA968BA80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6CC5-0EE9-4E52-90D8-0D8EDB72B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5280" y="-171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42AB-C632-41AE-9E94-831DF67CC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D40C-C6A1-41BE-AA86-CEF64BF7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A9E7-67F9-405B-9073-6F39D2C8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30E7-9877-41E1-9B41-E567CBC1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771640" y="6454800"/>
            <a:ext cx="388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ternational forestry students´ associ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0D50E-BA8F-49B3-A9ED-47ACB194B4C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3E3ED-3C56-48E3-8AB6-C722701AE39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2771640" y="6454800"/>
            <a:ext cx="3888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ternational forestry students´ associ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372960" y="-243000"/>
            <a:ext cx="9791640" cy="7201080"/>
          </a:xfrm>
          <a:prstGeom prst="rect">
            <a:avLst/>
          </a:prstGeom>
          <a:solidFill>
            <a:srgbClr val="06ba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ff"/>
                </a:solidFill>
                <a:latin typeface="Arial"/>
              </a:rPr>
              <a:t>IFSA´s perspective on future forestry 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912000" y="5300640"/>
            <a:ext cx="2232000" cy="13273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835280" y="6165720"/>
            <a:ext cx="59054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ternational Forestry Students´ Associ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FO - 19th se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rcRect l="0" t="17235" r="0" b="-1316"/>
          <a:stretch/>
        </p:blipFill>
        <p:spPr>
          <a:xfrm>
            <a:off x="1042920" y="189000"/>
            <a:ext cx="7561440" cy="1442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rcRect l="0" t="35050" r="0" b="13334"/>
          <a:stretch/>
        </p:blipFill>
        <p:spPr>
          <a:xfrm>
            <a:off x="1332000" y="3284640"/>
            <a:ext cx="643896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The IFSA in brie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FSA - the International Forestry Students‘ Assoc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Only forestry students‘ association with worldwide perspective (68 local committees from 47 countr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tudent run, non government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FSA‘s mission: enrich education, promote cultural understanding, help to gain practical experience, represent the y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35280" y="6181560"/>
            <a:ext cx="59054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ternational Forestry Students´ Associ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FO - 19th se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IFSA´s perspective on future tre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8000" y="1197000"/>
            <a:ext cx="562752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ittle money in the field of fore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creasing student-to-teacher rat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groupments of forestry faculties with other subject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clining number of forestry focused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227640" y="1125360"/>
            <a:ext cx="2100240" cy="28083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673440" y="4030560"/>
            <a:ext cx="5435640" cy="20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creasing difference between educational means of high-income and low-income econom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ore competition between universities on international lev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35280" y="6181560"/>
            <a:ext cx="59054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ternational Forestry Students´ Associ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FO - 19th se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52360" y="3836880"/>
            <a:ext cx="316728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280" y="-3067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IFSA´s perspective on future trends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608472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evelopment of the contribution of private sector – under public reg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35280" y="6181560"/>
            <a:ext cx="59054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ternational Forestry Students´ Associ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FO - 19th se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796000" y="1557360"/>
            <a:ext cx="2955960" cy="22064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3429000"/>
            <a:ext cx="7885080" cy="29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ultifunctionality of the fore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ed for quick adaptation of profes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limate change but not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ed for both specialists and general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eparation of specialized and general programs in different universitie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7"/>
          <p:cNvSpPr/>
          <p:nvPr/>
        </p:nvSpPr>
        <p:spPr>
          <a:xfrm>
            <a:off x="1051920" y="1413000"/>
            <a:ext cx="614592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ompile ideas/opinions from studen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Questionnai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articipation in international 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eetings of stud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8"/>
          <p:cNvSpPr/>
          <p:nvPr/>
        </p:nvSpPr>
        <p:spPr>
          <a:xfrm>
            <a:off x="2340000" y="4365720"/>
            <a:ext cx="482436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rovide access to the information for stud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. Participation in international 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2. Meetings of stud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3. Forum, website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9640" y="2997360"/>
            <a:ext cx="201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orestry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92720" y="3213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orest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7960" y="3456000"/>
            <a:ext cx="2137680" cy="1257120"/>
            <a:chOff x="57960" y="3456000"/>
            <a:chExt cx="2137680" cy="1257120"/>
          </a:xfrm>
        </p:grpSpPr>
        <p:sp>
          <p:nvSpPr>
            <p:cNvPr id="115" name=""/>
            <p:cNvSpPr/>
            <p:nvPr/>
          </p:nvSpPr>
          <p:spPr>
            <a:xfrm>
              <a:off x="287280" y="4005360"/>
              <a:ext cx="1908360" cy="707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Identifies proble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Develops solu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6" name=""/>
            <p:cNvCxnSpPr>
              <a:stCxn id="112" idx="1"/>
              <a:endCxn id="115" idx="1"/>
            </p:cNvCxnSpPr>
            <p:nvPr/>
          </p:nvCxnSpPr>
          <p:spPr>
            <a:xfrm flipV="1" rot="10800000">
              <a:off x="286560" y="3455640"/>
              <a:ext cx="253080" cy="907200"/>
            </a:xfrm>
            <a:prstGeom prst="bentConnector3">
              <a:avLst>
                <a:gd name="adj1" fmla="val 19045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17" name=""/>
          <p:cNvGrpSpPr/>
          <p:nvPr/>
        </p:nvGrpSpPr>
        <p:grpSpPr>
          <a:xfrm>
            <a:off x="6372360" y="2349360"/>
            <a:ext cx="2736360" cy="1184040"/>
            <a:chOff x="6372360" y="2349360"/>
            <a:chExt cx="2736360" cy="1184040"/>
          </a:xfrm>
        </p:grpSpPr>
        <p:sp>
          <p:nvSpPr>
            <p:cNvPr id="118" name=""/>
            <p:cNvSpPr/>
            <p:nvPr/>
          </p:nvSpPr>
          <p:spPr>
            <a:xfrm>
              <a:off x="6948360" y="2349360"/>
              <a:ext cx="2160360" cy="58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Learn applied sciences/techniqu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9" name=""/>
            <p:cNvCxnSpPr>
              <a:stCxn id="113" idx="3"/>
              <a:endCxn id="118" idx="1"/>
            </p:cNvCxnSpPr>
            <p:nvPr/>
          </p:nvCxnSpPr>
          <p:spPr>
            <a:xfrm flipV="1">
              <a:off x="6372360" y="2644200"/>
              <a:ext cx="576360" cy="889560"/>
            </a:xfrm>
            <a:prstGeom prst="bentConnector3">
              <a:avLst>
                <a:gd name="adj1" fmla="val 4987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20" name=""/>
          <p:cNvGrpSpPr/>
          <p:nvPr/>
        </p:nvGrpSpPr>
        <p:grpSpPr>
          <a:xfrm>
            <a:off x="2195280" y="2708280"/>
            <a:ext cx="3384720" cy="1584360"/>
            <a:chOff x="2195280" y="2708280"/>
            <a:chExt cx="3384720" cy="1584360"/>
          </a:xfrm>
        </p:grpSpPr>
        <p:sp>
          <p:nvSpPr>
            <p:cNvPr id="121" name=""/>
            <p:cNvSpPr/>
            <p:nvPr/>
          </p:nvSpPr>
          <p:spPr>
            <a:xfrm>
              <a:off x="2484360" y="3860640"/>
              <a:ext cx="3095640" cy="432000"/>
            </a:xfrm>
            <a:custGeom>
              <a:avLst/>
              <a:gdLst>
                <a:gd name="textAreaLeft" fmla="*/ 541800 w 3095640"/>
                <a:gd name="textAreaRight" fmla="*/ 2244600 w 3095640"/>
                <a:gd name="textAreaTop" fmla="*/ 57600 h 432000"/>
                <a:gd name="textAreaBottom" fmla="*/ 37440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0800000">
              <a:off x="2195280" y="2708280"/>
              <a:ext cx="3095640" cy="433440"/>
            </a:xfrm>
            <a:custGeom>
              <a:avLst/>
              <a:gdLst>
                <a:gd name="textAreaLeft" fmla="*/ 541800 w 3095640"/>
                <a:gd name="textAreaRight" fmla="*/ 2244600 w 3095640"/>
                <a:gd name="textAreaTop" fmla="*/ 57960 h 433440"/>
                <a:gd name="textAreaBottom" fmla="*/ 375480 h 43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635280" y="3284280"/>
              <a:ext cx="720720" cy="368280"/>
            </a:xfrm>
            <a:prstGeom prst="rect">
              <a:avLst/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F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6443280" y="3068640"/>
            <a:ext cx="2665440" cy="916920"/>
            <a:chOff x="6443280" y="3068640"/>
            <a:chExt cx="2665440" cy="916920"/>
          </a:xfrm>
        </p:grpSpPr>
        <p:sp>
          <p:nvSpPr>
            <p:cNvPr id="125" name=""/>
            <p:cNvSpPr/>
            <p:nvPr/>
          </p:nvSpPr>
          <p:spPr>
            <a:xfrm>
              <a:off x="7004880" y="3068640"/>
              <a:ext cx="2103840" cy="91692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Better understand the context of their studies/future wor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6" name=""/>
            <p:cNvCxnSpPr>
              <a:stCxn id="113" idx="3"/>
              <a:endCxn id="125" idx="1"/>
            </p:cNvCxnSpPr>
            <p:nvPr/>
          </p:nvCxnSpPr>
          <p:spPr>
            <a:xfrm flipV="1">
              <a:off x="6443280" y="3531960"/>
              <a:ext cx="561600" cy="2160"/>
            </a:xfrm>
            <a:prstGeom prst="bentConnector3">
              <a:avLst>
                <a:gd name="adj1" fmla="val 4983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27" name=""/>
          <p:cNvGrpSpPr/>
          <p:nvPr/>
        </p:nvGrpSpPr>
        <p:grpSpPr>
          <a:xfrm>
            <a:off x="5364000" y="5373720"/>
            <a:ext cx="3816360" cy="916920"/>
            <a:chOff x="5364000" y="5373720"/>
            <a:chExt cx="3816360" cy="916920"/>
          </a:xfrm>
        </p:grpSpPr>
        <p:sp>
          <p:nvSpPr>
            <p:cNvPr id="128" name=""/>
            <p:cNvSpPr/>
            <p:nvPr/>
          </p:nvSpPr>
          <p:spPr>
            <a:xfrm>
              <a:off x="5364000" y="5546880"/>
              <a:ext cx="1440000" cy="576000"/>
            </a:xfrm>
            <a:prstGeom prst="rightArrow">
              <a:avLst>
                <a:gd name="adj1" fmla="val 50000"/>
                <a:gd name="adj2" fmla="val 62500"/>
              </a:avLst>
            </a:prstGeom>
            <a:solidFill>
              <a:srgbClr val="ffcc00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912000" y="5373720"/>
              <a:ext cx="2268360" cy="916920"/>
            </a:xfrm>
            <a:prstGeom prst="rect">
              <a:avLst/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CCELERATED ADAPTATION AND RESPON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Rectangle 2"/>
          <p:cNvSpPr/>
          <p:nvPr/>
        </p:nvSpPr>
        <p:spPr>
          <a:xfrm>
            <a:off x="395280" y="-235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IFSA´s role for future edu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35280" y="6181560"/>
            <a:ext cx="59054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ternational Forestry Students´ Associ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FO - 19th se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-312840" y="-243000"/>
            <a:ext cx="9720360" cy="7139160"/>
          </a:xfrm>
          <a:prstGeom prst="rect">
            <a:avLst/>
          </a:prstGeom>
          <a:solidFill>
            <a:srgbClr val="06ba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 for your att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3645000"/>
            <a:ext cx="889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More about IFSA and partnership possibil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Thursday March 19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13:30 – Canada room (A 36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35050" r="0" b="13334"/>
          <a:stretch/>
        </p:blipFill>
        <p:spPr>
          <a:xfrm>
            <a:off x="395280" y="1197000"/>
            <a:ext cx="8172360" cy="22874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878520" y="5497560"/>
            <a:ext cx="2232000" cy="13269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835280" y="6181560"/>
            <a:ext cx="59054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ternational Forestry Students´ Associ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FO - 19th se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1:25:41Z</dcterms:created>
  <dc:creator>Thorade</dc:creator>
  <dc:description/>
  <dc:language>en-US</dc:language>
  <cp:lastModifiedBy>Casa, Maria (FOEL)</cp:lastModifiedBy>
  <dcterms:modified xsi:type="dcterms:W3CDTF">2009-03-27T11:05:10Z</dcterms:modified>
  <cp:revision>27</cp:revision>
  <dc:subject/>
  <dc:title>Folie 1</dc:title>
</cp:coreProperties>
</file>