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32A-1EEE-4ABA-8897-454FAFAE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DB3-A3CF-4868-A92A-ED6C0EA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CF2-1182-48EB-937F-7991216B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777-F9AB-40C1-B7E0-427B5FF3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02C-D839-4D2E-B28E-3D9C3BC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30A-A4BC-421C-9FAE-5DF8F57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A6D-AA82-451A-8908-5631358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65E-86DD-4116-A83A-8E3CE7BF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7FF-A411-44C7-AB6E-30694476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437-6692-450A-9B5A-8DFE305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1A7-66E8-4D81-A6A6-42E4D42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C51-16F5-44F1-B19D-2CAF7D3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6594-D175-4E0E-A33D-0F23EA9500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pfe.net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national Partnership for Forestr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PFE logo.png"/>
          <p:cNvPicPr/>
          <p:nvPr/>
        </p:nvPicPr>
        <p:blipFill>
          <a:blip r:embed="rId1"/>
          <a:stretch/>
        </p:blipFill>
        <p:spPr>
          <a:xfrm>
            <a:off x="2422440" y="2819520"/>
            <a:ext cx="4299120" cy="3786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152388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sny El Lak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, IPF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Partnership for Forestry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6968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First Regional Workshop on Forest Education in Africa was held under the auspices of IPFE at the World Agroforestry Center, (ICRAF) in Nairobi, Kenya  in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ntaining the information portal about forestry education institutions globally– </a:t>
            </a: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pfe.ne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. The portal will link with other forestry information providers such as the Global Forestry Information Service of IUFRO and SILV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61056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PFE logo"/>
          <p:cNvPicPr/>
          <p:nvPr/>
        </p:nvPicPr>
        <p:blipFill>
          <a:blip r:embed="rId2"/>
          <a:stretch/>
        </p:blipFill>
        <p:spPr>
          <a:xfrm>
            <a:off x="7885080" y="5913360"/>
            <a:ext cx="934920" cy="77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new forestry logo with crest.png"/>
          <p:cNvPicPr/>
          <p:nvPr/>
        </p:nvPicPr>
        <p:blipFill>
          <a:blip r:embed="rId3"/>
          <a:stretch/>
        </p:blipFill>
        <p:spPr>
          <a:xfrm>
            <a:off x="457200" y="5715000"/>
            <a:ext cx="37339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the Development of International Forest Policy course (several universiti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regional forestry education workshops  in Latin America and A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ng the Canada-China Forestry Education Sympo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36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Partnership for Forestry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FE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ww.ipfe.fi/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Jorma Neuvonen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rector, Special Projects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aculty of Forestry, University of British Colu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jorma.neuvonen@ubc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r Sari Pitk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cretary General, IPF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niversity of Joensuu Faculty of Forest Sciences P.O Box 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ari.pitkanene@joensuu.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restry Education Workshop, UBC, 2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atus of global forestry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ack of an international forestry education for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reating an entity that would link forestry institutions through curriculum development and network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Partnership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estry Education (IPF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 IPFE’s founding members met at FAO, Rome in 2006, and agreed to initiate a Secretariat for the Partnership jointly between UBC and the University of Joensuu, Finland. The Founding member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BC, Faculty of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niversity of Joensuu, 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stralian Nationa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regon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niversity of Stellenbosch, 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nivesidad de Los Andes,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ld Agroforestry Center (ICRAF),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entre for International Forestry Research (CIFOR),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ternational Forestry Students Association (IFSA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od and Agriculture Organization of the United nations (FAO)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ternational Union of Forest Research Organizations (IUFRO),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PFE logo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IPF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 new global partnership and a network to share information, experiences, resources and skills regarding forestry and its allied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PFE logo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2015, forestry education is responsive to globally agreed needs and contextualized in locally relevant social, economic and ecological set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PFE logo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elping institutions concerned with forestry education meet societies’ needs, through facilitating forestry educators’ and students’ engagement with relevant knowledge and understanding among each other, and with soci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PFE logo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Partnership for Forestry Education (IPF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ing learning and experiences – of curricula, courses, methods and joint program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ngthening and connecting regional networks – in order to share knowledge and address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IPFE logo"/>
          <p:cNvPicPr/>
          <p:nvPr/>
        </p:nvPicPr>
        <p:blipFill>
          <a:blip r:embed="rId1"/>
          <a:stretch/>
        </p:blipFill>
        <p:spPr>
          <a:xfrm>
            <a:off x="7667640" y="5734080"/>
            <a:ext cx="11523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ew forestry logo with crest.png"/>
          <p:cNvPicPr/>
          <p:nvPr/>
        </p:nvPicPr>
        <p:blipFill>
          <a:blip r:embed="rId2"/>
          <a:stretch/>
        </p:blipFill>
        <p:spPr>
          <a:xfrm>
            <a:off x="533520" y="5715000"/>
            <a:ext cx="37335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ach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ing with student bodies – I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stering dialogue among diverse interests about forests and forestry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ing societies’ understanding of forests and forestry – a key role for univers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901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ach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programming among forestry schools (national and international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ulty exchange (e.g.  to fill some gaps), and participation in inter-governmental forums to inform and influence deci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student abr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7:00:12Z</dcterms:created>
  <dc:creator>Hosny El Lakany</dc:creator>
  <dc:description/>
  <dc:language>en-US</dc:language>
  <cp:lastModifiedBy>Casa, Maria (FOEL)</cp:lastModifiedBy>
  <dcterms:modified xsi:type="dcterms:W3CDTF">2009-03-27T11:04:56Z</dcterms:modified>
  <cp:revision>33</cp:revision>
  <dc:subject/>
  <dc:title>Slide 1</dc:title>
</cp:coreProperties>
</file>