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sv-S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91800" y="76644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sv-S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sv-S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2B40D43A-5DE7-4CD1-A3DB-AB21CEFCF8EC}" type="slidenum">
              <a:rPr b="0" lang="sv-S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831A-5127-4627-8BD1-B988C592D6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26BA-9B60-4D06-B9E9-5F050924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7578-20D3-4997-B992-28D608E8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F0C9-67A6-4E7F-BB86-C1E30731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87DA-06F8-4BD6-9C5B-5CE78234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9EBD-F6B3-4EA2-A6C3-865E492A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D97F-5A96-497E-869F-99588C16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8185-8EF0-49AE-80FE-502EB2A1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B133-11C4-403F-902F-C971A7A7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4DBE-37BF-4882-9A2F-5612C2A7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698B-3AD2-4F77-A46C-4B4A076A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076E-ECF2-49FF-A742-F20C33DC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AF46-19BF-4C3A-A73F-E243F3A4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BED9-2FB1-4941-81F1-40229C5F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58B1-9A88-461B-B89F-970BC88C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2431-BB1F-40C6-956E-F66D0C0D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2EA3-3A62-47BC-86CE-F57144DCD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547C-2494-49B5-BBD7-2350D6E3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3DB-35F5-458B-8E06-16C218DA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FEBB-66CC-492F-8C86-93599E29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B3E0-1B62-4882-8DC3-E2AD537E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304F-E4A3-4578-A84A-6FC682B6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CE1A-E20E-46E2-BDB1-F99A0F0B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CA17-9AC1-4B0E-943C-05CC77EA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1601-1EC7-4CC0-8E47-6EE5BE01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7EF7-08D9-4BC7-BA01-53D823BB5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8CEA-00F6-41E2-AE62-5CE1CA138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Reporting on Progress Towards Sustainable Forest Management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Örjan Jon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AO Forestr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Area Under Sustainable Forest Management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New reporting category in FRA 2010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o be defined by countries”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(definition, criteria, process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Guidance (ITTO, 2006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Concluding remarks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Proven effective monitoring too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Adopted tool in other reports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(SoEF 2007, MDGs)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Advanced version in FRA 2010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39640" y="2492280"/>
            <a:ext cx="813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006600"/>
                </a:solidFill>
                <a:latin typeface="Arial"/>
              </a:rPr>
              <a:t>SFM in FRA 2005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6600"/>
                </a:solidFill>
                <a:latin typeface="Arial"/>
              </a:rPr>
              <a:t>FRA 2005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6600"/>
                </a:solidFill>
                <a:latin typeface="Arial"/>
              </a:rPr>
              <a:t>40+ variabl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6600"/>
                </a:solidFill>
                <a:latin typeface="Arial"/>
              </a:rPr>
              <a:t>229 countries and territori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6600"/>
                </a:solidFill>
                <a:latin typeface="Arial"/>
              </a:rPr>
              <a:t>3 points in tim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6600"/>
                </a:solidFill>
                <a:latin typeface="Arial"/>
              </a:rPr>
              <a:t>Thematic elements of SFM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6600"/>
                </a:solidFill>
                <a:latin typeface="Arial"/>
              </a:rPr>
              <a:t>How well are the forests managed?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Need for a simplified overview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e concept ”Sustainable Forest Management”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Objective ”screening tool”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Assessment of progress towards goal/ trends across tim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Global/Regional/Subregional analysis and comparison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94320" cy="5950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487840" y="19080"/>
            <a:ext cx="3675240" cy="5933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740720" y="493560"/>
            <a:ext cx="718920" cy="5456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85880" y="2405160"/>
            <a:ext cx="7458120" cy="636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-249120"/>
          <a:ext cx="9144000" cy="727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49120"/>
                    <a:ext cx="9144000" cy="72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6600"/>
                </a:solidFill>
                <a:latin typeface="Arial"/>
              </a:rPr>
              <a:t>Approach and limitations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686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Arial"/>
              </a:rPr>
              <a:t>Subjective variable selection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Arial"/>
              </a:rPr>
              <a:t>Variables do not address all aspects of SFM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ovariation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6600"/>
                </a:solidFill>
                <a:latin typeface="Arial"/>
              </a:rPr>
              <a:t>Data availabilit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Arial"/>
              </a:rPr>
              <a:t>Value judgement on ‘positive’ or ‘negative’ trend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Arial"/>
              </a:rPr>
              <a:t>Trends by region obscures positive or negative trends in individual countri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24000" y="260280"/>
            <a:ext cx="4824360" cy="151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6868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6600"/>
                </a:solidFill>
                <a:latin typeface="Arial"/>
              </a:rPr>
              <a:t>Increased capacity to monitor SFM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6600"/>
                </a:solidFill>
                <a:latin typeface="Arial"/>
              </a:rPr>
              <a:t>Policy, legal and institutional framewor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6600"/>
                </a:solidFill>
                <a:latin typeface="Arial"/>
              </a:rPr>
              <a:t>Forest area under management plan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6600"/>
                </a:solidFill>
                <a:latin typeface="Arial"/>
              </a:rPr>
              <a:t>Area under SFM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2000" y="47628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New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FRA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2:19:36Z</dcterms:created>
  <dc:creator>Marcelli, Gabriele (FOEP)</dc:creator>
  <dc:description/>
  <dc:language>en-US</dc:language>
  <cp:lastModifiedBy>Jonsson, Orjan (FOIM)</cp:lastModifiedBy>
  <dcterms:modified xsi:type="dcterms:W3CDTF">2009-04-15T09:24:07Z</dcterms:modified>
  <cp:revision>5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78698999</vt:r8>
  </property>
  <property fmtid="{D5CDD505-2E9C-101B-9397-08002B2CF9AE}" pid="3" name="_AuthorEmail">
    <vt:lpwstr>Orjan.Jonsson@fao.org</vt:lpwstr>
  </property>
  <property fmtid="{D5CDD505-2E9C-101B-9397-08002B2CF9AE}" pid="4" name="_AuthorEmailDisplayName">
    <vt:lpwstr>Jonsson, Orjan (FOIM)</vt:lpwstr>
  </property>
  <property fmtid="{D5CDD505-2E9C-101B-9397-08002B2CF9AE}" pid="5" name="_EmailSubject">
    <vt:lpwstr>Reporting on SFM (COFO-Örjan new template).ppt</vt:lpwstr>
  </property>
</Properties>
</file>