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jpeg" ContentType="image/jpeg"/>
  <Override PartName="/ppt/media/image4.wmf" ContentType="image/x-wmf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91BE-F4EF-407D-89B4-FE84C6B0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B17A-1567-470D-AECB-3C17F70E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605-A299-4434-81F0-D701EE0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F7E-D53C-47DA-955B-C8E8B00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58C-EFD6-44E4-8301-B262B03A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FA5-8D12-4292-B89A-90D9BEA5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B15-9F3C-4BE2-8C2C-6653AD0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BA6-AFB0-4A17-8FF3-889CFD5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43E-EB94-4485-9695-C42BEAD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934-E74B-477B-9190-FC38284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AB1-DF51-4D82-B807-044A048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890-6796-4232-B521-84B1B3E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4BF-0786-43B9-8971-5AB89FF6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173-9988-43F7-870E-0881762F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0b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0" y="5937120"/>
            <a:ext cx="9153360" cy="925560"/>
          </a:xfrm>
          <a:prstGeom prst="pie">
            <a:avLst/>
          </a:prstGeom>
          <a:solidFill>
            <a:srgbClr val="d2f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19080" y="6156360"/>
            <a:ext cx="9172440" cy="706320"/>
          </a:xfrm>
          <a:prstGeom prst="pie">
            <a:avLst/>
          </a:prstGeom>
          <a:solidFill>
            <a:srgbClr val="b9f02e"/>
          </a:solidFill>
          <a:ln w="9360">
            <a:solidFill>
              <a:srgbClr val="a9c8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5"/>
          <p:cNvGraphicFramePr/>
          <p:nvPr/>
        </p:nvGraphicFramePr>
        <p:xfrm>
          <a:off x="7962840" y="5896080"/>
          <a:ext cx="91440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62840" y="5896080"/>
                    <a:ext cx="914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0b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0" y="5937120"/>
            <a:ext cx="9153360" cy="925560"/>
          </a:xfrm>
          <a:prstGeom prst="pie">
            <a:avLst/>
          </a:prstGeom>
          <a:solidFill>
            <a:srgbClr val="d2f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-19080" y="6156360"/>
            <a:ext cx="9172440" cy="706320"/>
          </a:xfrm>
          <a:prstGeom prst="pie">
            <a:avLst/>
          </a:prstGeom>
          <a:solidFill>
            <a:srgbClr val="b9f02e"/>
          </a:solidFill>
          <a:ln w="9360">
            <a:solidFill>
              <a:srgbClr val="a9c8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7962840" y="5896080"/>
          <a:ext cx="91440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62840" y="5896080"/>
                    <a:ext cx="914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6346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204-6FFE-4FCC-BA4E-5839847AC8A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1596960"/>
            <a:ext cx="79884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ropical Forests for Adaptation to Climate Change</a:t>
            </a:r>
            <a:endParaRPr b="1" lang="en-US" sz="44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38120" y="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lenary session at World Fore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March 2009, FAO Headquarters,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407320" y="4129200"/>
            <a:ext cx="43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ku Kanninen, CI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no Locatelli, CIRAD-CI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LOGOVERT"/>
          <p:cNvPicPr/>
          <p:nvPr/>
        </p:nvPicPr>
        <p:blipFill>
          <a:blip r:embed="rId1"/>
          <a:stretch/>
        </p:blipFill>
        <p:spPr>
          <a:xfrm>
            <a:off x="174600" y="5913360"/>
            <a:ext cx="6303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Example 1: Cameroon (1/2)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120" y="1209240"/>
            <a:ext cx="7888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CCA proje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go Basin Forests and Climate Change Adapta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ameroon, DRC,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ory Action Research with communities i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-savanna transi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 analyzing their vulnerability to climatic vari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and livest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= very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FP (non timber for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) = less sensi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fety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776840" y="311472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Example 1: Cameroon (2/2)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2480" y="119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ommunities propose for adap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options for agriculture and 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selection, livestoc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ptions for forests and NT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, control, marketing… with measures at provincial or n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way to reduce thei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564080" y="3098880"/>
            <a:ext cx="36511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Example 2: Costa Rica (1/2)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4120" y="1234800"/>
            <a:ext cx="8066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FCCA proje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ropical Forests and Climate Change Adapta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8 countries of Asia, West Africa, and Central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lnerability of forests and forest-dependent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America: emphasis on drinking water and 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electric companies analyzing their vulner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s: increa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ty of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tation in dam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high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of up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conservation i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956120" y="3224160"/>
            <a:ext cx="3532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Example 2: Costa Rica (2/2)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52480" y="1204920"/>
            <a:ext cx="804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for adap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watershed management linked with fore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for Ecosyste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 rest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l conservation in agriculture and agro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978440" y="342900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ATIE_watershed1"/>
          <p:cNvPicPr/>
          <p:nvPr/>
        </p:nvPicPr>
        <p:blipFill>
          <a:blip r:embed="rId2"/>
          <a:stretch/>
        </p:blipFill>
        <p:spPr>
          <a:xfrm>
            <a:off x="860400" y="3429000"/>
            <a:ext cx="37386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Lessons learnt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-27936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nclude ecosystem services in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more effective, efficient, and sustainable than infrastructure or technological options of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link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tream/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6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/provinces/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700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novative mechanisms for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184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for ecosyste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Ecosystem-Based Adaptation:</a:t>
            </a:r>
            <a:br>
              <a:rPr sz="3600"/>
            </a:b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a tentative definition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2520" y="1507680"/>
            <a:ext cx="82310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: Adaptation measures or policies that harness ecosystem services for adapting society to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consi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ulnerability of ecosystems (to land-use change, over-harvesting, climate change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s between ecosystem services and societal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to involve stakeholders and decision makers beyond the forestry sector in managing or protecting forest ecosyste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is necessar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 sectoral (forest managers + forest communities + sectors beyond the forest 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51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 scale (local, meso/watershed, national, regional, inter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Policies for Ecosystem-Based Adaptation 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rcRect l="0" t="0" r="0" b="17743"/>
          <a:stretch/>
        </p:blipFill>
        <p:spPr>
          <a:xfrm>
            <a:off x="2511360" y="2538360"/>
            <a:ext cx="3237120" cy="26528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473200" y="4268880"/>
            <a:ext cx="16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es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497400" y="2516040"/>
            <a:ext cx="22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apt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441800" y="1550880"/>
            <a:ext cx="62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-Based Adaptatio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ing Forest and Adaptation Policy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Policies for Ecosystem-Based Adaptation 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rcRect l="0" t="0" r="0" b="17743"/>
          <a:stretch/>
        </p:blipFill>
        <p:spPr>
          <a:xfrm>
            <a:off x="2511360" y="2538360"/>
            <a:ext cx="3237120" cy="2652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473200" y="4268880"/>
            <a:ext cx="16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es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497400" y="2516040"/>
            <a:ext cx="22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apt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8"/>
          <p:cNvGrpSpPr/>
          <p:nvPr/>
        </p:nvGrpSpPr>
        <p:grpSpPr>
          <a:xfrm>
            <a:off x="4436640" y="3782880"/>
            <a:ext cx="4707360" cy="2301480"/>
            <a:chOff x="4436640" y="3782880"/>
            <a:chExt cx="4707360" cy="2301480"/>
          </a:xfrm>
        </p:grpSpPr>
        <p:sp>
          <p:nvSpPr>
            <p:cNvPr id="189" name="AutoShape 11"/>
            <p:cNvSpPr/>
            <p:nvPr/>
          </p:nvSpPr>
          <p:spPr>
            <a:xfrm flipH="1" rot="13113600">
              <a:off x="4928040" y="3936600"/>
              <a:ext cx="1190520" cy="1994040"/>
            </a:xfrm>
            <a:custGeom>
              <a:avLst/>
              <a:gdLst>
                <a:gd name="textAreaLeft" fmla="*/ 159480 w 1190520"/>
                <a:gd name="textAreaRight" fmla="*/ 1031040 w 1190520"/>
                <a:gd name="textAreaTop" fmla="*/ 397080 h 1994040"/>
                <a:gd name="textAreaBottom" fmla="*/ 139752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03" stAng="-5400000" swAng="5400000"/>
                  <a:lnTo>
                    <a:pt x="21600" y="10837"/>
                  </a:lnTo>
                  <a:arcTo wR="21600" hR="8603" stAng="0" swAng="2904301"/>
                  <a:lnTo>
                    <a:pt x="7200" y="21108"/>
                  </a:lnTo>
                  <a:lnTo>
                    <a:pt x="0" y="18323"/>
                  </a:lnTo>
                  <a:lnTo>
                    <a:pt x="7200" y="14554"/>
                  </a:lnTo>
                  <a:lnTo>
                    <a:pt x="7200" y="16714"/>
                  </a:lnTo>
                  <a:arcTo wR="21600" hR="8603" stAng="2904301" swAng="-2725170"/>
                  <a:lnTo>
                    <a:pt x="21417" y="9720"/>
                  </a:lnTo>
                  <a:arcTo wR="21600" hR="8603" stAng="-179131" swAng="-5220869"/>
                  <a:close/>
                </a:path>
                <a:path fill="darkenLess" w="21600" h="21600">
                  <a:moveTo>
                    <a:pt x="0" y="0"/>
                  </a:moveTo>
                  <a:arcTo wR="21600" hR="8603" stAng="-5400000" swAng="5400000"/>
                  <a:lnTo>
                    <a:pt x="21600" y="10837"/>
                  </a:lnTo>
                  <a:arcTo wR="21600" hR="8603" stAng="0" swAng="-179131"/>
                  <a:lnTo>
                    <a:pt x="21417" y="9720"/>
                  </a:lnTo>
                  <a:arcTo wR="21600" hR="8603" stAng="-179131" swAng="-5220869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6135840" y="4968720"/>
              <a:ext cx="300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streaming forests into adaptation poli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10"/>
          <p:cNvSpPr/>
          <p:nvPr/>
        </p:nvSpPr>
        <p:spPr>
          <a:xfrm flipV="1" rot="13075200">
            <a:off x="1960200" y="1888560"/>
            <a:ext cx="1190520" cy="20790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413640 h 2079000"/>
              <a:gd name="textAreaBottom" fmla="*/ 1456920 h 207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03" stAng="-5400000" swAng="5400000"/>
                <a:lnTo>
                  <a:pt x="21600" y="10837"/>
                </a:lnTo>
                <a:arcTo wR="21600" hR="8603" stAng="0" swAng="2904301"/>
                <a:lnTo>
                  <a:pt x="7200" y="21108"/>
                </a:lnTo>
                <a:lnTo>
                  <a:pt x="0" y="18323"/>
                </a:lnTo>
                <a:lnTo>
                  <a:pt x="7200" y="14554"/>
                </a:lnTo>
                <a:lnTo>
                  <a:pt x="7200" y="16714"/>
                </a:lnTo>
                <a:arcTo wR="21600" hR="8603" stAng="2904301" swAng="-2725170"/>
                <a:lnTo>
                  <a:pt x="21417" y="9720"/>
                </a:lnTo>
                <a:arcTo wR="21600" hR="8603" stAng="-179131" swAng="-5220869"/>
                <a:close/>
              </a:path>
              <a:path fill="darkenLess" w="21600" h="21600">
                <a:moveTo>
                  <a:pt x="0" y="0"/>
                </a:moveTo>
                <a:arcTo wR="21600" hR="8603" stAng="-5400000" swAng="5400000"/>
                <a:lnTo>
                  <a:pt x="21600" y="10837"/>
                </a:lnTo>
                <a:arcTo wR="21600" hR="8603" stAng="0" swAng="-179131"/>
                <a:lnTo>
                  <a:pt x="21417" y="9720"/>
                </a:lnTo>
                <a:arcTo wR="21600" hR="8603" stAng="-179131" swAng="-5220869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52520" y="1666800"/>
            <a:ext cx="40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streaming adaptation into forest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3"/>
          <p:cNvSpPr/>
          <p:nvPr/>
        </p:nvSpPr>
        <p:spPr>
          <a:xfrm>
            <a:off x="6113520" y="1419120"/>
            <a:ext cx="3030480" cy="3535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Policies for Ecosystem-Based Adaptation 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rcRect l="0" t="0" r="0" b="17743"/>
          <a:stretch/>
        </p:blipFill>
        <p:spPr>
          <a:xfrm>
            <a:off x="2511360" y="2538360"/>
            <a:ext cx="3237120" cy="2652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473200" y="4268880"/>
            <a:ext cx="16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es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497400" y="2516040"/>
            <a:ext cx="22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apt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4436640" y="3782880"/>
            <a:ext cx="4707360" cy="2301480"/>
            <a:chOff x="4436640" y="3782880"/>
            <a:chExt cx="4707360" cy="2301480"/>
          </a:xfrm>
        </p:grpSpPr>
        <p:sp>
          <p:nvSpPr>
            <p:cNvPr id="199" name="AutoShape 11"/>
            <p:cNvSpPr/>
            <p:nvPr/>
          </p:nvSpPr>
          <p:spPr>
            <a:xfrm flipH="1" rot="13113600">
              <a:off x="4928040" y="3936600"/>
              <a:ext cx="1190520" cy="1994040"/>
            </a:xfrm>
            <a:custGeom>
              <a:avLst/>
              <a:gdLst>
                <a:gd name="textAreaLeft" fmla="*/ 159480 w 1190520"/>
                <a:gd name="textAreaRight" fmla="*/ 1031040 w 1190520"/>
                <a:gd name="textAreaTop" fmla="*/ 397080 h 1994040"/>
                <a:gd name="textAreaBottom" fmla="*/ 139752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03" stAng="-5400000" swAng="5400000"/>
                  <a:lnTo>
                    <a:pt x="21600" y="10837"/>
                  </a:lnTo>
                  <a:arcTo wR="21600" hR="8603" stAng="0" swAng="2904301"/>
                  <a:lnTo>
                    <a:pt x="7200" y="21108"/>
                  </a:lnTo>
                  <a:lnTo>
                    <a:pt x="0" y="18323"/>
                  </a:lnTo>
                  <a:lnTo>
                    <a:pt x="7200" y="14554"/>
                  </a:lnTo>
                  <a:lnTo>
                    <a:pt x="7200" y="16714"/>
                  </a:lnTo>
                  <a:arcTo wR="21600" hR="8603" stAng="2904301" swAng="-2725170"/>
                  <a:lnTo>
                    <a:pt x="21417" y="9720"/>
                  </a:lnTo>
                  <a:arcTo wR="21600" hR="8603" stAng="-179131" swAng="-5220869"/>
                  <a:close/>
                </a:path>
                <a:path fill="darkenLess" w="21600" h="21600">
                  <a:moveTo>
                    <a:pt x="0" y="0"/>
                  </a:moveTo>
                  <a:arcTo wR="21600" hR="8603" stAng="-5400000" swAng="5400000"/>
                  <a:lnTo>
                    <a:pt x="21600" y="10837"/>
                  </a:lnTo>
                  <a:arcTo wR="21600" hR="8603" stAng="0" swAng="-179131"/>
                  <a:lnTo>
                    <a:pt x="21417" y="9720"/>
                  </a:lnTo>
                  <a:arcTo wR="21600" hR="8603" stAng="-179131" swAng="-5220869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6135840" y="4968720"/>
              <a:ext cx="300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streaming forests into adaptation poli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0"/>
          <p:cNvSpPr/>
          <p:nvPr/>
        </p:nvSpPr>
        <p:spPr>
          <a:xfrm flipV="1" rot="13075200">
            <a:off x="1960200" y="1888560"/>
            <a:ext cx="1190520" cy="20790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413640 h 2079000"/>
              <a:gd name="textAreaBottom" fmla="*/ 1456920 h 207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03" stAng="-5400000" swAng="5400000"/>
                <a:lnTo>
                  <a:pt x="21600" y="10837"/>
                </a:lnTo>
                <a:arcTo wR="21600" hR="8603" stAng="0" swAng="2904301"/>
                <a:lnTo>
                  <a:pt x="7200" y="21108"/>
                </a:lnTo>
                <a:lnTo>
                  <a:pt x="0" y="18323"/>
                </a:lnTo>
                <a:lnTo>
                  <a:pt x="7200" y="14554"/>
                </a:lnTo>
                <a:lnTo>
                  <a:pt x="7200" y="16714"/>
                </a:lnTo>
                <a:arcTo wR="21600" hR="8603" stAng="2904301" swAng="-2725170"/>
                <a:lnTo>
                  <a:pt x="21417" y="9720"/>
                </a:lnTo>
                <a:arcTo wR="21600" hR="8603" stAng="-179131" swAng="-5220869"/>
                <a:close/>
              </a:path>
              <a:path fill="darkenLess" w="21600" h="21600">
                <a:moveTo>
                  <a:pt x="0" y="0"/>
                </a:moveTo>
                <a:arcTo wR="21600" hR="8603" stAng="-5400000" swAng="5400000"/>
                <a:lnTo>
                  <a:pt x="21600" y="10837"/>
                </a:lnTo>
                <a:arcTo wR="21600" hR="8603" stAng="0" swAng="-179131"/>
                <a:lnTo>
                  <a:pt x="21417" y="9720"/>
                </a:lnTo>
                <a:arcTo wR="21600" hR="8603" stAng="-179131" swAng="-5220869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52520" y="1666800"/>
            <a:ext cx="40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streaming adaptation into forest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264360" y="1511280"/>
            <a:ext cx="257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inging adaptation into the forest ar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in nfp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237360" y="2921040"/>
            <a:ext cx="274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inging forests into the adaptation ar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s in NAP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Fund etc. financing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8920" y="969480"/>
            <a:ext cx="380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Thank you for your attention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038560" y="3868560"/>
            <a:ext cx="34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.kanninen@cgi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762440" y="2905200"/>
            <a:ext cx="41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ttp://www.cifor.cgiar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Locatelli et al 2008.jpg"/>
          <p:cNvPicPr/>
          <p:nvPr/>
        </p:nvPicPr>
        <p:blipFill>
          <a:blip r:embed="rId1"/>
          <a:stretch/>
        </p:blipFill>
        <p:spPr>
          <a:xfrm>
            <a:off x="485640" y="341280"/>
            <a:ext cx="3816360" cy="5432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Adaptation - a growing issue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rcRect l="0" t="0" r="6344" b="0"/>
          <a:stretch/>
        </p:blipFill>
        <p:spPr>
          <a:xfrm>
            <a:off x="844560" y="1566720"/>
            <a:ext cx="623880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200240" y="5910120"/>
            <a:ext cx="60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anssen,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-662040" y="1181160"/>
            <a:ext cx="10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blications on adaptation (not only related to forests and adap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gabon2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9206"/>
                </a:solidFill>
                <a:latin typeface="Tahoma"/>
              </a:rPr>
              <a:t>Forests and climate change</a:t>
            </a:r>
            <a:br>
              <a:rPr sz="3200"/>
            </a:br>
            <a:r>
              <a:rPr b="1" lang="en-US" sz="3200" spc="-1" strike="noStrike">
                <a:solidFill>
                  <a:srgbClr val="539206"/>
                </a:solidFill>
                <a:latin typeface="Tahoma"/>
              </a:rPr>
              <a:t>in the literature</a:t>
            </a:r>
            <a:endParaRPr b="1" lang="en-US" sz="32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0160" y="1257480"/>
            <a:ext cx="4413240" cy="3079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0" y="4351320"/>
            <a:ext cx="4408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aramond"/>
              </a:rPr>
              <a:t>Forest and climate change in 4 jou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824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Global Environmental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824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Climatic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824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Climate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824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Mitigation and Adaptation Strategies for Climat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96 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751280" y="3289320"/>
            <a:ext cx="4392720" cy="257184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1866960" y="3551400"/>
            <a:ext cx="1371600" cy="5619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6572160" y="4719600"/>
            <a:ext cx="2571840" cy="695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3370320" y="2279160"/>
            <a:ext cx="1979640" cy="55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445000" y="239220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daptation and for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t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 flipV="1">
            <a:off x="7219800" y="3001680"/>
            <a:ext cx="46080" cy="15699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681440" y="1401840"/>
            <a:ext cx="44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ss work on forests and adaptation, especially in the tr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1841400" y="2625840"/>
            <a:ext cx="1371600" cy="5619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Forests and Adaptation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4967280" y="1643040"/>
            <a:ext cx="4138560" cy="2751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9840" y="1422360"/>
            <a:ext cx="880416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of climate ch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o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adapt forest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 management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sts for adaptation (= Forest-bas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79360">
              <a:spcBef>
                <a:spcPts val="499"/>
              </a:spcBef>
              <a:buClr>
                <a:srgbClr val="99cc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Forests =</a:t>
            </a:r>
            <a:br>
              <a:rPr sz="3600"/>
            </a:b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Providers of ecosystem services</a:t>
            </a:r>
            <a:endParaRPr b="1" lang="en-US" sz="36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7329600" y="1635120"/>
            <a:ext cx="1814400" cy="16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7326360" y="3421080"/>
            <a:ext cx="181764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-22320" y="1392120"/>
            <a:ext cx="7197840" cy="4130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1665360" y="2014560"/>
            <a:ext cx="1450800" cy="2967120"/>
          </a:xfrm>
          <a:custGeom>
            <a:avLst/>
            <a:gdLst>
              <a:gd name="textAreaLeft" fmla="*/ 70560 w 1450800"/>
              <a:gd name="textAreaRight" fmla="*/ 1380240 w 1450800"/>
              <a:gd name="textAreaTop" fmla="*/ 70560 h 2967120"/>
              <a:gd name="textAreaBottom" fmla="*/ 2896560 h 2967120"/>
            </a:gdLst>
            <a:ahLst/>
            <a:rect l="textAreaLeft" t="textAreaTop" r="textAreaRight" b="textAreaBottom"/>
            <a:pathLst>
              <a:path w="21600" h="44170">
                <a:moveTo>
                  <a:pt x="3600" y="0"/>
                </a:moveTo>
                <a:arcTo wR="3600" hR="3600" stAng="16200000" swAng="-5400000"/>
                <a:lnTo>
                  <a:pt x="0" y="40570"/>
                </a:lnTo>
                <a:arcTo wR="3600" hR="3600" stAng="10800000" swAng="-5400000"/>
                <a:lnTo>
                  <a:pt x="18000" y="4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2903400" y="5045040"/>
            <a:ext cx="357480" cy="868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70280" y="593100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rect benefits to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9206"/>
                </a:solidFill>
                <a:latin typeface="Tahoma"/>
              </a:rPr>
              <a:t>Socioeconomic sectors vulnerable to climate change</a:t>
            </a:r>
            <a:r>
              <a:rPr b="1" lang="en-US" sz="2000" spc="-1" strike="noStrike">
                <a:solidFill>
                  <a:srgbClr val="539206"/>
                </a:solidFill>
                <a:latin typeface="Tahoma"/>
              </a:rPr>
              <a:t> (according to the IPCC)</a:t>
            </a:r>
            <a:endParaRPr b="1" lang="en-US" sz="2000" spc="-1" strike="noStrike">
              <a:solidFill>
                <a:srgbClr val="53920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97560" y="2805120"/>
            <a:ext cx="25812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on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1542960"/>
            <a:ext cx="5705640" cy="5254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5689440" y="5862600"/>
            <a:ext cx="2581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elli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293840" y="1720800"/>
            <a:ext cx="4314960" cy="63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5783400" y="1960560"/>
            <a:ext cx="1258920" cy="90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9206"/>
                </a:solidFill>
                <a:latin typeface="Tahoma"/>
              </a:rPr>
              <a:t>Vulnerability and ecosystem services</a:t>
            </a:r>
            <a:endParaRPr b="1" lang="en-US" sz="32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208320" y="1973160"/>
            <a:ext cx="5935680" cy="4884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63440" y="5861160"/>
            <a:ext cx="286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elli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330720" y="2579760"/>
            <a:ext cx="1473120" cy="4162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5130720" y="2008080"/>
            <a:ext cx="3794040" cy="54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38120" y="2409840"/>
            <a:ext cx="22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438120" y="172548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ulner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53960" y="3149640"/>
            <a:ext cx="27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systems/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2800" y="3916440"/>
            <a:ext cx="288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systems/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9206"/>
                </a:solidFill>
                <a:latin typeface="Tahoma"/>
              </a:rPr>
              <a:t>Forest ecosystem services and vulnerability</a:t>
            </a:r>
            <a:endParaRPr b="1" lang="en-US" sz="32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208320" y="1973160"/>
            <a:ext cx="5935680" cy="4884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0" y="1450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ng services – e.g. role of forests in the hydrological cyc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ducing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2482920" y="1801800"/>
            <a:ext cx="1030320" cy="897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3244680" y="2635200"/>
            <a:ext cx="1668600" cy="63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306600" y="4338720"/>
            <a:ext cx="5721480" cy="2411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63440" y="5861160"/>
            <a:ext cx="286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elli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9206"/>
                </a:solidFill>
                <a:latin typeface="Tahoma"/>
              </a:rPr>
              <a:t>Forest ecosystem services and vulnerability</a:t>
            </a:r>
            <a:endParaRPr b="1" lang="en-US" sz="3200" spc="-1" strike="noStrike">
              <a:solidFill>
                <a:srgbClr val="539206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208320" y="1973160"/>
            <a:ext cx="5935680" cy="4884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20680" y="1397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 ecosystem services = reducing the vulnerability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244680" y="4535640"/>
            <a:ext cx="1668600" cy="2206440"/>
          </a:xfrm>
          <a:custGeom>
            <a:avLst/>
            <a:gdLst>
              <a:gd name="textAreaLeft" fmla="*/ 81360 w 1668600"/>
              <a:gd name="textAreaRight" fmla="*/ 1587240 w 1668600"/>
              <a:gd name="textAreaTop" fmla="*/ 81360 h 2206440"/>
              <a:gd name="textAreaBottom" fmla="*/ 2125080 h 2206440"/>
            </a:gdLst>
            <a:ahLst/>
            <a:rect l="textAreaLeft" t="textAreaTop" r="textAreaRight" b="textAreaBottom"/>
            <a:pathLst>
              <a:path w="21600" h="28561">
                <a:moveTo>
                  <a:pt x="3600" y="0"/>
                </a:moveTo>
                <a:arcTo wR="3600" hR="3600" stAng="16200000" swAng="-5400000"/>
                <a:lnTo>
                  <a:pt x="0" y="24961"/>
                </a:lnTo>
                <a:arcTo wR="3600" hR="3600" stAng="10800000" swAng="-5400000"/>
                <a:lnTo>
                  <a:pt x="18000" y="28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19240" y="2246400"/>
            <a:ext cx="26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t provision for reducing species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19240" y="321300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shed protection for reducing land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220680" y="3979800"/>
            <a:ext cx="24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FPs as safety nets for local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19240" y="476244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ening social cohesion, important for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19240" y="1820880"/>
            <a:ext cx="14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289320" y="2581200"/>
            <a:ext cx="5719680" cy="995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2224080" y="2728800"/>
            <a:ext cx="969840" cy="1994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387520" y="3794040"/>
            <a:ext cx="779400" cy="137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443320" y="4613400"/>
            <a:ext cx="858600" cy="1473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2333520" y="5349960"/>
            <a:ext cx="887400" cy="1201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3440" y="5861160"/>
            <a:ext cx="286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elli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2:13:33Z</dcterms:created>
  <dc:creator>Sampurna, Yahya</dc:creator>
  <dc:description/>
  <dc:language>en-US</dc:language>
  <cp:lastModifiedBy>Casa, Maria (FOEL)</cp:lastModifiedBy>
  <dcterms:modified xsi:type="dcterms:W3CDTF">2009-03-27T11:17:07Z</dcterms:modified>
  <cp:revision>143</cp:revision>
  <dc:subject/>
  <dc:title>&lt; your prensetation title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5000000000001023600</vt:lpwstr>
  </property>
</Properties>
</file>