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.png"/><Relationship Id="rId15" Type="http://schemas.openxmlformats.org/officeDocument/2006/relationships/image" Target="../media/image3.jpe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37200"/>
            <a:ext cx="9144000" cy="906480"/>
            <a:chOff x="0" y="6037200"/>
            <a:chExt cx="9144000" cy="906480"/>
          </a:xfrm>
        </p:grpSpPr>
        <p:grpSp>
          <p:nvGrpSpPr>
            <p:cNvPr id="1" name=""/>
            <p:cNvGrpSpPr/>
            <p:nvPr/>
          </p:nvGrpSpPr>
          <p:grpSpPr>
            <a:xfrm>
              <a:off x="1295280" y="6037200"/>
              <a:ext cx="7848720" cy="646200"/>
              <a:chOff x="1295280" y="6037200"/>
              <a:chExt cx="7848720" cy="646200"/>
            </a:xfrm>
          </p:grpSpPr>
          <p:graphicFrame>
            <p:nvGraphicFramePr>
              <p:cNvPr id="2" name=""/>
              <p:cNvGraphicFramePr/>
              <p:nvPr/>
            </p:nvGraphicFramePr>
            <p:xfrm>
              <a:off x="7772400" y="6037200"/>
              <a:ext cx="1371600" cy="646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772400" y="6037200"/>
                        <a:ext cx="1371600" cy="6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" name=""/>
              <p:cNvGraphicFramePr/>
              <p:nvPr/>
            </p:nvGraphicFramePr>
            <p:xfrm>
              <a:off x="6553080" y="6037200"/>
              <a:ext cx="1371600" cy="646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553080" y="6037200"/>
                        <a:ext cx="1371600" cy="6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" name=""/>
              <p:cNvGraphicFramePr/>
              <p:nvPr/>
            </p:nvGraphicFramePr>
            <p:xfrm>
              <a:off x="5181480" y="6037200"/>
              <a:ext cx="1371600" cy="646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181480" y="6037200"/>
                        <a:ext cx="1371600" cy="6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" name=""/>
              <p:cNvGraphicFramePr/>
              <p:nvPr/>
            </p:nvGraphicFramePr>
            <p:xfrm>
              <a:off x="2590920" y="6037200"/>
              <a:ext cx="1371600" cy="646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590920" y="6037200"/>
                        <a:ext cx="1371600" cy="6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" name=""/>
              <p:cNvGraphicFramePr/>
              <p:nvPr/>
            </p:nvGraphicFramePr>
            <p:xfrm>
              <a:off x="3886200" y="6037200"/>
              <a:ext cx="1371600" cy="646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1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886200" y="6037200"/>
                        <a:ext cx="1371600" cy="6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" name=""/>
              <p:cNvGraphicFramePr/>
              <p:nvPr/>
            </p:nvGraphicFramePr>
            <p:xfrm>
              <a:off x="1295280" y="6037200"/>
              <a:ext cx="1371600" cy="6462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3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295280" y="6037200"/>
                        <a:ext cx="1371600" cy="6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" name=""/>
            <p:cNvSpPr/>
            <p:nvPr/>
          </p:nvSpPr>
          <p:spPr>
            <a:xfrm>
              <a:off x="0" y="6662880"/>
              <a:ext cx="9144000" cy="28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0" y="1523880"/>
            <a:ext cx="9144000" cy="152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0"/>
            <a:ext cx="129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" descr=""/>
          <p:cNvPicPr/>
          <p:nvPr/>
        </p:nvPicPr>
        <p:blipFill>
          <a:blip r:embed="rId16"/>
          <a:stretch/>
        </p:blipFill>
        <p:spPr>
          <a:xfrm>
            <a:off x="115920" y="152280"/>
            <a:ext cx="1087560" cy="1087560"/>
          </a:xfrm>
          <a:prstGeom prst="rect">
            <a:avLst/>
          </a:prstGeom>
          <a:ln w="0">
            <a:noFill/>
          </a:ln>
        </p:spPr>
      </p:pic>
      <p:sp>
        <p:nvSpPr>
          <p:cNvPr id="18" name=""/>
          <p:cNvSpPr/>
          <p:nvPr/>
        </p:nvSpPr>
        <p:spPr>
          <a:xfrm>
            <a:off x="217656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1578960"/>
            <a:ext cx="734364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ef9ca"/>
                </a:solidFill>
                <a:latin typeface="Garamond"/>
              </a:rPr>
              <a:t>FAO-CIC </a:t>
            </a:r>
            <a:r>
              <a:rPr b="1" lang="en-US" sz="4400" spc="-1" strike="noStrike">
                <a:solidFill>
                  <a:srgbClr val="fef9ca"/>
                </a:solidFill>
                <a:latin typeface="Garamond"/>
              </a:rPr>
              <a:t>Co-operation</a:t>
            </a:r>
            <a:r>
              <a:rPr b="1" lang="fr-FR" sz="4400" spc="-1" strike="noStrike">
                <a:solidFill>
                  <a:srgbClr val="fef9ca"/>
                </a:solidFill>
                <a:latin typeface="Garamond"/>
              </a:rPr>
              <a:t> on Best Practices in </a:t>
            </a:r>
            <a:r>
              <a:rPr b="1" lang="en-US" sz="4400" spc="-1" strike="noStrike">
                <a:solidFill>
                  <a:srgbClr val="fef9ca"/>
                </a:solidFill>
                <a:latin typeface="Garamond"/>
              </a:rPr>
              <a:t>sustainable</a:t>
            </a:r>
            <a:r>
              <a:rPr b="1" lang="fr-FR" sz="4400" spc="-1" strike="noStrike">
                <a:solidFill>
                  <a:srgbClr val="fef9ca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ef9ca"/>
                </a:solidFill>
                <a:latin typeface="Garamond"/>
              </a:rPr>
              <a:t>wildlife</a:t>
            </a:r>
            <a:r>
              <a:rPr b="1" lang="fr-FR" sz="4400" spc="-1" strike="noStrike">
                <a:solidFill>
                  <a:srgbClr val="fef9ca"/>
                </a:solidFill>
                <a:latin typeface="Garamond"/>
              </a:rPr>
              <a:t> management in SADC</a:t>
            </a:r>
            <a:r>
              <a:rPr b="1" lang="en-US" sz="4400" spc="-1" strike="noStrike">
                <a:solidFill>
                  <a:srgbClr val="fef9ca"/>
                </a:solidFill>
                <a:latin typeface="Garamond"/>
              </a:rPr>
              <a:t> reg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07640" y="4723920"/>
            <a:ext cx="626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9ca"/>
                </a:solidFill>
                <a:latin typeface="Garamond"/>
              </a:rPr>
              <a:t>René Czude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9ca"/>
                </a:solidFill>
                <a:latin typeface="Garamond"/>
              </a:rPr>
              <a:t>FAO Forestry and Wildlife Offic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9ca"/>
                </a:solidFill>
                <a:latin typeface="Garamond"/>
              </a:rPr>
              <a:t>FAO Sub-regional Office for Southern Afric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54920" y="0"/>
            <a:ext cx="2089080" cy="151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58920" y="0"/>
            <a:ext cx="197784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213372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203640" y="0"/>
            <a:ext cx="18730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32000" y="189000"/>
            <a:ext cx="781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9ca"/>
                </a:solidFill>
                <a:latin typeface="Garamond"/>
              </a:rPr>
              <a:t>The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1844640"/>
            <a:ext cx="766764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51"/>
              </a:spcBef>
              <a:buClr>
                <a:srgbClr val="fef9ca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9ca"/>
                </a:solidFill>
                <a:latin typeface="Garamond"/>
              </a:rPr>
              <a:t>AFWC – Support countries initiatives for sustainable wildlife management in order to attain food security and poverty allev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51"/>
              </a:spcBef>
              <a:buClr>
                <a:srgbClr val="fef9ca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9ca"/>
                </a:solidFill>
                <a:latin typeface="Garamond"/>
              </a:rPr>
              <a:t>SADC priorities – Trans-boundary Conservation and Policy and Law harmo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51"/>
              </a:spcBef>
              <a:buClr>
                <a:srgbClr val="fef9ca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9ca"/>
                </a:solidFill>
                <a:latin typeface="Garamond"/>
              </a:rPr>
              <a:t>AFWC/SADC Human-Wildlife Conflict Miti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ca"/>
                </a:solidFill>
                <a:latin typeface="Garamond"/>
              </a:rPr>
              <a:t>Lessons learnt from Community Based Natural Resources Management</a:t>
            </a:r>
            <a:r>
              <a:rPr b="1" lang="fr-FR" sz="3200" spc="-1" strike="noStrike">
                <a:solidFill>
                  <a:srgbClr val="fef9ca"/>
                </a:solidFill>
                <a:latin typeface="Garamond"/>
              </a:rPr>
              <a:t> (CBNRM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7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26"/>
              </a:spcBef>
              <a:buClr>
                <a:srgbClr val="fef9ca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f9ca"/>
                </a:solidFill>
                <a:latin typeface="Garamond"/>
              </a:rPr>
              <a:t>Long history of CBNRM in the region (since 70’s) mainly Zimbabwe, Zambia, Namibia, South Africa and Tanzania)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24"/>
              </a:spcBef>
              <a:buClr>
                <a:srgbClr val="fef9ca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ef9ca"/>
                </a:solidFill>
                <a:latin typeface="Garamond"/>
              </a:rPr>
              <a:t>Community Areas Management Programme for Indigenous Resources (CAMPFIRE) and other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ef9ca"/>
                </a:solidFill>
                <a:latin typeface="Garamond"/>
              </a:rPr>
              <a:t>Different implementation and result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26"/>
              </a:spcBef>
              <a:buClr>
                <a:srgbClr val="fef9ca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f9ca"/>
                </a:solidFill>
                <a:latin typeface="Garamond"/>
              </a:rPr>
              <a:t>Aim of the study: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24"/>
              </a:spcBef>
              <a:buClr>
                <a:srgbClr val="fef9ca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ef9ca"/>
                </a:solidFill>
                <a:latin typeface="Garamond"/>
              </a:rPr>
              <a:t>analyse the experience, results, limitation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24"/>
              </a:spcBef>
              <a:buClr>
                <a:srgbClr val="fef9ca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ef9ca"/>
                </a:solidFill>
                <a:latin typeface="Garamond"/>
              </a:rPr>
              <a:t>formulate conclusion and practical recommendation</a:t>
            </a:r>
            <a:r>
              <a:rPr b="0" lang="fr-FR" sz="2500" spc="-1" strike="noStrike">
                <a:solidFill>
                  <a:srgbClr val="fef9ca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f9ca"/>
                </a:solidFill>
                <a:latin typeface="Garamond"/>
              </a:rPr>
              <a:t>Trans-</a:t>
            </a:r>
            <a:r>
              <a:rPr b="1" lang="en-US" sz="4000" spc="-1" strike="noStrike">
                <a:solidFill>
                  <a:srgbClr val="fef9ca"/>
                </a:solidFill>
                <a:latin typeface="Garamond"/>
              </a:rPr>
              <a:t>boundary</a:t>
            </a:r>
            <a:r>
              <a:rPr b="1" lang="fr-FR" sz="4000" spc="-1" strike="noStrike">
                <a:solidFill>
                  <a:srgbClr val="fef9ca"/>
                </a:solidFill>
                <a:latin typeface="Garamond"/>
              </a:rPr>
              <a:t> Conservation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8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9ca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ef9ca"/>
                </a:solidFill>
                <a:latin typeface="Garamond"/>
              </a:rPr>
              <a:t>T-B Conservation Areas – many in Africa (Peace Park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9ca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9ca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ef9ca"/>
                </a:solidFill>
                <a:latin typeface="Garamond"/>
              </a:rPr>
              <a:t>Determinants of successful Trans-boundary conservation Cooperation: Learning experiences and conclusions from the Selous-Niassa Corridor (Tanzania/Mozambique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9ca"/>
                </a:solidFill>
                <a:latin typeface="Garamond"/>
              </a:rPr>
              <a:t>Human-Wildlife Conflict</a:t>
            </a:r>
            <a:r>
              <a:rPr b="1" lang="fr-FR" sz="4000" spc="-1" strike="noStrike">
                <a:solidFill>
                  <a:srgbClr val="fef9ca"/>
                </a:solidFill>
                <a:latin typeface="Garamond"/>
              </a:rPr>
              <a:t> Mitig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9ca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ef9ca"/>
                </a:solidFill>
                <a:latin typeface="Garamond"/>
              </a:rPr>
              <a:t>Development of a Took Kit on HWC for capacity building on HWC mitigation at all levels (with other partners – CIRAD, WWF, IUCN-AfESG, BIO-HUB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381600">
            <a:off x="6716520" y="4014720"/>
            <a:ext cx="173196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 rot="21429000">
            <a:off x="4970520" y="4008600"/>
            <a:ext cx="1730160" cy="244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 rot="21270000">
            <a:off x="2697120" y="3924360"/>
            <a:ext cx="15559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9ca"/>
                </a:solidFill>
                <a:latin typeface="Garamond"/>
              </a:rPr>
              <a:t>Legal studi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7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fef9ca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f9ca"/>
                </a:solidFill>
                <a:latin typeface="Garamond"/>
              </a:rPr>
              <a:t>Legal empowerment of the poor for sustainable wildlife management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876"/>
              </a:spcBef>
              <a:buClr>
                <a:srgbClr val="fef9ca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f9ca"/>
                </a:solidFill>
                <a:latin typeface="Garamond"/>
              </a:rPr>
              <a:t>Principles for developing sustainable wildlife management laws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f9ca"/>
                </a:solidFill>
                <a:latin typeface="Garamond"/>
              </a:rPr>
              <a:t>	</a:t>
            </a:r>
            <a:r>
              <a:rPr b="0" lang="en-US" sz="3500" spc="-1" strike="noStrike">
                <a:solidFill>
                  <a:srgbClr val="fef9ca"/>
                </a:solidFill>
                <a:latin typeface="Garamond"/>
              </a:rPr>
              <a:t>Meetings, workshops organized in collaboration with the SADC Secretariat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692000" y="2276280"/>
            <a:ext cx="6994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9ca"/>
                </a:solidFill>
                <a:latin typeface="Garamond"/>
              </a:rPr>
              <a:t>Thank you </a:t>
            </a:r>
            <a:r>
              <a:rPr b="0" lang="fr-FR" sz="4000" spc="-1" strike="noStrike">
                <a:solidFill>
                  <a:srgbClr val="fef9ca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ef9ca"/>
                </a:solidFill>
                <a:latin typeface="Garamond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9ca"/>
                </a:solidFill>
                <a:latin typeface="Garamond"/>
              </a:rPr>
              <a:t>Rene.Czudek@fao.or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9:47:14Z</dcterms:created>
  <dc:creator>Czudek, Rene (FOMC)</dc:creator>
  <dc:description/>
  <dc:language>en-US</dc:language>
  <cp:lastModifiedBy>Casa, Maria (FOEL)</cp:lastModifiedBy>
  <dcterms:modified xsi:type="dcterms:W3CDTF">2009-03-27T11:15:30Z</dcterms:modified>
  <cp:revision>24</cp:revision>
  <dc:subject/>
  <dc:title>Appui aux aires protégées au niveau local: Gestion des conflits  Homme-faune sauvage</dc:title>
</cp:coreProperties>
</file>