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7D36-FE28-4475-B6F6-8DC4F2BA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420-2775-4A84-ACAE-CA21D8D5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1BC-4003-4FA9-967B-A326FEE8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C072-34DA-46D5-80BC-83344647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3A41-4E0C-4A36-BF99-5D0F4984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276-C997-4CCC-A65D-6AE1BC92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1541-2D79-48AC-A1DA-208C9333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1DAC-9B11-45CF-A35E-2EB8B245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589-5B2B-4DF9-B110-27C41D3A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D42-7FD3-4ECC-91AA-6B9CCB17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1CF0-320C-4CF6-98D2-5F777B1B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B576-63B6-4986-AD40-04072C79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77DF-50C6-4D42-A4F5-42D7557BF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1295280"/>
            <a:ext cx="35816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eking to accompany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eking sy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2697120" cy="3276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541008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wenasoriaga@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iaforestnetwork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ession Committee on Fore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320" y="98280"/>
            <a:ext cx="8839080" cy="656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ompan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attitudes &amp; ways of doing things, developing trust &amp; relations, seeking 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 stories, revealing trends &amp; patterns, generating knowledge, finding ho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n this dynamic that the capacity g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ath programming and policy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e accompany and find sy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and cross-country thematic exchanges to catalyze learnings at the lo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regional &amp; international wa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ing global mechanisms about local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ing global recommendations for local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275360" y="2541600"/>
            <a:ext cx="252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3581280"/>
            <a:ext cx="266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raditional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ultural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mmunity Fores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Governance &amp; Decent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29718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Global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16765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5360"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5360"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5360"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MD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3600" y="601884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Resource Securit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228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uman Security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51640" y="0"/>
            <a:ext cx="184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Insecurity to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4864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6633"/>
                </a:solidFill>
                <a:latin typeface="Arial"/>
              </a:rPr>
              <a:t>Management Responsibility &amp; Basic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People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Forests 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5867280"/>
            <a:ext cx="229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6633"/>
                </a:solidFill>
                <a:latin typeface="Arial"/>
              </a:rPr>
              <a:t>Safety Net to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ests and initi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ucing poverty, restoring forestlands and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l people and protected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iances for managing land and seasc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oncerns when curbing illegal forest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knowledge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M Trends in Southeast As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U USAID CF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st Liv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COFTC EU UNDP SEARCA SGPPT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earch of Integr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pan Fund for Global Environmen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re is the  future for cultures and forests?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AO APFSOS 20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-Fire Bonus Scheme: Livelihood impacts of incentive payments for RED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ustralian National University, DENR, Besao Municipal Govern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mate policy as a component of fair and sustainable globalis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stitut für Gesellschaftspolitik &amp;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sdam Institute Climate Impact Resear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for tho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When the cultural fabric is strengthened, the environmental fabric holds. (In Search of Integr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important investment with communities is time, not money. (Forest Liv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In areas where cultural cohesion is strong, the preference is to have an incentive scheme that provides benefits not only to individuals but also to the entire commun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knowledge sharing between collective institutions and government systems improves the negotiating position of the smallholder sellers of environmental services. (No-Fire Bonus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8:21:09Z</dcterms:created>
  <dc:creator>Rowena Soriaga</dc:creator>
  <dc:description/>
  <dc:language>en-US</dc:language>
  <cp:lastModifiedBy>Casa, Maria (FOEL)</cp:lastModifiedBy>
  <dcterms:modified xsi:type="dcterms:W3CDTF">2009-03-27T11:26:35Z</dcterms:modified>
  <cp:revision>37</cp:revision>
  <dc:subject/>
  <dc:title>Glimpses of Developments in Asia-Pacific Forestry</dc:title>
</cp:coreProperties>
</file>