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2E1-72E6-4F9B-986F-2E64C59D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1FA-E572-4418-B2D4-29441991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8B83-1A82-442A-8C69-A792E617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393-6EC8-4C4A-AA2F-1975CFCC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EC3-8A3E-4734-9913-31DD622E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61B6-CBFC-46C0-AA6A-65BB8B77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E32-86F0-4892-A6AA-143FFFFA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F89-85B0-4548-B438-3D9CF46B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293-47CF-44A5-8E47-69BCDC8A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BF7-0B3D-40C3-A15D-26B64FCD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801-B111-48E0-B202-A4A1FA6F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95E2-8888-4A6B-85A8-CF379D60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1219320"/>
            <a:ext cx="9140760" cy="5632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E803-D12C-4FAB-837B-5430B4B4A2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01000" y="3505320"/>
            <a:ext cx="853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676520"/>
            <a:ext cx="3902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228600" y="6370560"/>
            <a:ext cx="457200" cy="4111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371600" y="914400"/>
            <a:ext cx="329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sia-Pacific Forest Policy Think Tan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atrick B. Du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nior Forestry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AO Regional Office for Asia and the Pa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90720" cy="893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79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sentation to COFO/ World Forestry Week 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Glimpses of Developments in Asia-Pacific Forestry”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ursday, 19 March 2009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3197160"/>
            <a:ext cx="2743200" cy="2063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895480" y="3200400"/>
            <a:ext cx="3124440" cy="2081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172200" y="3200400"/>
            <a:ext cx="28195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Planned first year activit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505880"/>
            <a:ext cx="762012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ment of Expert Advisory Group and Secretari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lization of a strategic plan, workplan, communications strategy and partnershi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of outre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bsi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-line discussion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ional Policy Bulle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ional seminar on forestry and the environment-energy-economics nex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ve training on forest policy (short cour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for strategic forest sector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ional policy studies and policy bri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412040" y="2057400"/>
            <a:ext cx="1620720" cy="2209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5532480"/>
            <a:ext cx="198108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00"/>
                </a:solidFill>
                <a:latin typeface="Arial"/>
              </a:rPr>
              <a:t>Building the Think Tank:     seeking partners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hink Tank cannot function in iso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king partners to contribute in various way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come ideas and collaboration as we move forwar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135920" y="4038480"/>
            <a:ext cx="1793880" cy="2676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114800" y="5003640"/>
            <a:ext cx="2514600" cy="1678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066680" y="4971960"/>
            <a:ext cx="22860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05320" y="2209680"/>
            <a:ext cx="53337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A small body of determined spirits fired by an unquenchable faith in their mission can alter the course of history.”  –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Gand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Thank you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223524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581280" y="4741920"/>
            <a:ext cx="5562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velopment of the Think T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going process over last several years to set up a regional forest policy network, or “Think Tank”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consultations were held in the Philippines to explore the need for, scope, terms of reference, et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ight of process by APFC and APFC            Executive Committ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 output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analysis identifying potential areas of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proposal/ concept no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477120" y="411480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traints to better forest policy in Asia-Pacif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current and reliable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analytical capacity and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fficient scaling-up of successful pilo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forums for interaction between policy analysts and decision m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stakeholder dialogue perceived to be complex/ time-dem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buy-in of decision ma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going beyond the “usual forestry suspec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 in identifying champ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705720" y="1447920"/>
            <a:ext cx="24382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nticipated roles of the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nk Tan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and share information about national exper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and analyze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objective analyses on regional polic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 information on policies that affect A-P fo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ddress common training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/modify appropriate economic and policy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and lend credibility to nation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align policies to institutional and sectora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stronger “voice” to Asian and                    Pacific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781680" y="5227560"/>
            <a:ext cx="236232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Vi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SimSun"/>
              </a:rPr>
              <a:t>The Asia-Pacific Forest Policy Think Tank is founded on a vision of a thriving, efficient and responsive Asia-Pacific forestry sector built on effective policy and robust policy analys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371600" y="4343400"/>
            <a:ext cx="2743200" cy="2251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029200" y="4343400"/>
            <a:ext cx="29718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Goa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33526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SimSun"/>
              </a:rPr>
              <a:t>Improve policy analysis capability and strengthen implementation of sustainable forest management b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Establishing an independent and neutral fo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Commissioning expert analysis of developments in forests and forestry and identifying sol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Supporting improvements in policy analysis cap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316640" y="1219320"/>
            <a:ext cx="182736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438280" y="1219320"/>
            <a:ext cx="2438640" cy="1676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4876920" y="1219320"/>
            <a:ext cx="24382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SimSun"/>
              </a:rPr>
              <a:t>Func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Asia-Pacific Forest Policy Think Tan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wi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Draw knowledge and expertise from multiple disciplines – especially policy, science and econo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Bring together a network of policy professionals and increase forest policy analysis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Build strong links among national and regional development and research institutions (“network of network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Respond rapidly and objectively to new developments affecting forests and fore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Provide a neutral forum for exchange of information on forest policy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324480" y="1828800"/>
            <a:ext cx="24098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324480" y="3962520"/>
            <a:ext cx="240984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roducts and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matic policy studies as identified by the Expert Advisory Gro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licy briefs built on the thematic stud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seminars on key policy-related iss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pacity-building workshops and short cour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ient-driven policy related products and serv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0120" y="5181480"/>
            <a:ext cx="1230120" cy="1676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676520" y="4876920"/>
            <a:ext cx="1274760" cy="1734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..."/>
          <p:cNvPicPr/>
          <p:nvPr/>
        </p:nvPicPr>
        <p:blipFill>
          <a:blip r:embed="rId4"/>
          <a:stretch/>
        </p:blipFill>
        <p:spPr>
          <a:xfrm>
            <a:off x="2666880" y="5257800"/>
            <a:ext cx="114300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657600" y="4800600"/>
            <a:ext cx="1201680" cy="1701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019920" y="4800600"/>
            <a:ext cx="23619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Proposed struc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946520" y="1432080"/>
            <a:ext cx="5543640" cy="5142600"/>
            <a:chOff x="1946520" y="1432080"/>
            <a:chExt cx="5543640" cy="5142600"/>
          </a:xfrm>
        </p:grpSpPr>
        <p:sp>
          <p:nvSpPr>
            <p:cNvPr id="87" name=""/>
            <p:cNvSpPr/>
            <p:nvPr/>
          </p:nvSpPr>
          <p:spPr>
            <a:xfrm>
              <a:off x="1946520" y="1432080"/>
              <a:ext cx="5543640" cy="13744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xpert Advisory 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s the overall framework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ink Tank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defining its scope and guiding establishment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d hoc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expert working group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46520" y="3493800"/>
              <a:ext cx="5543640" cy="1420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ecretari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lements activities, acts as a communications hub, maintains information systems, raises funds and organizes meetings, seminars, workshops and training cours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46520" y="5624280"/>
              <a:ext cx="5543640" cy="9504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d hoc expert working grou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dertake policy analyses and prepares reports and policy brief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60040" y="2806560"/>
              <a:ext cx="369360" cy="687240"/>
            </a:xfrm>
            <a:prstGeom prst="upDownArrow">
              <a:avLst>
                <a:gd name="adj1" fmla="val 50000"/>
                <a:gd name="adj2" fmla="val 3704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79480" y="4925520"/>
              <a:ext cx="369360" cy="687240"/>
            </a:xfrm>
            <a:prstGeom prst="upDownArrow">
              <a:avLst>
                <a:gd name="adj1" fmla="val 50000"/>
                <a:gd name="adj2" fmla="val 3704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03:25:42Z</dcterms:created>
  <dc:creator>Sini Jaakkola </dc:creator>
  <dc:description/>
  <dc:language>en-US</dc:language>
  <cp:lastModifiedBy>Casa, Maria (FOEL)</cp:lastModifiedBy>
  <dcterms:modified xsi:type="dcterms:W3CDTF">2009-03-27T11:26:03Z</dcterms:modified>
  <cp:revision>220</cp:revision>
  <dc:subject/>
  <dc:title>PowerPoint Presentation</dc:title>
</cp:coreProperties>
</file>