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0B17-2D26-4881-AAFA-B63D11990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933720"/>
            <a:ext cx="6400800" cy="5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585680"/>
            <a:ext cx="6400800" cy="5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A31A-EF0C-49FE-BAE6-6F57841B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933720"/>
            <a:ext cx="3123360" cy="5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933720"/>
            <a:ext cx="3123360" cy="5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585680"/>
            <a:ext cx="3123360" cy="5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585680"/>
            <a:ext cx="3123360" cy="5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11E1-71BD-45A7-A159-E81383EE5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933720"/>
            <a:ext cx="2060640" cy="5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933720"/>
            <a:ext cx="2060640" cy="5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933720"/>
            <a:ext cx="2060640" cy="5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585680"/>
            <a:ext cx="2060640" cy="5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585680"/>
            <a:ext cx="2060640" cy="5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585680"/>
            <a:ext cx="2060640" cy="5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0D0B-AED0-4046-8DA8-B32D5C526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9C70F-EE0A-4F41-A3D6-5B2AC02E26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93372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840859-8D3E-4377-80B3-3183A696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93372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7121D1-B092-438B-BD7E-BB4B4871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933720"/>
            <a:ext cx="312336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933720"/>
            <a:ext cx="312336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313EBF-FD08-49CD-A9BE-78229532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D683C-C069-48AC-BBF8-7D2229AC8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4360" y="220500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5D101-E77C-42C3-9737-7C4FAF5A5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933720"/>
            <a:ext cx="3123360" cy="5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933720"/>
            <a:ext cx="312336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371600" y="4585680"/>
            <a:ext cx="3123360" cy="5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3202F1-8570-4B1F-B67F-DDB1326F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93372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9410-E968-43F8-923F-BE4C809B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933720"/>
            <a:ext cx="312336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933720"/>
            <a:ext cx="3123360" cy="5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51560" y="4585680"/>
            <a:ext cx="3123360" cy="5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D0022-D144-4B06-BC19-B4E5577F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933720"/>
            <a:ext cx="3123360" cy="5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933720"/>
            <a:ext cx="3123360" cy="5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585680"/>
            <a:ext cx="6400800" cy="5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31B62-4465-4511-A5A4-FEAFD6AA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933720"/>
            <a:ext cx="6400800" cy="5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371600" y="4585680"/>
            <a:ext cx="6400800" cy="5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6798E6-9068-4EC5-BF79-6E12566C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933720"/>
            <a:ext cx="3123360" cy="5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933720"/>
            <a:ext cx="3123360" cy="5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4585680"/>
            <a:ext cx="3123360" cy="5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51560" y="4585680"/>
            <a:ext cx="3123360" cy="5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99E3D-7AA1-472A-804A-77655177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933720"/>
            <a:ext cx="2060640" cy="5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35560" y="3933720"/>
            <a:ext cx="2060640" cy="5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99880" y="3933720"/>
            <a:ext cx="2060640" cy="5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371600" y="4585680"/>
            <a:ext cx="2060640" cy="5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35560" y="4585680"/>
            <a:ext cx="2060640" cy="5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99880" y="4585680"/>
            <a:ext cx="2060640" cy="5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03A13-C22D-4A90-AD56-D812BF2917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93372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1DD2-8EB6-43C2-8AF5-5136C533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933720"/>
            <a:ext cx="312336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933720"/>
            <a:ext cx="312336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2BF3-E1B6-4915-AF04-E5C3CF17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0D84-4B4B-4191-A723-954199BB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220500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F2AB-61EF-4017-9E4C-60CB061D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933720"/>
            <a:ext cx="3123360" cy="5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933720"/>
            <a:ext cx="312336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585680"/>
            <a:ext cx="3123360" cy="5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DA49-8682-4153-A23C-98C3738C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933720"/>
            <a:ext cx="312336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933720"/>
            <a:ext cx="3123360" cy="5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585680"/>
            <a:ext cx="3123360" cy="5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FC69-80E7-4EBA-8FD7-6345C72C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933720"/>
            <a:ext cx="3123360" cy="5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933720"/>
            <a:ext cx="3123360" cy="5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585680"/>
            <a:ext cx="6400800" cy="5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1DC7-66D9-4C1D-AA8D-8C26413D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6252" b="0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C7C8-ED3F-4638-A12F-DFD6F0B67F42}" type="slidenum">
              <a:rPr b="0" lang="en-GB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>
            <a:biLevel thresh="50000"/>
            <a:alphaModFix amt="0"/>
          </a:blip>
          <a:stretch/>
        </p:blipFill>
        <p:spPr>
          <a:xfrm>
            <a:off x="304920" y="22860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295280" y="533520"/>
            <a:ext cx="7543800" cy="57909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1676160" y="5331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2209680" y="1828440"/>
            <a:ext cx="64771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rcRect l="0" t="0" r="6252" b="0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8f8f8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738E-7A3B-427C-A015-016BAB279E4E}" type="slidenum">
              <a:rPr b="1" lang="en-GB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219320"/>
            <a:ext cx="7772400" cy="44193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68436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>
            <a:biLevel thresh="50000"/>
            <a:alphaModFix amt="0"/>
          </a:blip>
          <a:stretch/>
        </p:blipFill>
        <p:spPr>
          <a:xfrm>
            <a:off x="4038480" y="5791320"/>
            <a:ext cx="1067040" cy="10666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 New Climate for Forests – Financing SFM in the GEF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93372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 L. McAlp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or, UN Forum on Fore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971800" y="1295280"/>
            <a:ext cx="3124080" cy="9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5331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GEF’s Contribution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68000" y="1828800"/>
            <a:ext cx="655164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 proven track record, an entity we kn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 the process of replenishment, giving us a great opportunity for sharpening priorities and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our years experience with Land Degrad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 new commitment to Sustainable Forest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 Country driven process “bottom up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2661" t="0" r="26630" b="0"/>
          <a:stretch/>
        </p:blipFill>
        <p:spPr>
          <a:xfrm>
            <a:off x="250920" y="1700280"/>
            <a:ext cx="194472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76160" y="5331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GEF’s Contributions .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09680" y="1828440"/>
            <a:ext cx="64771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ng which can be complementary to and “wrapped around” other fu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s actions related to the enabling environment, linked to policy and regulatory frameworks and capacity development more broad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contributing member of the Collaborative Partnership on Fore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18821" t="0" r="0" b="0"/>
          <a:stretch/>
        </p:blipFill>
        <p:spPr>
          <a:xfrm>
            <a:off x="250920" y="1700280"/>
            <a:ext cx="189396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160" y="5331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The GEF and UNFF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-- an Excellent Match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09680" y="1828440"/>
            <a:ext cx="64771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atural alliance between the GEF and UNFF in supporting the wider SFM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F’s role in implementing the Forest Instrument (NLB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F and UNFF face similar issues – promoting an integrated concept of SF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ancing an integrated approach to SFM is implicit in the GEF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66677" t="0" r="4291" b="0"/>
          <a:stretch/>
        </p:blipFill>
        <p:spPr>
          <a:xfrm>
            <a:off x="250920" y="1628640"/>
            <a:ext cx="19731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5331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 Thematic Approach</a:t>
            </a: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09680" y="1828440"/>
            <a:ext cx="64771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F funds the three Rio Conventions – Biodiversity, Desertification, Climate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it also takes a cross-cutting approach, which is one of the first experiments in working across with multiple minis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 Degradation and Sustainable Forest Management could benefit from this evolu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6220" t="0" r="10047" b="0"/>
          <a:stretch/>
        </p:blipFill>
        <p:spPr>
          <a:xfrm>
            <a:off x="250920" y="1700280"/>
            <a:ext cx="194472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5331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Climate Change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09680" y="1828440"/>
            <a:ext cx="64771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 risks being to forests today what wood was to forests 50 years ag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CPF, FIP, UN-REDD – pilots and then what?  GEF and other partners need to integrate the lessons lea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rbon Market – it has a place – but public sources of financing are still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0" r="20967" b="0"/>
          <a:stretch/>
        </p:blipFill>
        <p:spPr>
          <a:xfrm>
            <a:off x="250920" y="1628640"/>
            <a:ext cx="187308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5331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Structural Adjustment (bis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09680" y="1828440"/>
            <a:ext cx="64771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F experience shows that a project approach is not effective for transformational change and is moving towards a programmatic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ncludes a longer-term strategy and engaging with other institutions based on their comparative 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9291" t="0" r="7654" b="0"/>
          <a:stretch/>
        </p:blipFill>
        <p:spPr>
          <a:xfrm>
            <a:off x="250920" y="1628640"/>
            <a:ext cx="194472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5331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09680" y="1828440"/>
            <a:ext cx="64771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FF sees the real importance of GEF in implementing SFM, the four Global Objectives and the Forest Instru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: Could UNFF provide policy guidance for consideration by the GEF in implementing SFM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6199" t="0" r="10357" b="0"/>
          <a:stretch/>
        </p:blipFill>
        <p:spPr>
          <a:xfrm>
            <a:off x="250920" y="1700280"/>
            <a:ext cx="19447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rebuchet MS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5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8200"/>
                </a:solidFill>
                <a:latin typeface="Arial"/>
              </a:rPr>
              <a:t>United Nations Forum on For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un.org/esa/fo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4:55:08Z</dcterms:created>
  <dc:creator>Unset</dc:creator>
  <dc:description/>
  <cp:keywords/>
  <dc:language>en-US</dc:language>
  <cp:lastModifiedBy>Casa, Maria (FOEL)</cp:lastModifiedBy>
  <dcterms:modified xsi:type="dcterms:W3CDTF">2009-03-27T11:19:51Z</dcterms:modified>
  <cp:revision>10</cp:revision>
  <dc:subject/>
  <dc:title>Access to financing for sustainable forest manage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33</vt:lpwstr>
  </property>
</Properties>
</file>