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072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BCB-7FAE-4E66-8321-0F968C39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89D-E5BA-4EB6-8169-DAEE5F7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101-828B-4956-B880-7DF42958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AA3-C447-4783-9E21-8F8857F7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C0C-8C9D-4224-A588-3FAB341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9B2-C670-4D47-AD24-4C1284A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8CA-463A-4F3D-99DD-8147B43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36C-FB87-4551-8E62-98AE08BF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585-179C-49F4-9A24-8A8EE777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4EE-710B-432C-9EFF-115F01E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BE0-29F7-406A-A897-3D46EF9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CCD-09CC-47A7-9222-BE2C21F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f5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2f5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2f5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2f5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2f5d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2f5d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2f5d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f5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f5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f5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f5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f5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41D2-BE60-4641-93B7-2CBC4AD5A36F}" type="slidenum">
              <a:rPr b="0" lang="en-US" sz="1400" spc="-1" strike="noStrike">
                <a:solidFill>
                  <a:srgbClr val="002f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hyperlink" Target="mailto:itto@itto.or.jp" TargetMode="External"/><Relationship Id="rId6" Type="http://schemas.openxmlformats.org/officeDocument/2006/relationships/hyperlink" Target="http://www.itto.or.jp/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557" t="4747" r="20899" b="1322"/>
          <a:stretch/>
        </p:blipFill>
        <p:spPr>
          <a:xfrm>
            <a:off x="7118280" y="3597120"/>
            <a:ext cx="1067040" cy="107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70440" y="5892840"/>
            <a:ext cx="468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baseline="4000">
                <a:solidFill>
                  <a:srgbClr val="002f5d"/>
                </a:solidFill>
                <a:latin typeface="Arial"/>
              </a:rPr>
              <a:t>INTERNATIONAL</a:t>
            </a:r>
            <a:r>
              <a:rPr b="0" lang="en-AU" sz="1800" spc="-1" strike="noStrike">
                <a:solidFill>
                  <a:srgbClr val="002f5d"/>
                </a:solidFill>
                <a:latin typeface="Arial"/>
              </a:rPr>
              <a:t> </a:t>
            </a:r>
            <a:r>
              <a:rPr b="0" lang="en-AU" sz="1800" spc="-1" strike="noStrike" baseline="4000">
                <a:solidFill>
                  <a:srgbClr val="002f5d"/>
                </a:solidFill>
                <a:latin typeface="Arial"/>
              </a:rPr>
              <a:t>TROPICAL TIMBER ORGANIZATION (ITTO)</a:t>
            </a:r>
            <a:endParaRPr b="0" lang="en-US" sz="18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24382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0" y="798480"/>
            <a:ext cx="1371600" cy="103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981080"/>
            <a:ext cx="4743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ITTO &amp; CITES : Collaboration for trade in sustainably managed tropical timber species</a:t>
            </a:r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" y="0"/>
            <a:ext cx="75888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30400" y="685800"/>
            <a:ext cx="107928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685800"/>
            <a:ext cx="107928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158920"/>
            <a:ext cx="107928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5084640"/>
            <a:ext cx="107928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08920" y="3598920"/>
            <a:ext cx="107928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029200"/>
            <a:ext cx="434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f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429000"/>
            <a:ext cx="30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657600"/>
            <a:ext cx="380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3581280"/>
            <a:ext cx="228600" cy="1143000"/>
          </a:xfrm>
          <a:prstGeom prst="rect">
            <a:avLst/>
          </a:prstGeom>
          <a:solidFill>
            <a:srgbClr val="e6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81200" y="3571920"/>
          <a:ext cx="1077840" cy="10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1200" y="3571920"/>
                    <a:ext cx="10778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095720" y="3571920"/>
          <a:ext cx="1077840" cy="10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95720" y="3571920"/>
                    <a:ext cx="10778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592360" y="357984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638680" y="3591000"/>
          <a:ext cx="1078200" cy="10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591000"/>
                    <a:ext cx="10782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635800" y="3594240"/>
            <a:ext cx="107928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2480" y="357516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0440" y="510552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f5d"/>
                </a:solidFill>
                <a:latin typeface="Arial"/>
              </a:rPr>
              <a:t>COFO, 19 March 2009</a:t>
            </a:r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58920" y="1098720"/>
            <a:ext cx="6756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981080"/>
            <a:ext cx="6400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ITTO mandate to promote tropical SFM highly relevant to CITES listed timber specie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Collaboration since early 1990s through participation in and support of CITES Timber Working Group and later Mahogany Working Group; several ITTC decision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Collaborative activities include Ramin expert meeting (Malaysia, May 2006),  cosponsoring Mahogany Working Group meetings (eg Peru, June 2006), many more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Worked together in 2005-06 to develop a larger capacity building project 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00120" y="208584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90400" y="5010120"/>
            <a:ext cx="107820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762480"/>
            <a:ext cx="6832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ITTO / CITES Partnership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828800"/>
            <a:ext cx="68580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f5d"/>
                </a:solidFill>
                <a:latin typeface="Arial"/>
              </a:rPr>
              <a:t>Ensure international trade in CITES-listed tropical timber species is consistent with their sustainable management and conservation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876400"/>
            <a:ext cx="69343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2f5d"/>
                </a:solidFill>
                <a:latin typeface="Arial"/>
              </a:rPr>
              <a:t>Major activities: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Development of national/regional plans and project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Implementing pilot log tracking scheme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Design of resource inventorie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Develop/implement improved management plan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Undertake case studies on and develop guidelines for making NDF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120" y="353376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8920" y="1098720"/>
            <a:ext cx="6070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Capacity building project 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027160"/>
            <a:ext cx="693432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2f5d"/>
                </a:solidFill>
                <a:latin typeface="Arial"/>
              </a:rPr>
              <a:t>Major activities </a:t>
            </a:r>
            <a:r>
              <a:rPr b="1" i="1" lang="en-AU" sz="2200" spc="-1" strike="noStrike">
                <a:solidFill>
                  <a:srgbClr val="002f5d"/>
                </a:solidFill>
                <a:latin typeface="Arial"/>
              </a:rPr>
              <a:t>(cont’d)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Establish (or support existing) national/regional fora dealing with management of endangered timber specie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Develop cost-effective regulatory systems for endangered timber species (tracking, market studies, incentives)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CITES training workshop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Developing project website 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Other relevant activities developed in liaison with range state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2057400"/>
            <a:ext cx="1074960" cy="107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18189" t="7873" r="20248" b="0"/>
          <a:stretch/>
        </p:blipFill>
        <p:spPr>
          <a:xfrm>
            <a:off x="609480" y="5029200"/>
            <a:ext cx="1078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8920" y="1098720"/>
            <a:ext cx="6070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Capacity building project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2027160"/>
            <a:ext cx="6400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f5d"/>
                </a:solidFill>
                <a:latin typeface="Arial"/>
              </a:rPr>
              <a:t>Funding and eligibility</a:t>
            </a:r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Project included for funding in ITTO’s Work Program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Total budget $3.75 million (3 million euro in 2006) over 3.5 year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2.4 million euro grant from European Commission approved in late 2006, funds received and activities commenced in 2007 with recruitment of regional coordinators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9480" y="5019840"/>
            <a:ext cx="1079640" cy="1079280"/>
          </a:xfrm>
          <a:prstGeom prst="rect">
            <a:avLst/>
          </a:prstGeom>
          <a:ln w="15840">
            <a:solidFill>
              <a:srgbClr val="c1c49a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1076400" cy="108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7971" r="0" b="16610"/>
          <a:stretch/>
        </p:blipFill>
        <p:spPr>
          <a:xfrm>
            <a:off x="609480" y="3505320"/>
            <a:ext cx="1078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8920" y="1098720"/>
            <a:ext cx="6070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Capacity building project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2027160"/>
            <a:ext cx="64008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f5d"/>
                </a:solidFill>
                <a:latin typeface="Arial"/>
              </a:rPr>
              <a:t>Funding and eligibility</a:t>
            </a:r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Beyond EU, additional funds pledged at ITTO Council Sessions (from USA, Japan, Norway)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Funds cover 3 tropical regions, focus of assistance on main exporters (Cameroon, Congo, DRC, Indonesia, Malaysia, Bolivia, Brazil, Peru) of Appendix II listed timber species (</a:t>
            </a:r>
            <a:r>
              <a:rPr b="0" i="1" lang="en-AU" sz="2200" spc="-1" strike="noStrike">
                <a:solidFill>
                  <a:srgbClr val="002f5d"/>
                </a:solidFill>
                <a:latin typeface="Arial"/>
              </a:rPr>
              <a:t>Pericopsis elata</a:t>
            </a: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 –afrormosia; </a:t>
            </a:r>
            <a:r>
              <a:rPr b="0" i="1" lang="en-AU" sz="2200" spc="-1" strike="noStrike">
                <a:solidFill>
                  <a:srgbClr val="002f5d"/>
                </a:solidFill>
                <a:latin typeface="Arial"/>
              </a:rPr>
              <a:t>Gonystylus</a:t>
            </a: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 spp. – ramin; </a:t>
            </a:r>
            <a:r>
              <a:rPr b="0" i="1" lang="en-AU" sz="2200" spc="-1" strike="noStrike">
                <a:solidFill>
                  <a:srgbClr val="002f5d"/>
                </a:solidFill>
                <a:latin typeface="Arial"/>
              </a:rPr>
              <a:t>Swietenia macrophylla</a:t>
            </a: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 – mahogany) 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Workshops and training material will benefit all countries (including importers)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9480" y="5019840"/>
            <a:ext cx="1079640" cy="1079280"/>
          </a:xfrm>
          <a:prstGeom prst="rect">
            <a:avLst/>
          </a:prstGeom>
          <a:ln w="15840">
            <a:solidFill>
              <a:srgbClr val="c1c49a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1076400" cy="1085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0" t="7971" r="0" b="16610"/>
          <a:stretch/>
        </p:blipFill>
        <p:spPr>
          <a:xfrm>
            <a:off x="609480" y="3505320"/>
            <a:ext cx="1078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6880" y="353052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8920" y="1098720"/>
            <a:ext cx="6070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2f5d"/>
                </a:solidFill>
                <a:latin typeface="Arial"/>
                <a:ea typeface="ＭＳ Ｐゴシック"/>
              </a:rPr>
              <a:t>Capacity building project</a:t>
            </a:r>
            <a:endParaRPr b="0" lang="en-US" sz="28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6880" y="209088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88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027160"/>
            <a:ext cx="670572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f5d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Activities underway in Brazil, Cameroon, Indonesia, Malaysia, Mexico, Peru, DRC; activity proposals nearly finalized in Bolivia and Congo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Several regional workshops convened/planned (develop afrormosia and ramin action plans; Mahogany Working Group; log-sawn conversion factors for mahogany and cedrela) 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2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2f5d"/>
                </a:solidFill>
                <a:latin typeface="Arial"/>
              </a:rPr>
              <a:t>Strong interest from target countries; additional funding being sought to meet demand; program will be on-going </a:t>
            </a:r>
            <a:endParaRPr b="0" lang="en-US" sz="22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5019840"/>
            <a:ext cx="1079640" cy="1079280"/>
          </a:xfrm>
          <a:prstGeom prst="rect">
            <a:avLst/>
          </a:prstGeom>
          <a:ln w="15840">
            <a:solidFill>
              <a:srgbClr val="c1c49a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107640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rcRect l="0" t="7971" r="0" b="16610"/>
          <a:stretch/>
        </p:blipFill>
        <p:spPr>
          <a:xfrm>
            <a:off x="609480" y="3505320"/>
            <a:ext cx="1078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68755" b="0"/>
          <a:stretch/>
        </p:blipFill>
        <p:spPr>
          <a:xfrm>
            <a:off x="358920" y="0"/>
            <a:ext cx="7617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" y="0"/>
            <a:ext cx="360360" cy="6858000"/>
          </a:xfrm>
          <a:prstGeom prst="rect">
            <a:avLst/>
          </a:prstGeom>
          <a:solidFill>
            <a:srgbClr val="2e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80" y="3530520"/>
            <a:ext cx="107928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720" y="5016600"/>
            <a:ext cx="1079640" cy="107928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6880" y="922320"/>
            <a:ext cx="109224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58920" y="91440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58920" y="1752480"/>
            <a:ext cx="6985080" cy="0"/>
          </a:xfrm>
          <a:prstGeom prst="line">
            <a:avLst/>
          </a:prstGeom>
          <a:ln w="3960">
            <a:solidFill>
              <a:srgbClr val="002f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720" y="2057400"/>
            <a:ext cx="1079640" cy="1079640"/>
          </a:xfrm>
          <a:prstGeom prst="rect">
            <a:avLst/>
          </a:prstGeom>
          <a:noFill/>
          <a:ln w="15840">
            <a:solidFill>
              <a:srgbClr val="c1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f5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1680" y="3530520"/>
          <a:ext cx="1079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53052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768840" y="3200400"/>
            <a:ext cx="2936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f5d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2f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e7690"/>
                </a:solidFill>
                <a:uFillTx/>
                <a:latin typeface="Arial"/>
                <a:hlinkClick r:id="rId5"/>
              </a:rPr>
              <a:t>itto@itto.or.jp</a:t>
            </a:r>
            <a:r>
              <a:rPr b="0" lang="en-US" sz="2000" spc="-1" strike="noStrike" u="sng">
                <a:solidFill>
                  <a:srgbClr val="002f5d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2f5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e7690"/>
                </a:solidFill>
                <a:uFillTx/>
                <a:latin typeface="Arial"/>
                <a:hlinkClick r:id="rId6"/>
              </a:rPr>
              <a:t>www.itto.or.jp</a:t>
            </a:r>
            <a:endParaRPr b="0" lang="en-US" sz="2000" spc="-1" strike="noStrike">
              <a:solidFill>
                <a:srgbClr val="002f5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1:49:49Z</dcterms:created>
  <dc:creator>ITTO</dc:creator>
  <dc:description/>
  <dc:language>en-US</dc:language>
  <cp:lastModifiedBy>Casa, Maria (FOEL)</cp:lastModifiedBy>
  <dcterms:modified xsi:type="dcterms:W3CDTF">2009-03-27T11:21:41Z</dcterms:modified>
  <cp:revision>298</cp:revision>
  <dc:subject/>
  <dc:title>ITTO presentation</dc:title>
</cp:coreProperties>
</file>