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4E4-99B9-4A62-B3C2-7F28B69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7E5-80A8-4020-8A77-DDCD7119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887-4B23-4F69-B676-C19BAE6A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FFE-F74B-48C3-9CA5-E310527F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1EC-147E-4278-89B8-2509065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296-421B-44FD-A287-F688009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F43-6D77-4F82-814C-A5F29D9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193-3849-4096-986F-344C7EF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7C1-EB21-4D3D-ACAA-F5E7E9A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FAE-AB36-48EF-9C03-3DB66DBD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2AE-2809-4B74-920E-F4CE283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663-FE9A-4C37-BE6F-6448C59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772-CF43-415E-9873-9908A0B4DD52}" type="slidenum">
              <a:rPr b="0" lang="es-S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EXPERIENCIA EN LA ELABORACIÓN DE ESTRATEGIA FINANCIERA FORESTAL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EL SALVAD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53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Calibri"/>
              </a:rPr>
              <a:t>Presentador: Ing. Josué Guardado, DGF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Calibri"/>
              </a:rPr>
              <a:t>Comisión Forestal (COF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Calibri"/>
              </a:rPr>
              <a:t>16 al 20 Marzo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onector recto"/>
          <p:cNvSpPr/>
          <p:nvPr/>
        </p:nvSpPr>
        <p:spPr>
          <a:xfrm>
            <a:off x="357120" y="3857760"/>
            <a:ext cx="83581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8 Conector recto"/>
          <p:cNvSpPr/>
          <p:nvPr/>
        </p:nvSpPr>
        <p:spPr>
          <a:xfrm>
            <a:off x="2133720" y="6477120"/>
            <a:ext cx="5000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10810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779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4653000"/>
            <a:ext cx="5976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Área:  21,000 km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Población: 5.9 millones habi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12 % de cobertura fores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8692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SIES MESES ANT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1e1c1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SECTOR FORESTAL CON DIFICULTADES DE OBTENER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LIMITADA COMUNICACION ENTRE SECTOR FINANCIERO Y SECTOR FORES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SECTOR FORESTAL SIN ACCESO A INSTRUMENTOS BURSÁTILES Y LA BOLSA DE VAL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COMISIÓN FORESTAL CON LIMITADA EFE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NCENTIVO FORESTAL CON BAJO NIVEL DE ATRAC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6 Conector recto"/>
          <p:cNvSpPr/>
          <p:nvPr/>
        </p:nvSpPr>
        <p:spPr>
          <a:xfrm>
            <a:off x="0" y="1143000"/>
            <a:ext cx="9286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OCESO DE ESTRATEGIA FINANCIERA FOREST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5 Cheurón"/>
          <p:cNvSpPr/>
          <p:nvPr/>
        </p:nvSpPr>
        <p:spPr>
          <a:xfrm>
            <a:off x="108000" y="2571840"/>
            <a:ext cx="1857240" cy="8571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0" y="21600"/>
                </a:lnTo>
                <a:lnTo>
                  <a:pt x="4985" y="108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Taller 24 al 26 sep 2008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 Cheurón"/>
          <p:cNvSpPr/>
          <p:nvPr/>
        </p:nvSpPr>
        <p:spPr>
          <a:xfrm>
            <a:off x="1692360" y="2571840"/>
            <a:ext cx="2000160" cy="8571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0" y="21600"/>
                </a:lnTo>
                <a:lnTo>
                  <a:pt x="4629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ordinación                       con bols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valores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Cheurón"/>
          <p:cNvSpPr/>
          <p:nvPr/>
        </p:nvSpPr>
        <p:spPr>
          <a:xfrm>
            <a:off x="3490920" y="257184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ordin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n  sectores     priva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úblico y Banca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8 Cheurón"/>
          <p:cNvSpPr/>
          <p:nvPr/>
        </p:nvSpPr>
        <p:spPr>
          <a:xfrm>
            <a:off x="5219640" y="2571840"/>
            <a:ext cx="2071800" cy="85716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1" y="0"/>
                </a:lnTo>
                <a:lnTo>
                  <a:pt x="21600" y="10800"/>
                </a:lnTo>
                <a:lnTo>
                  <a:pt x="17131" y="21600"/>
                </a:lnTo>
                <a:lnTo>
                  <a:pt x="0" y="21600"/>
                </a:lnTo>
                <a:lnTo>
                  <a:pt x="4469" y="108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Reestructuración     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mis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Forestal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9 Cheurón"/>
          <p:cNvSpPr/>
          <p:nvPr/>
        </p:nvSpPr>
        <p:spPr>
          <a:xfrm>
            <a:off x="1692360" y="3643200"/>
            <a:ext cx="2000160" cy="85752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0" y="21600"/>
                </a:lnTo>
                <a:lnTo>
                  <a:pt x="4629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ordin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n Banc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ra FIDEICOMISOS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1 Conector recto"/>
          <p:cNvSpPr/>
          <p:nvPr/>
        </p:nvSpPr>
        <p:spPr>
          <a:xfrm>
            <a:off x="571680" y="6072120"/>
            <a:ext cx="8286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12 CuadroTexto"/>
          <p:cNvGrpSpPr/>
          <p:nvPr/>
        </p:nvGrpSpPr>
        <p:grpSpPr>
          <a:xfrm>
            <a:off x="108000" y="6308640"/>
            <a:ext cx="1441080" cy="315360"/>
            <a:chOff x="108000" y="6308640"/>
            <a:chExt cx="1441080" cy="315360"/>
          </a:xfrm>
        </p:grpSpPr>
        <p:pic>
          <p:nvPicPr>
            <p:cNvPr id="60" name="12 CuadroTexto" descr=""/>
            <p:cNvPicPr/>
            <p:nvPr/>
          </p:nvPicPr>
          <p:blipFill>
            <a:blip r:embed="rId1"/>
            <a:stretch/>
          </p:blipFill>
          <p:spPr>
            <a:xfrm>
              <a:off x="108000" y="6308640"/>
              <a:ext cx="144108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16640" y="631692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Sep/ oct 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13 CuadroTexto"/>
          <p:cNvGrpSpPr/>
          <p:nvPr/>
        </p:nvGrpSpPr>
        <p:grpSpPr>
          <a:xfrm>
            <a:off x="1911240" y="6308640"/>
            <a:ext cx="1436400" cy="315360"/>
            <a:chOff x="1911240" y="6308640"/>
            <a:chExt cx="1436400" cy="315360"/>
          </a:xfrm>
        </p:grpSpPr>
        <p:pic>
          <p:nvPicPr>
            <p:cNvPr id="63" name="13 CuadroTexto" descr=""/>
            <p:cNvPicPr/>
            <p:nvPr/>
          </p:nvPicPr>
          <p:blipFill>
            <a:blip r:embed="rId2"/>
            <a:stretch/>
          </p:blipFill>
          <p:spPr>
            <a:xfrm>
              <a:off x="1911240" y="6308640"/>
              <a:ext cx="14364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914840" y="6316920"/>
              <a:ext cx="142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Oct/ Nov 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14 CuadroTexto"/>
          <p:cNvGrpSpPr/>
          <p:nvPr/>
        </p:nvGrpSpPr>
        <p:grpSpPr>
          <a:xfrm>
            <a:off x="3556080" y="6308640"/>
            <a:ext cx="1584000" cy="315360"/>
            <a:chOff x="3556080" y="6308640"/>
            <a:chExt cx="1584000" cy="315360"/>
          </a:xfrm>
        </p:grpSpPr>
        <p:pic>
          <p:nvPicPr>
            <p:cNvPr id="66" name="14 CuadroTexto" descr=""/>
            <p:cNvPicPr/>
            <p:nvPr/>
          </p:nvPicPr>
          <p:blipFill>
            <a:blip r:embed="rId3"/>
            <a:stretch/>
          </p:blipFill>
          <p:spPr>
            <a:xfrm>
              <a:off x="3556080" y="6308640"/>
              <a:ext cx="15840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65440" y="6316920"/>
              <a:ext cx="156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Diciembre  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15 CuadroTexto"/>
          <p:cNvGrpSpPr/>
          <p:nvPr/>
        </p:nvGrpSpPr>
        <p:grpSpPr>
          <a:xfrm>
            <a:off x="5442120" y="6278400"/>
            <a:ext cx="1225440" cy="315360"/>
            <a:chOff x="5442120" y="6278400"/>
            <a:chExt cx="1225440" cy="315360"/>
          </a:xfrm>
        </p:grpSpPr>
        <p:pic>
          <p:nvPicPr>
            <p:cNvPr id="69" name="15 CuadroTexto" descr=""/>
            <p:cNvPicPr/>
            <p:nvPr/>
          </p:nvPicPr>
          <p:blipFill>
            <a:blip r:embed="rId4"/>
            <a:stretch/>
          </p:blipFill>
          <p:spPr>
            <a:xfrm>
              <a:off x="5442120" y="6278400"/>
              <a:ext cx="122544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448240" y="6286680"/>
              <a:ext cx="121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Enero 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17 Cheurón"/>
          <p:cNvSpPr/>
          <p:nvPr/>
        </p:nvSpPr>
        <p:spPr>
          <a:xfrm>
            <a:off x="7020000" y="257184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resent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strumento bursátil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18 CuadroTexto"/>
          <p:cNvGrpSpPr/>
          <p:nvPr/>
        </p:nvGrpSpPr>
        <p:grpSpPr>
          <a:xfrm>
            <a:off x="7042320" y="6284880"/>
            <a:ext cx="1366200" cy="315360"/>
            <a:chOff x="7042320" y="6284880"/>
            <a:chExt cx="1366200" cy="315360"/>
          </a:xfrm>
        </p:grpSpPr>
        <p:pic>
          <p:nvPicPr>
            <p:cNvPr id="73" name="18 CuadroTexto" descr=""/>
            <p:cNvPicPr/>
            <p:nvPr/>
          </p:nvPicPr>
          <p:blipFill>
            <a:blip r:embed="rId5"/>
            <a:stretch/>
          </p:blipFill>
          <p:spPr>
            <a:xfrm>
              <a:off x="7042320" y="6284880"/>
              <a:ext cx="136620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047720" y="6293160"/>
              <a:ext cx="135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Febrero  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19 Cheurón"/>
          <p:cNvSpPr/>
          <p:nvPr/>
        </p:nvSpPr>
        <p:spPr>
          <a:xfrm>
            <a:off x="5219640" y="3643200"/>
            <a:ext cx="1928880" cy="8575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vances de           instrumento     bursátiles  y fideicomi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20 Cheurón"/>
          <p:cNvSpPr/>
          <p:nvPr/>
        </p:nvSpPr>
        <p:spPr>
          <a:xfrm>
            <a:off x="3490920" y="3643200"/>
            <a:ext cx="1928880" cy="8575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Reuniones par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valuación 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la Comisión Forestal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1 Cheurón"/>
          <p:cNvSpPr/>
          <p:nvPr/>
        </p:nvSpPr>
        <p:spPr>
          <a:xfrm>
            <a:off x="6948360" y="3643200"/>
            <a:ext cx="1944720" cy="8575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labor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plan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ilot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2 Cheurón"/>
          <p:cNvSpPr/>
          <p:nvPr/>
        </p:nvSpPr>
        <p:spPr>
          <a:xfrm>
            <a:off x="5148360" y="4714920"/>
            <a:ext cx="1928880" cy="85716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l MAG. apo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 la 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ire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Forestal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23 Cheurón"/>
          <p:cNvSpPr/>
          <p:nvPr/>
        </p:nvSpPr>
        <p:spPr>
          <a:xfrm>
            <a:off x="3419640" y="4714920"/>
            <a:ext cx="1928520" cy="85716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resent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l incentivo forestal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4 Cheurón"/>
          <p:cNvSpPr/>
          <p:nvPr/>
        </p:nvSpPr>
        <p:spPr>
          <a:xfrm>
            <a:off x="1692360" y="4714920"/>
            <a:ext cx="2000160" cy="8571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0" y="21600"/>
                </a:lnTo>
                <a:lnTo>
                  <a:pt x="4629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Talleres para valid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incentivo forestal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26 Cheurón"/>
          <p:cNvSpPr/>
          <p:nvPr/>
        </p:nvSpPr>
        <p:spPr>
          <a:xfrm>
            <a:off x="6877080" y="4714920"/>
            <a:ext cx="2000160" cy="8571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lnTo>
                  <a:pt x="4800" y="108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labor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bas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r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l fideicomiso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28 Cheurón"/>
          <p:cNvSpPr/>
          <p:nvPr/>
        </p:nvSpPr>
        <p:spPr>
          <a:xfrm>
            <a:off x="108000" y="3643200"/>
            <a:ext cx="1857240" cy="8575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0" y="21600"/>
                </a:lnTo>
                <a:lnTo>
                  <a:pt x="4985" y="108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Se acuerda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tres instrumentos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9 Cheurón"/>
          <p:cNvSpPr/>
          <p:nvPr/>
        </p:nvSpPr>
        <p:spPr>
          <a:xfrm>
            <a:off x="108000" y="4714920"/>
            <a:ext cx="1857240" cy="8571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0" y="21600"/>
                </a:lnTo>
                <a:lnTo>
                  <a:pt x="4985" y="108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Se logran acuer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 Ministr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0 CuadroTexto"/>
          <p:cNvSpPr/>
          <p:nvPr/>
        </p:nvSpPr>
        <p:spPr>
          <a:xfrm>
            <a:off x="826920" y="1652760"/>
            <a:ext cx="7345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COORDINACIÓN, FINANCIAMIENTO, ASESORIA Y SEGUIMIENTO DE F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4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9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4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3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3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7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7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56000" y="2924280"/>
            <a:ext cx="3744720" cy="2376360"/>
            <a:chOff x="2556000" y="2924280"/>
            <a:chExt cx="3744720" cy="2376360"/>
          </a:xfrm>
        </p:grpSpPr>
        <p:pic>
          <p:nvPicPr>
            <p:cNvPr id="86" name="3 Triángulo isósceles" descr=""/>
            <p:cNvPicPr/>
            <p:nvPr/>
          </p:nvPicPr>
          <p:blipFill>
            <a:blip r:embed="rId1"/>
            <a:stretch/>
          </p:blipFill>
          <p:spPr>
            <a:xfrm>
              <a:off x="2556000" y="2924280"/>
              <a:ext cx="374472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547080" y="3894840"/>
              <a:ext cx="17647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SECTOR FORESTAL Y LOS DEMAS SECT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8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MEJORAS EN LA COMUNCI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9 Conector angular"/>
          <p:cNvCxnSpPr/>
          <p:nvPr/>
        </p:nvCxnSpPr>
        <p:spPr>
          <a:xfrm flipV="1">
            <a:off x="5867280" y="1713960"/>
            <a:ext cx="1000800" cy="85788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11 Conector angular"/>
          <p:cNvCxnSpPr/>
          <p:nvPr/>
        </p:nvCxnSpPr>
        <p:spPr>
          <a:xfrm rot="10800000">
            <a:off x="1928160" y="1785240"/>
            <a:ext cx="85788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12 CuadroTexto"/>
          <p:cNvSpPr/>
          <p:nvPr/>
        </p:nvSpPr>
        <p:spPr>
          <a:xfrm>
            <a:off x="6948360" y="1000080"/>
            <a:ext cx="21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han identificado  actores  del sector público, y privado, universidades, Banca, Bolsa de Valores, Gremiales, cooperativas, Organismos financi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3 CuadroTexto"/>
          <p:cNvSpPr/>
          <p:nvPr/>
        </p:nvSpPr>
        <p:spPr>
          <a:xfrm>
            <a:off x="395280" y="1268280"/>
            <a:ext cx="13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os actores principales  participaran en elaboración de  compromis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15 Conector recto de flecha"/>
          <p:cNvCxnSpPr/>
          <p:nvPr/>
        </p:nvCxnSpPr>
        <p:spPr>
          <a:xfrm flipV="1">
            <a:off x="4354920" y="1699920"/>
            <a:ext cx="2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16 CuadroTexto"/>
          <p:cNvSpPr/>
          <p:nvPr/>
        </p:nvSpPr>
        <p:spPr>
          <a:xfrm>
            <a:off x="3132000" y="917640"/>
            <a:ext cx="243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Existen Reuniones periódicas de integración con los actores del sector forestal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20 Conector angular"/>
          <p:cNvCxnSpPr/>
          <p:nvPr/>
        </p:nvCxnSpPr>
        <p:spPr>
          <a:xfrm rot="5400000">
            <a:off x="2249640" y="2743920"/>
            <a:ext cx="714960" cy="501120"/>
          </a:xfrm>
          <a:prstGeom prst="bentConnector3">
            <a:avLst>
              <a:gd name="adj1" fmla="val 4997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21 CuadroTexto"/>
          <p:cNvSpPr/>
          <p:nvPr/>
        </p:nvSpPr>
        <p:spPr>
          <a:xfrm>
            <a:off x="179280" y="3436920"/>
            <a:ext cx="300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ha logrado un  entendimiento entre el sector financiero y bursátil con el sector privado forestal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23 Conector angular"/>
          <p:cNvCxnSpPr/>
          <p:nvPr/>
        </p:nvCxnSpPr>
        <p:spPr>
          <a:xfrm flipH="1" rot="16200000">
            <a:off x="6142680" y="2276280"/>
            <a:ext cx="1143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24 CuadroTexto"/>
          <p:cNvSpPr/>
          <p:nvPr/>
        </p:nvSpPr>
        <p:spPr>
          <a:xfrm>
            <a:off x="5651640" y="3357720"/>
            <a:ext cx="31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Bolsa de Valores está trabajando en un instrumento Bursá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26 Conector angular"/>
          <p:cNvCxnSpPr/>
          <p:nvPr/>
        </p:nvCxnSpPr>
        <p:spPr>
          <a:xfrm flipH="1" rot="16200000">
            <a:off x="4970160" y="3172320"/>
            <a:ext cx="2715480" cy="1786680"/>
          </a:xfrm>
          <a:prstGeom prst="bentConnector3">
            <a:avLst>
              <a:gd name="adj1" fmla="val 5005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27 CuadroTexto"/>
          <p:cNvSpPr/>
          <p:nvPr/>
        </p:nvSpPr>
        <p:spPr>
          <a:xfrm>
            <a:off x="6084720" y="544500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logró apoyo de los Bancos Estatales para el desarrollo del Fideicomi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29 Conector angular"/>
          <p:cNvCxnSpPr/>
          <p:nvPr/>
        </p:nvCxnSpPr>
        <p:spPr>
          <a:xfrm rot="5400000">
            <a:off x="617400" y="3134160"/>
            <a:ext cx="2877480" cy="2313720"/>
          </a:xfrm>
          <a:prstGeom prst="bentConnector3">
            <a:avLst>
              <a:gd name="adj1" fmla="val 4977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31 CuadroTexto"/>
          <p:cNvSpPr/>
          <p:nvPr/>
        </p:nvSpPr>
        <p:spPr>
          <a:xfrm>
            <a:off x="285840" y="5857920"/>
            <a:ext cx="270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ha logrado un acuerdo para desarrollar una estrategia de comercialización en la cadena de valor produ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4 CuadroTexto"/>
          <p:cNvGrpSpPr/>
          <p:nvPr/>
        </p:nvGrpSpPr>
        <p:grpSpPr>
          <a:xfrm>
            <a:off x="2700360" y="2060640"/>
            <a:ext cx="3676680" cy="1080720"/>
            <a:chOff x="2700360" y="2060640"/>
            <a:chExt cx="3676680" cy="1080720"/>
          </a:xfrm>
        </p:grpSpPr>
        <p:pic>
          <p:nvPicPr>
            <p:cNvPr id="104" name="4 CuadroTexto" descr=""/>
            <p:cNvPicPr/>
            <p:nvPr/>
          </p:nvPicPr>
          <p:blipFill>
            <a:blip r:embed="rId2"/>
            <a:stretch/>
          </p:blipFill>
          <p:spPr>
            <a:xfrm>
              <a:off x="2700360" y="2060640"/>
              <a:ext cx="367668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827440" y="2233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Calibri"/>
                </a:rPr>
                <a:t>PARTICIPACIÓN Y COMPROMISOS</a:t>
              </a:r>
              <a:r>
                <a:rPr b="0" lang="es-MX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3 Triángulo isósceles"/>
          <p:cNvGrpSpPr/>
          <p:nvPr/>
        </p:nvGrpSpPr>
        <p:grpSpPr>
          <a:xfrm>
            <a:off x="4562640" y="620640"/>
            <a:ext cx="4546440" cy="3047760"/>
            <a:chOff x="4562640" y="620640"/>
            <a:chExt cx="4546440" cy="3047760"/>
          </a:xfrm>
        </p:grpSpPr>
        <p:pic>
          <p:nvPicPr>
            <p:cNvPr id="107" name="3 Triángulo isósceles" descr=""/>
            <p:cNvPicPr/>
            <p:nvPr/>
          </p:nvPicPr>
          <p:blipFill>
            <a:blip r:embed="rId1"/>
            <a:stretch/>
          </p:blipFill>
          <p:spPr>
            <a:xfrm>
              <a:off x="4562640" y="620640"/>
              <a:ext cx="45464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765760" y="2109600"/>
              <a:ext cx="214272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SECTOR FORESTAL y LOS DEMAS SECTORE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8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IGNOVACIO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9 Conector angular"/>
          <p:cNvCxnSpPr/>
          <p:nvPr/>
        </p:nvCxnSpPr>
        <p:spPr>
          <a:xfrm flipV="1" rot="16200000">
            <a:off x="393120" y="2250000"/>
            <a:ext cx="2000880" cy="643320"/>
          </a:xfrm>
          <a:prstGeom prst="bentConnector3">
            <a:avLst>
              <a:gd name="adj1" fmla="val 4999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11 CuadroTexto"/>
          <p:cNvSpPr/>
          <p:nvPr/>
        </p:nvSpPr>
        <p:spPr>
          <a:xfrm>
            <a:off x="285840" y="476280"/>
            <a:ext cx="334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Definió trabajar en tres mecanism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1. Bono Fores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2. Instrumento Bursáti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3. Fideicomi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13 Conector angular"/>
          <p:cNvCxnSpPr/>
          <p:nvPr/>
        </p:nvCxnSpPr>
        <p:spPr>
          <a:xfrm flipH="1" flipV="1" rot="5400000">
            <a:off x="2320560" y="2678040"/>
            <a:ext cx="1072440" cy="7153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14 CuadroTexto"/>
          <p:cNvSpPr/>
          <p:nvPr/>
        </p:nvSpPr>
        <p:spPr>
          <a:xfrm>
            <a:off x="1692360" y="1781280"/>
            <a:ext cx="30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Nombró un coordinador que de seguimiento a cada una de las etap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16 Conector angular"/>
          <p:cNvCxnSpPr/>
          <p:nvPr/>
        </p:nvCxnSpPr>
        <p:spPr>
          <a:xfrm rot="5400000">
            <a:off x="606600" y="4321800"/>
            <a:ext cx="1429200" cy="786600"/>
          </a:xfrm>
          <a:prstGeom prst="bentConnector3">
            <a:avLst>
              <a:gd name="adj1" fmla="val 4998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17 CuadroTexto"/>
          <p:cNvSpPr/>
          <p:nvPr/>
        </p:nvSpPr>
        <p:spPr>
          <a:xfrm>
            <a:off x="142920" y="542916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reformulo el incentivo fores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19 Conector angular"/>
          <p:cNvCxnSpPr/>
          <p:nvPr/>
        </p:nvCxnSpPr>
        <p:spPr>
          <a:xfrm flipH="1" rot="16200000">
            <a:off x="2392200" y="4250520"/>
            <a:ext cx="1286640" cy="92916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21 CuadroTexto"/>
          <p:cNvSpPr/>
          <p:nvPr/>
        </p:nvSpPr>
        <p:spPr>
          <a:xfrm>
            <a:off x="2700360" y="54291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Bolsa de valores desarrolló dos instrumentos bursátiles: </a:t>
            </a:r>
            <a:r>
              <a:rPr b="1" lang="es-MX" sz="1200" spc="-1" strike="noStrike">
                <a:solidFill>
                  <a:srgbClr val="ff6600"/>
                </a:solidFill>
                <a:latin typeface="Calibri"/>
              </a:rPr>
              <a:t>Títulos fiduciarios de participación Forestal y   Certificados de titulación Fore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23 Conector angular"/>
          <p:cNvCxnSpPr/>
          <p:nvPr/>
        </p:nvCxnSpPr>
        <p:spPr>
          <a:xfrm flipH="1" rot="16200000">
            <a:off x="4643280" y="4071240"/>
            <a:ext cx="1215000" cy="1215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24 CuadroTexto"/>
          <p:cNvSpPr/>
          <p:nvPr/>
        </p:nvSpPr>
        <p:spPr>
          <a:xfrm>
            <a:off x="5724360" y="542916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Actualmente se esta estructurándose las bases del </a:t>
            </a:r>
            <a:r>
              <a:rPr b="1" lang="es-MX" sz="1200" spc="-1" strike="noStrike">
                <a:solidFill>
                  <a:srgbClr val="ff6600"/>
                </a:solidFill>
                <a:latin typeface="Calibri"/>
              </a:rPr>
              <a:t>Fideicomiso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5 CuadroTexto"/>
          <p:cNvGrpSpPr/>
          <p:nvPr/>
        </p:nvGrpSpPr>
        <p:grpSpPr>
          <a:xfrm>
            <a:off x="900000" y="3429000"/>
            <a:ext cx="3816360" cy="793440"/>
            <a:chOff x="900000" y="3429000"/>
            <a:chExt cx="3816360" cy="793440"/>
          </a:xfrm>
        </p:grpSpPr>
        <p:pic>
          <p:nvPicPr>
            <p:cNvPr id="121" name="5 CuadroTexto" descr=""/>
            <p:cNvPicPr/>
            <p:nvPr/>
          </p:nvPicPr>
          <p:blipFill>
            <a:blip r:embed="rId2"/>
            <a:stretch/>
          </p:blipFill>
          <p:spPr>
            <a:xfrm>
              <a:off x="900000" y="3429000"/>
              <a:ext cx="381636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983160" y="3528360"/>
              <a:ext cx="36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</a:rPr>
                <a:t>INSTRUMENTOS FINANCIEROS Y BURSÁTILES</a:t>
              </a:r>
              <a:r>
                <a:rPr b="0" lang="es-MX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8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3 Triángulo isósceles"/>
          <p:cNvGrpSpPr/>
          <p:nvPr/>
        </p:nvGrpSpPr>
        <p:grpSpPr>
          <a:xfrm>
            <a:off x="34920" y="762120"/>
            <a:ext cx="4548240" cy="3047760"/>
            <a:chOff x="34920" y="762120"/>
            <a:chExt cx="4548240" cy="3047760"/>
          </a:xfrm>
        </p:grpSpPr>
        <p:pic>
          <p:nvPicPr>
            <p:cNvPr id="124" name="3 Triángulo isósceles" descr=""/>
            <p:cNvPicPr/>
            <p:nvPr/>
          </p:nvPicPr>
          <p:blipFill>
            <a:blip r:embed="rId1"/>
            <a:stretch/>
          </p:blipFill>
          <p:spPr>
            <a:xfrm>
              <a:off x="34920" y="762120"/>
              <a:ext cx="454824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39840" y="2249640"/>
              <a:ext cx="214308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SECTOR FORESTAL y LOS DEMAS SECTORE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6 CuadroTexto"/>
          <p:cNvGrpSpPr/>
          <p:nvPr/>
        </p:nvGrpSpPr>
        <p:grpSpPr>
          <a:xfrm>
            <a:off x="4500720" y="2997360"/>
            <a:ext cx="2879280" cy="1438920"/>
            <a:chOff x="4500720" y="2997360"/>
            <a:chExt cx="2879280" cy="1438920"/>
          </a:xfrm>
        </p:grpSpPr>
        <p:pic>
          <p:nvPicPr>
            <p:cNvPr id="127" name="6 CuadroTexto" descr=""/>
            <p:cNvPicPr/>
            <p:nvPr/>
          </p:nvPicPr>
          <p:blipFill>
            <a:blip r:embed="rId2"/>
            <a:stretch/>
          </p:blipFill>
          <p:spPr>
            <a:xfrm>
              <a:off x="4500720" y="2997360"/>
              <a:ext cx="287928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579920" y="3147840"/>
              <a:ext cx="272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Calibri"/>
                </a:rPr>
                <a:t>POLITICA  FORESTAL ESTAT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8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MEJORAS AL ENTORNO DE LAS INVERSION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9 Conector angular"/>
          <p:cNvCxnSpPr>
            <a:stCxn id="128" idx="3"/>
          </p:cNvCxnSpPr>
          <p:nvPr/>
        </p:nvCxnSpPr>
        <p:spPr>
          <a:xfrm flipV="1">
            <a:off x="7308360" y="2780640"/>
            <a:ext cx="359640" cy="8722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1" name="10 CuadroTexto"/>
          <p:cNvSpPr/>
          <p:nvPr/>
        </p:nvSpPr>
        <p:spPr>
          <a:xfrm>
            <a:off x="6407280" y="1773360"/>
            <a:ext cx="26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 hizo un lobby para obtener un compromiso interinstitucional, acuerdo de Ministros para apoyar la estrategia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14 Conector angular"/>
          <p:cNvCxnSpPr/>
          <p:nvPr/>
        </p:nvCxnSpPr>
        <p:spPr>
          <a:xfrm flipH="1" rot="16200000">
            <a:off x="6679440" y="4250160"/>
            <a:ext cx="1286640" cy="92952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15 CuadroTexto"/>
          <p:cNvSpPr/>
          <p:nvPr/>
        </p:nvSpPr>
        <p:spPr>
          <a:xfrm>
            <a:off x="6516720" y="5429160"/>
            <a:ext cx="24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e reestructuró  y reconoció a nivel público a la </a:t>
            </a:r>
            <a:r>
              <a:rPr b="1" lang="es-MX" sz="1200" spc="-1" strike="noStrike">
                <a:solidFill>
                  <a:srgbClr val="ff6600"/>
                </a:solidFill>
                <a:latin typeface="Calibri"/>
              </a:rPr>
              <a:t>Comisión Forestal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con otros sectores, febrero 2009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17 Conector angular"/>
          <p:cNvCxnSpPr/>
          <p:nvPr/>
        </p:nvCxnSpPr>
        <p:spPr>
          <a:xfrm rot="5400000">
            <a:off x="3713760" y="4500360"/>
            <a:ext cx="1286640" cy="42948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18 CuadroTexto"/>
          <p:cNvSpPr/>
          <p:nvPr/>
        </p:nvSpPr>
        <p:spPr>
          <a:xfrm>
            <a:off x="3357720" y="5429160"/>
            <a:ext cx="2366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icia proceso para oficializar la Estrategia de Financiamiento Fores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20 Conector recto de flecha"/>
          <p:cNvCxnSpPr>
            <a:endCxn id="137" idx="2"/>
          </p:cNvCxnSpPr>
          <p:nvPr/>
        </p:nvCxnSpPr>
        <p:spPr>
          <a:xfrm flipH="1" flipV="1">
            <a:off x="4996800" y="1514160"/>
            <a:ext cx="3960" cy="14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21 CuadroTexto"/>
          <p:cNvSpPr/>
          <p:nvPr/>
        </p:nvSpPr>
        <p:spPr>
          <a:xfrm>
            <a:off x="3635280" y="692280"/>
            <a:ext cx="272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El Ministro de Agricultura y Ganadería giró instrucciones para realizar una reestructuración de la </a:t>
            </a:r>
            <a:r>
              <a:rPr b="1" lang="es-MX" sz="1200" spc="-1" strike="noStrike">
                <a:solidFill>
                  <a:srgbClr val="ff6600"/>
                </a:solidFill>
                <a:latin typeface="Arial"/>
                <a:ea typeface="Arial"/>
              </a:rPr>
              <a:t>Comisión Forestal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68240"/>
            <a:ext cx="9144000" cy="146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17375e"/>
                </a:solidFill>
                <a:latin typeface="Calibri"/>
              </a:rPr>
              <a:t>MUCHAS GRACIAS</a:t>
            </a:r>
            <a:r>
              <a:rPr b="1" lang="es-MX" sz="7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5:38:51Z</dcterms:created>
  <dc:creator>Miguel Chevez</dc:creator>
  <dc:description/>
  <dc:language>en-US</dc:language>
  <cp:lastModifiedBy>Casa, Maria (FOEL)</cp:lastModifiedBy>
  <dcterms:modified xsi:type="dcterms:W3CDTF">2009-03-26T15:36:11Z</dcterms:modified>
  <cp:revision>197</cp:revision>
  <dc:subject/>
  <dc:title>EL SALVADOR EXPERIENCIA EN ELABORACIÓN DE EFF - PARAGU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12703833</vt:r8>
  </property>
  <property fmtid="{D5CDD505-2E9C-101B-9397-08002B2CF9AE}" pid="3" name="_AuthorEmail">
    <vt:lpwstr>Jhony.ZapataAndia@fao.org</vt:lpwstr>
  </property>
  <property fmtid="{D5CDD505-2E9C-101B-9397-08002B2CF9AE}" pid="4" name="_AuthorEmailDisplayName">
    <vt:lpwstr>ZapataAndia, Jhony (FOED)</vt:lpwstr>
  </property>
  <property fmtid="{D5CDD505-2E9C-101B-9397-08002B2CF9AE}" pid="5" name="_EmailSubject">
    <vt:lpwstr>Ajustes</vt:lpwstr>
  </property>
  <property fmtid="{D5CDD505-2E9C-101B-9397-08002B2CF9AE}" pid="6" name="_PreviousAdHocReviewCycleID">
    <vt:r8>-1147846847</vt:r8>
  </property>
  <property fmtid="{D5CDD505-2E9C-101B-9397-08002B2CF9AE}" pid="7" name="_ReviewingToolsShownOnce">
    <vt:lpwstr/>
  </property>
</Properties>
</file>